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E91-CB5A-4E18-94C4-162BF60A3E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589F-82FF-4454-87AE-30FD984BBB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3F6-DA1F-48AA-A197-60CFC4D2C5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E5B-D4D7-4D3C-89B4-8BC5D2B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320-D038-46FE-9843-88E16BB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0AC-ABEE-4166-B8D8-9DAE7AA6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17D-8668-4AD8-9779-BEFB9596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1EE-BB60-432C-BB17-572E692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746-A5D9-4E0F-960F-CE93477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4E1-8D89-486E-88BD-ACF5D4F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EC4-4041-44A3-816A-A0F127D8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1FA-85F9-496B-ABA6-CF7D1DB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430-0378-4606-8F24-93A39E8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453-AC21-4F5B-98CA-842F074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DC9-FF19-4F58-8C84-E872E368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A232-AF41-436E-A19F-900A3BE0BD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指標部会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005360" y="5032440"/>
            <a:ext cx="1133280" cy="1276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3"/>
          <p:cNvSpPr/>
          <p:nvPr/>
        </p:nvSpPr>
        <p:spPr>
          <a:xfrm>
            <a:off x="4154400" y="627372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353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日　指標部会を開催しました。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＠赤坂事務所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中国サイネージ事情、米国サイネージ事情について検討し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SJ2013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に向けた資料の打ち合わせを行いました。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下期に向けた指標部会活動の調整を行いました。</a:t>
            </a:r>
            <a:br>
              <a:rPr sz="2500"/>
            </a:b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次回は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月末日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SJ2013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直前に部会を開催の予定です。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786800" y="214200"/>
            <a:ext cx="1133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2:58:19Z</dcterms:created>
  <dc:creator>USER</dc:creator>
  <dc:description/>
  <dc:language>en-US</dc:language>
  <cp:lastModifiedBy>fujisaki</cp:lastModifiedBy>
  <dcterms:modified xsi:type="dcterms:W3CDTF">2013-05-14T07:05:08Z</dcterms:modified>
  <cp:revision>10</cp:revision>
  <dc:subject/>
  <dc:title>■２月７日・２月２１日と指標部会を開催  ■指標づくりにあたって、 まず媒体価値を表すための指標づくりをする  ■過去の成功事例や失敗事例を参考にしながら　　 　　進める。　現実味のある指標を。  ■今後各カテゴリーで大枠の指標の方向性を決め 詳細を分科会で。（交通、流通、セグメント、一般店舗）  ■調査予算について</dc:title>
</cp:coreProperties>
</file>