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1636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3000" cy="369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2360" cy="4431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3816360" y="9372240"/>
            <a:ext cx="291312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3DF5E-81EC-4AB4-B8CF-60AF3E1AC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2DB6D-1EC2-4DE3-9A67-BE8BDC49A8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6FCA-7931-499A-BD89-4BD0199BA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6"/>
          <p:cNvSpPr/>
          <p:nvPr/>
        </p:nvSpPr>
        <p:spPr>
          <a:xfrm>
            <a:off x="-7920" y="690480"/>
            <a:ext cx="9109080" cy="180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32720" y="0"/>
            <a:ext cx="58104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467640" y="0"/>
            <a:ext cx="25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　活動報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サブタイトル 2"/>
          <p:cNvSpPr/>
          <p:nvPr/>
        </p:nvSpPr>
        <p:spPr>
          <a:xfrm>
            <a:off x="385920" y="1628640"/>
            <a:ext cx="849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テキスト ボックス 1"/>
          <p:cNvSpPr/>
          <p:nvPr/>
        </p:nvSpPr>
        <p:spPr>
          <a:xfrm>
            <a:off x="331920" y="1125360"/>
            <a:ext cx="8435880" cy="161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ユーザーズ部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 ■第２３回部会を５月１１日（金）に実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■次回は部会メンバーのスケジュールを調整して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「東京サイネージ視察ツアー」を実施予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テキスト ボックス 3"/>
          <p:cNvSpPr/>
          <p:nvPr/>
        </p:nvSpPr>
        <p:spPr>
          <a:xfrm>
            <a:off x="6227640" y="77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8.6.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テキスト ボックス 1"/>
          <p:cNvSpPr/>
          <p:nvPr/>
        </p:nvSpPr>
        <p:spPr>
          <a:xfrm>
            <a:off x="331920" y="3357720"/>
            <a:ext cx="8431200" cy="210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Ｌアラートワーキンググルー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５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月は開催はありませんでした。次回の実施について別途調整します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テーマ　１）実証実験の成果及び各分科会活動の共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２）現状におけるＬアラートとの接続課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３）実現へのロードマップ検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7:01Z</dcterms:created>
  <dc:creator>山本 孝</dc:creator>
  <dc:description/>
  <dc:language>en-US</dc:language>
  <cp:lastModifiedBy>山本　孝</cp:lastModifiedBy>
  <dcterms:modified xsi:type="dcterms:W3CDTF">2018-06-17T04:18:47Z</dcterms:modified>
  <cp:revision>53</cp:revision>
  <dc:subject/>
  <dc:title>PowerPoint プレゼンテーション</dc:title>
</cp:coreProperties>
</file>