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0" y="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816360" y="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906120" y="740880"/>
            <a:ext cx="4923000" cy="36910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2360" cy="4431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0" y="937260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1"/>
          </p:nvPr>
        </p:nvSpPr>
        <p:spPr>
          <a:xfrm>
            <a:off x="3816360" y="9372240"/>
            <a:ext cx="2913120" cy="485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01486-0E39-48D8-AD40-8F6C284486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0"/>
          <p:cNvSpPr/>
          <p:nvPr/>
        </p:nvSpPr>
        <p:spPr>
          <a:xfrm>
            <a:off x="3816360" y="9372600"/>
            <a:ext cx="29131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81850-4984-4195-8231-EFB2DD202E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81636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54C5C-2192-44EB-96FB-22790574DB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"/>
          <p:cNvSpPr/>
          <p:nvPr/>
        </p:nvSpPr>
        <p:spPr>
          <a:xfrm>
            <a:off x="685800" y="6248520"/>
            <a:ext cx="19051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3124080" y="6248520"/>
            <a:ext cx="2895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Line 6"/>
          <p:cNvSpPr/>
          <p:nvPr/>
        </p:nvSpPr>
        <p:spPr>
          <a:xfrm>
            <a:off x="-7920" y="690480"/>
            <a:ext cx="9109080" cy="1800"/>
          </a:xfrm>
          <a:prstGeom prst="line">
            <a:avLst/>
          </a:prstGeom>
          <a:ln cap="sq"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Picture 7" descr=""/>
          <p:cNvPicPr/>
          <p:nvPr/>
        </p:nvPicPr>
        <p:blipFill>
          <a:blip r:embed="rId2"/>
          <a:srcRect l="90408" t="7610" r="1002" b="6895"/>
          <a:stretch/>
        </p:blipFill>
        <p:spPr>
          <a:xfrm>
            <a:off x="8532720" y="0"/>
            <a:ext cx="581040" cy="6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6"/>
          <p:cNvSpPr/>
          <p:nvPr/>
        </p:nvSpPr>
        <p:spPr>
          <a:xfrm>
            <a:off x="467640" y="0"/>
            <a:ext cx="25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■</a:t>
            </a:r>
            <a:r>
              <a:rPr b="0" lang="ja-JP" sz="3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部会　活動報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サブタイトル 2"/>
          <p:cNvSpPr/>
          <p:nvPr/>
        </p:nvSpPr>
        <p:spPr>
          <a:xfrm>
            <a:off x="385920" y="1628640"/>
            <a:ext cx="849600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UI Gothic"/>
                <a:ea typeface="MS UI Gothic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テキスト ボックス 1"/>
          <p:cNvSpPr/>
          <p:nvPr/>
        </p:nvSpPr>
        <p:spPr>
          <a:xfrm>
            <a:off x="353880" y="981000"/>
            <a:ext cx="8436240" cy="2760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○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ユーザーズ部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 ■第２３回部会を５月１１日（金）に実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■テーマ　１）改めてメンバー自己紹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　　　　　　　２）２０１８年度　部会活動計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　　　　　　　３）海外展示会最新レポート（江口常務理事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　　　　　　　４）ＤＳＪ２０１８のみどころ（参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　　　　　　　５）新たに発表された消防庁ガイドライン（参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テキスト ボックス 3"/>
          <p:cNvSpPr/>
          <p:nvPr/>
        </p:nvSpPr>
        <p:spPr>
          <a:xfrm>
            <a:off x="6227640" y="777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18.5.1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テキスト ボックス 1"/>
          <p:cNvSpPr/>
          <p:nvPr/>
        </p:nvSpPr>
        <p:spPr>
          <a:xfrm>
            <a:off x="385920" y="4005360"/>
            <a:ext cx="8431200" cy="210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○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Ｌアラートワーキンググルー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４月は開催はありませんでした。次回の実施について別途調整します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■テーマ　１）実証実験の成果及び各分科会活動の共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　　　　　　　２）現状におけるＬアラートとの接続課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　　　　　　　３）実現へのロードマップ検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1:47:01Z</dcterms:created>
  <dc:creator>山本 孝</dc:creator>
  <dc:description/>
  <dc:language>en-US</dc:language>
  <cp:lastModifiedBy>山本　孝</cp:lastModifiedBy>
  <dcterms:modified xsi:type="dcterms:W3CDTF">2018-05-10T07:24:45Z</dcterms:modified>
  <cp:revision>52</cp:revision>
  <dc:subject/>
  <dc:title>PowerPoint プレゼンテーション</dc:title>
</cp:coreProperties>
</file>