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0" y="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816360" y="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6120" y="740880"/>
            <a:ext cx="4923000" cy="36910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2360" cy="4431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2"/>
          </p:nvPr>
        </p:nvSpPr>
        <p:spPr>
          <a:xfrm>
            <a:off x="3816360" y="9372240"/>
            <a:ext cx="291312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CE046-CE73-4C4F-A746-588657F1E9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816360" y="9372600"/>
            <a:ext cx="29131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CF113-BF0B-49C6-9610-BB2CD64E5D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81636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37FD2-1DF1-4001-BAA7-8D0ABEE43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3816360" y="9372600"/>
            <a:ext cx="29131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617E4-23E6-4946-8381-BC59841CA7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81636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26D8D-01FD-425B-B561-424319987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"/>
          <p:cNvSpPr/>
          <p:nvPr/>
        </p:nvSpPr>
        <p:spPr>
          <a:xfrm>
            <a:off x="3816360" y="9372600"/>
            <a:ext cx="29131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3D649-C3A0-4315-B4F1-E09048F967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81636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E9BCF-328E-44AA-85F6-2E28650B2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"/>
          <p:cNvSpPr/>
          <p:nvPr/>
        </p:nvSpPr>
        <p:spPr>
          <a:xfrm>
            <a:off x="3816360" y="9372600"/>
            <a:ext cx="29131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FE69E-2532-4712-A678-2F4F15EC74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81636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54ED2-15C9-4777-903B-AF4D2F9A6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3816360" y="9372600"/>
            <a:ext cx="29131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5692F-02A8-4CD1-990E-7D3DA6DAB6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81636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25DE2-DA07-49B4-A8E3-EE1AD6EC9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AF68-0C80-4FA9-AE00-CFB5B08114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8E0DD-0525-4F09-BC61-1855098FB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0DFD-8DB5-4144-8376-B0BFE28DB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C7C0A-284C-4ADF-97A6-C29F9772C3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B906-EA60-4C44-8B42-5C8CC97C97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9D9D5-1D4D-4C4C-976B-5DFF66C7B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8B5D1-7B46-4F91-8FE0-735ABC012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A375-CC72-4E8D-8AA3-B6E166398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94B6-C156-4F83-929E-9D1B42FAC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67E0-1A0B-4ED2-A9CD-EAF15D558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37FA-3B57-4F78-97E7-E7E17436C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5F710-9B02-4A61-B53C-86CE90A2F5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685800" y="6248520"/>
            <a:ext cx="19051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124080" y="6248520"/>
            <a:ext cx="2895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305840" y="6287760"/>
            <a:ext cx="182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fld id="{114D7469-CF0E-4AFE-9801-3C3D9C1CB2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6"/>
          <p:cNvSpPr/>
          <p:nvPr/>
        </p:nvSpPr>
        <p:spPr>
          <a:xfrm>
            <a:off x="25560" y="600120"/>
            <a:ext cx="9109080" cy="1440"/>
          </a:xfrm>
          <a:prstGeom prst="line">
            <a:avLst/>
          </a:prstGeom>
          <a:ln cap="sq"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rcRect l="90408" t="7610" r="1002" b="6895"/>
          <a:stretch/>
        </p:blipFill>
        <p:spPr>
          <a:xfrm>
            <a:off x="8604360" y="14400"/>
            <a:ext cx="46980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685800" y="6248520"/>
            <a:ext cx="19051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124080" y="6248520"/>
            <a:ext cx="2895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>
            <a:off x="25560" y="600120"/>
            <a:ext cx="9109080" cy="1440"/>
          </a:xfrm>
          <a:prstGeom prst="line">
            <a:avLst/>
          </a:prstGeom>
          <a:ln cap="sq"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90408" t="7610" r="1002" b="6895"/>
          <a:stretch/>
        </p:blipFill>
        <p:spPr>
          <a:xfrm>
            <a:off x="8604360" y="14400"/>
            <a:ext cx="469800" cy="534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3062160" y="5522760"/>
            <a:ext cx="31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２０１７年４月１８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68360" y="2155680"/>
            <a:ext cx="8424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699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Ｌアラートワーキンググループのご紹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324000" y="1844640"/>
            <a:ext cx="8569080" cy="936720"/>
          </a:xfrm>
          <a:prstGeom prst="roundRect">
            <a:avLst>
              <a:gd name="adj" fmla="val 16667"/>
            </a:avLst>
          </a:prstGeom>
          <a:noFill/>
          <a:ln cap="sq" w="69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rcRect l="0" t="26364" r="0" b="0"/>
          <a:stretch/>
        </p:blipFill>
        <p:spPr>
          <a:xfrm>
            <a:off x="2806560" y="6004080"/>
            <a:ext cx="3843360" cy="3618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1504800" y="366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7918560" y="6400800"/>
            <a:ext cx="122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A4657-C511-4583-B161-79DAC38A7BE5}" type="slidenum"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Page</a:t>
            </a:r>
            <a:fld id="{997F23D7-2EA3-4748-B2D0-B684C8D2850F}" type="slidenum"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50920" y="795240"/>
            <a:ext cx="8642160" cy="1630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１．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 「デジタルサイネージ・ユーザーズ・フォーラム」の活動</a:t>
            </a:r>
            <a:r>
              <a:rPr b="1" lang="ja-JP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2010</a:t>
            </a: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6</a:t>
            </a: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月～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　　○経緯　サイネージシステム標準化のための事業者組織であったＤＳＵＦは、東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　　　　　　　 本大震災の発生をうけ、「災害時情報発信」と「節電環境下での運用」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　　　　　　　 について議論を深度化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50920" y="2781360"/>
            <a:ext cx="8642160" cy="16300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２．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ＤＳＣ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「ユーザーズ部会」の発足</a:t>
            </a:r>
            <a:r>
              <a:rPr b="1" lang="ja-JP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2012</a:t>
            </a: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12</a:t>
            </a: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月～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　　○経緯　ＤＳＵＦのメンバー企業の一部が、「ユーザーズ部会」</a:t>
            </a:r>
            <a:r>
              <a:rPr b="1" lang="ja-JP" sz="16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MS UI Gothic"/>
                <a:ea typeface="MS UI Gothic"/>
              </a:rPr>
              <a:t>※</a:t>
            </a:r>
            <a:r>
              <a:rPr b="1" lang="ja-JP" sz="1600" spc="-1" strike="noStrike">
                <a:solidFill>
                  <a:srgbClr val="000000"/>
                </a:solidFill>
                <a:latin typeface="MS UI Gothic"/>
                <a:ea typeface="MS UI Gothic"/>
              </a:rPr>
              <a:t>現在１８社）</a:t>
            </a: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に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　　　　　　　 移行、引き続き「災害時における運用ガイドライン」の内容を検討す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　　　　　　　 ほか、 事業者間の情報交換を行う　　　　　　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934920" y="0"/>
            <a:ext cx="40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■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ＤＳＣにおける災害対応の取り組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4265640" y="2441520"/>
            <a:ext cx="588960" cy="33984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50920" y="4724280"/>
            <a:ext cx="8700840" cy="898560"/>
          </a:xfrm>
          <a:prstGeom prst="rect">
            <a:avLst/>
          </a:prstGeom>
          <a:solidFill>
            <a:srgbClr val="85ffe0"/>
          </a:solidFill>
          <a:ln w="25560">
            <a:solidFill>
              <a:srgbClr val="2222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３．</a:t>
            </a: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「災害・緊急時におけるデジタルサイネージ運用ガイドライン」</a:t>
            </a:r>
            <a:r>
              <a:rPr b="1" lang="en-US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の</a:t>
            </a: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発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　　　</a:t>
            </a:r>
            <a:r>
              <a:rPr b="1" lang="en-US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201</a:t>
            </a: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３年６月～　ＤＳＣホームページで発表　⇒　</a:t>
            </a:r>
            <a:r>
              <a:rPr b="1" lang="en-US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2014</a:t>
            </a: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6</a:t>
            </a: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月～　改訂版発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4307040" y="4435560"/>
            <a:ext cx="588960" cy="28872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4356000" y="5632560"/>
            <a:ext cx="588960" cy="28872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50920" y="5921280"/>
            <a:ext cx="8700840" cy="532800"/>
          </a:xfrm>
          <a:prstGeom prst="rect">
            <a:avLst/>
          </a:prstGeom>
          <a:solidFill>
            <a:srgbClr val="ffff00"/>
          </a:solidFill>
          <a:ln w="25560">
            <a:solidFill>
              <a:srgbClr val="2222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４．ＤＳＣ「Ｌアラートワーキンググループ」発足</a:t>
            </a: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2014</a:t>
            </a: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8</a:t>
            </a:r>
            <a:r>
              <a:rPr b="1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月～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1504800" y="366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918560" y="6400800"/>
            <a:ext cx="122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096C1-7F15-46F6-B55C-E257F6C6CBE3}" type="slidenum"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Page</a:t>
            </a:r>
            <a:fld id="{2306DB46-C3C5-474C-8C14-B4F3588A14A2}" type="slidenum"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69440" y="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■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ＤＳＣ　ＬアラートＷＧの活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正方形/長方形 7"/>
          <p:cNvSpPr/>
          <p:nvPr/>
        </p:nvSpPr>
        <p:spPr>
          <a:xfrm>
            <a:off x="398520" y="5059440"/>
            <a:ext cx="2448000" cy="1557000"/>
          </a:xfrm>
          <a:prstGeom prst="rect">
            <a:avLst/>
          </a:prstGeom>
          <a:noFill/>
          <a:ln w="1260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運用分科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　運用規定の策定、　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　緊急運用開始及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　終了、緊急体制、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　告補償な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正方形/長方形 8"/>
          <p:cNvSpPr/>
          <p:nvPr/>
        </p:nvSpPr>
        <p:spPr>
          <a:xfrm>
            <a:off x="3059280" y="5070600"/>
            <a:ext cx="2736720" cy="1282680"/>
          </a:xfrm>
          <a:prstGeom prst="rect">
            <a:avLst/>
          </a:prstGeom>
          <a:noFill/>
          <a:ln w="1260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コンテンツ分科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　主要なコンテンツの検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　討や要望、テンプレート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　案の作成な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正方形/長方形 9"/>
          <p:cNvSpPr/>
          <p:nvPr/>
        </p:nvSpPr>
        <p:spPr>
          <a:xfrm>
            <a:off x="6012000" y="5059440"/>
            <a:ext cx="2808000" cy="1557000"/>
          </a:xfrm>
          <a:prstGeom prst="rect">
            <a:avLst/>
          </a:prstGeom>
          <a:noFill/>
          <a:ln w="1260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システム分科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　Ｌアラートとのシステ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　接続規定の策定、接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　方法、等を含むシス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　ム要件定義な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98520" y="4300560"/>
            <a:ext cx="8421480" cy="752040"/>
          </a:xfrm>
          <a:prstGeom prst="rect">
            <a:avLst/>
          </a:prstGeom>
          <a:solidFill>
            <a:srgbClr val="ffff99"/>
          </a:solidFill>
          <a:ln w="25560">
            <a:solidFill>
              <a:srgbClr val="2222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　○３つの分科会を設置して会員からメンバーを募り、検討を行う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　○検討に際してはＤＳＣ既設部会・ＦＭＭＣ・総務省と連携する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2022480" y="838080"/>
            <a:ext cx="5386320" cy="34387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7918560" y="6400800"/>
            <a:ext cx="122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36070-7259-42D8-9AB1-2CB9F3809ADF}" type="slidenum"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Page</a:t>
            </a:r>
            <a:fld id="{2BB12C8F-AAEF-4DA5-AF7E-287AABE12D97}" type="slidenum"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78080" y="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■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各ガイドラインの策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10" descr=""/>
          <p:cNvPicPr/>
          <p:nvPr/>
        </p:nvPicPr>
        <p:blipFill>
          <a:blip r:embed="rId1"/>
          <a:stretch/>
        </p:blipFill>
        <p:spPr>
          <a:xfrm>
            <a:off x="539640" y="992160"/>
            <a:ext cx="2524320" cy="3613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2" name="テキスト ボックス 1"/>
          <p:cNvSpPr/>
          <p:nvPr/>
        </p:nvSpPr>
        <p:spPr>
          <a:xfrm>
            <a:off x="15840" y="4724280"/>
            <a:ext cx="32860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災害・緊急時におけ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デジタルサイネージ運用ガイドライ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11" descr=""/>
          <p:cNvPicPr/>
          <p:nvPr/>
        </p:nvPicPr>
        <p:blipFill>
          <a:blip r:embed="rId2"/>
          <a:stretch/>
        </p:blipFill>
        <p:spPr>
          <a:xfrm>
            <a:off x="3419640" y="1736640"/>
            <a:ext cx="2587320" cy="3678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4" name="テキスト ボックス 12"/>
          <p:cNvSpPr/>
          <p:nvPr/>
        </p:nvSpPr>
        <p:spPr>
          <a:xfrm>
            <a:off x="3200400" y="993600"/>
            <a:ext cx="302724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デジタルサイネージ標準システ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相互運用ガイドライ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12" descr=""/>
          <p:cNvPicPr/>
          <p:nvPr/>
        </p:nvPicPr>
        <p:blipFill>
          <a:blip r:embed="rId3"/>
          <a:stretch/>
        </p:blipFill>
        <p:spPr>
          <a:xfrm>
            <a:off x="6397560" y="2421000"/>
            <a:ext cx="2575080" cy="3678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6" name="テキスト ボックス 14"/>
          <p:cNvSpPr/>
          <p:nvPr/>
        </p:nvSpPr>
        <p:spPr>
          <a:xfrm>
            <a:off x="6397560" y="1736640"/>
            <a:ext cx="25210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デジタルサイネー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災害コンテンツガイドライ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7918560" y="6400800"/>
            <a:ext cx="122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5CA05-1413-4B34-8802-2D17FEFEA18E}" type="slidenum"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Page</a:t>
            </a:r>
            <a:fld id="{14312485-0A3C-4B43-862A-4C2DEF3E8CC5}" type="slidenum"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21640" y="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■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２０１７年度活動計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テキスト ボックス 1"/>
          <p:cNvSpPr/>
          <p:nvPr/>
        </p:nvSpPr>
        <p:spPr>
          <a:xfrm>
            <a:off x="108000" y="1341360"/>
            <a:ext cx="8712000" cy="1922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事業計画方針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L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アラートとサイネージの接続のための技術的検証、実現のた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　の具体的検討、接続に向けた課題抽出とロードマップ策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災害時のサイネージのコンテンツに関する指針を深度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災害時のサイネージの運用に関する具体的な指針を検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テキスト ボックス 8"/>
          <p:cNvSpPr/>
          <p:nvPr/>
        </p:nvSpPr>
        <p:spPr>
          <a:xfrm>
            <a:off x="179280" y="3716280"/>
            <a:ext cx="8713800" cy="25333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アクションプラン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中間事業者、中間サーバー機能の検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　　具体的な接続のために必須の機能である中間サーバー機能について、実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　　の方策について、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MMC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総務省等関係箇所と検討を行なう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分科会単位での関連活動とＤＳＣ関係部会との連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　　・システム分科会・・接続要件の定義（システム部会と連携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　　・運用分科会・・・・・運用ルールのガイドライン作成（ユーザーズ部会と連携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　　・コンテンツ分科会・コンテンツのサンプルの作成（プロダクション部会と連携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1:47:01Z</dcterms:created>
  <dc:creator>山本 孝</dc:creator>
  <dc:description/>
  <dc:language>en-US</dc:language>
  <cp:lastModifiedBy>山本　孝</cp:lastModifiedBy>
  <dcterms:modified xsi:type="dcterms:W3CDTF">2017-04-17T01:22:54Z</dcterms:modified>
  <cp:revision>20</cp:revision>
  <dc:subject/>
  <dc:title>PowerPoint プレゼンテーション</dc:title>
</cp:coreProperties>
</file>