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1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2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0" y="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816360" y="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06120" y="740880"/>
            <a:ext cx="4923000" cy="36910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2360" cy="4431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2"/>
          </p:nvPr>
        </p:nvSpPr>
        <p:spPr>
          <a:xfrm>
            <a:off x="3816360" y="9372240"/>
            <a:ext cx="291312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A9435-2EE1-4F8C-8F43-D3C71FA075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"/>
          <p:cNvSpPr/>
          <p:nvPr/>
        </p:nvSpPr>
        <p:spPr>
          <a:xfrm>
            <a:off x="3816360" y="9372600"/>
            <a:ext cx="29131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69A98-832C-482B-BDF3-725B6421A4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81636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509DE-521D-4CF1-A58B-051EA80E9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"/>
          <p:cNvSpPr/>
          <p:nvPr/>
        </p:nvSpPr>
        <p:spPr>
          <a:xfrm>
            <a:off x="3816360" y="9372600"/>
            <a:ext cx="29131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E3A06-20E5-4D94-A3C7-8F394E096B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81636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4C631-E2F9-40D9-B8B8-590FD06F2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0"/>
          <p:cNvSpPr/>
          <p:nvPr/>
        </p:nvSpPr>
        <p:spPr>
          <a:xfrm>
            <a:off x="3816360" y="9372600"/>
            <a:ext cx="29131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1C810-4280-4966-9A6E-58FA61DE59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381636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4CF79-376A-4000-929A-0394AAD92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0"/>
          <p:cNvSpPr/>
          <p:nvPr/>
        </p:nvSpPr>
        <p:spPr>
          <a:xfrm>
            <a:off x="3816360" y="9372600"/>
            <a:ext cx="29131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67ADD-1B0F-440F-928E-9567101D30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381636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6A3F4-D8B1-48AC-8C7B-21F67B5E4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9089F-99ED-4E45-A90D-CE555B1F8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9C8A3-88FE-4A3D-90A5-C5248CE4A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BBD1A-C815-4FE9-80BC-A48040FC1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16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78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EF22-F74F-46C3-9A2E-399437B6A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5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43BCF-8BED-47BB-AFB5-381528D56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16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378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6FBCC-AA03-43EE-95AE-F2B455D481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5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16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378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91B5D-765F-44EA-8E93-92449B17CB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5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16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378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16694-50DA-494B-9E55-668586CE6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5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C0D28-8A52-49BE-A467-FB3811A4EE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39637-5649-463E-8223-D3926BEFF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8E58-965D-4B25-BFA2-B83E5A61F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7537F-646C-49FD-9809-4CDA8E115C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440"/>
            <a:ext cx="189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</a:t>
            </a:r>
            <a:fld id="{A2F9CD13-D3EF-49F8-9D94-2F08289329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6"/>
          <p:cNvSpPr/>
          <p:nvPr/>
        </p:nvSpPr>
        <p:spPr>
          <a:xfrm>
            <a:off x="0" y="600120"/>
            <a:ext cx="9144000" cy="1440"/>
          </a:xfrm>
          <a:prstGeom prst="line">
            <a:avLst/>
          </a:prstGeom>
          <a:ln cap="sq"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2"/>
          <a:srcRect l="90408" t="7610" r="1002" b="6895"/>
          <a:stretch/>
        </p:blipFill>
        <p:spPr>
          <a:xfrm>
            <a:off x="8594640" y="36360"/>
            <a:ext cx="438120" cy="49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685800" y="6248520"/>
            <a:ext cx="19051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8520"/>
            <a:ext cx="2895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Line 6"/>
          <p:cNvSpPr/>
          <p:nvPr/>
        </p:nvSpPr>
        <p:spPr>
          <a:xfrm>
            <a:off x="0" y="600120"/>
            <a:ext cx="9144000" cy="1440"/>
          </a:xfrm>
          <a:prstGeom prst="line">
            <a:avLst/>
          </a:prstGeom>
          <a:ln cap="sq"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2"/>
          <a:srcRect l="90408" t="7610" r="1002" b="6895"/>
          <a:stretch/>
        </p:blipFill>
        <p:spPr>
          <a:xfrm>
            <a:off x="8594640" y="36360"/>
            <a:ext cx="438120" cy="498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685800" y="6248520"/>
            <a:ext cx="19051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124080" y="6248520"/>
            <a:ext cx="2895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Line 6"/>
          <p:cNvSpPr/>
          <p:nvPr/>
        </p:nvSpPr>
        <p:spPr>
          <a:xfrm>
            <a:off x="0" y="600120"/>
            <a:ext cx="9144000" cy="1440"/>
          </a:xfrm>
          <a:prstGeom prst="line">
            <a:avLst/>
          </a:prstGeom>
          <a:ln cap="sq"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2"/>
          <a:srcRect l="90408" t="7610" r="1002" b="6895"/>
          <a:stretch/>
        </p:blipFill>
        <p:spPr>
          <a:xfrm>
            <a:off x="8594640" y="36360"/>
            <a:ext cx="438120" cy="498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685800" y="6248520"/>
            <a:ext cx="19051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124080" y="6248520"/>
            <a:ext cx="2895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0" y="600120"/>
            <a:ext cx="9144000" cy="1440"/>
          </a:xfrm>
          <a:prstGeom prst="line">
            <a:avLst/>
          </a:prstGeom>
          <a:ln cap="sq"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2"/>
          <a:srcRect l="90408" t="7610" r="1002" b="6895"/>
          <a:stretch/>
        </p:blipFill>
        <p:spPr>
          <a:xfrm>
            <a:off x="8594640" y="36360"/>
            <a:ext cx="438120" cy="4986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287280" y="2278080"/>
            <a:ext cx="864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ＭＳ Ｐゴシック"/>
              </a:rPr>
              <a:t>ユーザーズ部会のご紹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3062160" y="5522760"/>
            <a:ext cx="31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２０１７年４月１８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720720" y="2060640"/>
            <a:ext cx="7886880" cy="1224000"/>
          </a:xfrm>
          <a:prstGeom prst="roundRect">
            <a:avLst>
              <a:gd name="adj" fmla="val 16667"/>
            </a:avLst>
          </a:prstGeom>
          <a:noFill/>
          <a:ln cap="sq" w="69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rcRect l="0" t="26364" r="0" b="0"/>
          <a:stretch/>
        </p:blipFill>
        <p:spPr>
          <a:xfrm>
            <a:off x="2806560" y="6004080"/>
            <a:ext cx="3843360" cy="3618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1504800" y="366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7918560" y="6400800"/>
            <a:ext cx="122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774EF-3E3B-46B9-B55E-67386BB70909}" type="slidenum"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Page</a:t>
            </a:r>
            <a:fld id="{648AEA38-E845-4935-9035-BB76D13400A7}" type="slidenum"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764280" y="55440"/>
            <a:ext cx="33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■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ユーザーズ部会　メンバ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8" name="オブジェクト 1"/>
          <p:cNvGraphicFramePr/>
          <p:nvPr/>
        </p:nvGraphicFramePr>
        <p:xfrm>
          <a:off x="250920" y="981000"/>
          <a:ext cx="872640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オブジェクト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872640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テキスト ボックス 2"/>
          <p:cNvSpPr/>
          <p:nvPr/>
        </p:nvSpPr>
        <p:spPr>
          <a:xfrm>
            <a:off x="4716360" y="5851440"/>
            <a:ext cx="38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7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日現在（敬称略・五十音順）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1504800" y="366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7918560" y="6400800"/>
            <a:ext cx="122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2EF8F-ED04-47F4-9A9C-D96BDBF50B19}" type="slidenum"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Page</a:t>
            </a:r>
            <a:fld id="{1189C6FF-0EDC-49BE-95A4-EAA2F59E0A07}" type="slidenum"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79360" y="692280"/>
            <a:ext cx="8742240" cy="1630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　１．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 「デジタルサイネージ・ユーザーズ・フォーラム」の活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　　○</a:t>
            </a:r>
            <a:r>
              <a:rPr b="1" lang="en-US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2010</a:t>
            </a: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6</a:t>
            </a: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月～　サイネージシステム標準化のための事業者会議体であったＤＳ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　　　　Ｆは、東日本大震災の発生をうけ、「災害時情報発信」と「節電環境下での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　　　　用」について議論を深度化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62960" y="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■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部会発足の経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4317840" y="2338560"/>
            <a:ext cx="588960" cy="43164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ff0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79360" y="2770200"/>
            <a:ext cx="8685360" cy="16300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　２．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 「ユーザーズ部会」の発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　　○</a:t>
            </a:r>
            <a:r>
              <a:rPr b="1" lang="en-US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2012</a:t>
            </a: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12</a:t>
            </a: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月～　ＤＳＵＦのメンバー企業の一部（</a:t>
            </a:r>
            <a:r>
              <a:rPr b="1" lang="en-US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13</a:t>
            </a: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社）が、「ユーザーズ部会」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　　　　に移行。引き続き「災害時における運用ガイドライン」の内容を検討するほか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　　　　事業者間の情報交換を行う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279360" y="4849920"/>
            <a:ext cx="8742240" cy="133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　３．</a:t>
            </a:r>
            <a:r>
              <a:rPr b="1" lang="ja-JP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「災害・緊急時におけるデジタルサイネージ運用ガイドライン」の策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　　</a:t>
            </a: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○２０１３年６月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　　　ＤＳＪ２０１３セッションで発表→ＤＳＣサイトで公開　（</a:t>
            </a:r>
            <a:r>
              <a:rPr b="1" lang="en-US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2014</a:t>
            </a: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6</a:t>
            </a: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月第二版改訂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211640" y="4416480"/>
            <a:ext cx="588960" cy="43164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ff0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7918560" y="6400800"/>
            <a:ext cx="122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7120B-F28A-4645-90C2-9B3302BDB44D}" type="slidenum"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Page</a:t>
            </a:r>
            <a:fld id="{34B6E94D-0E19-4336-83B5-63D058116056}" type="slidenum"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521640" y="0"/>
            <a:ext cx="27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■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２０１７年度活動計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テキスト ボックス 1"/>
          <p:cNvSpPr/>
          <p:nvPr/>
        </p:nvSpPr>
        <p:spPr>
          <a:xfrm>
            <a:off x="241200" y="1197000"/>
            <a:ext cx="8712360" cy="2654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事業計画方針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デジタルサイネージ導入・運用の課題を共有化し、改善のた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の検討を行う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「災害時のデジタルサイネージ運用ガイドライン」の深度化を行う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2020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年に向けての最新のデジタルサイネージ事例（ＷＢＳ・４Ｋ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Ｏ２Ｏツール・多言語対応等）の収集及び関連団体との情報連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を行う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テキスト ボックス 8"/>
          <p:cNvSpPr/>
          <p:nvPr/>
        </p:nvSpPr>
        <p:spPr>
          <a:xfrm>
            <a:off x="250920" y="4221000"/>
            <a:ext cx="8713800" cy="1618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アクションプラン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サイネージ展開事例の視察を行ない、その現状やノウハウ・課題を共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ベンダー・関連団体等や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DSC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他部会との交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新たなサイネージシステムの方向性の検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④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「災害時のデジタルサイネージ運用ガイドライン」の改訂　な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1:47:01Z</dcterms:created>
  <dc:creator>山本 孝</dc:creator>
  <dc:description/>
  <dc:language>en-US</dc:language>
  <cp:lastModifiedBy>山本　孝</cp:lastModifiedBy>
  <dcterms:modified xsi:type="dcterms:W3CDTF">2017-04-17T01:02:02Z</dcterms:modified>
  <cp:revision>6</cp:revision>
  <dc:subject/>
  <dc:title>PowerPoint プレゼンテーション</dc:title>
</cp:coreProperties>
</file>