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D6BA-5B0C-4ED9-BBB9-4114B10F1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2935-A0B3-4DBD-B892-2CEF96B25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FB9E-F334-466C-9D00-B84777C02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AF46-6289-4958-B217-8078FE645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C39D-FF8F-4714-9CDC-3AB16B9E54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F6232-6598-4DC9-AC6D-E5151DA0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B3274-B764-48A8-9D37-A106FC76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DD3A2-4118-46CB-8073-B3DA7D32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6770E-03ED-413E-8CD6-FB35A5C5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E4A87-6351-47D0-819F-A446A7DB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DB9C-CD01-436E-AB32-2FEB4FA98E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3E3CB-368A-47AB-8941-D3201F8E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8E261-B1E6-431B-AFB1-A0F4650B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6C9C2-0B2F-460A-9E39-2B94B2C3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A80F3-C674-46FC-940C-BA2617D7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62D23-8EF2-4BE9-9805-930263A6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DBF6C-29E0-49C7-AD64-6D3345FB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F7D54-5F98-4A35-9A8E-81F84313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A3F4-12F7-41F5-BA1F-1E5EFE352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6ECA-A46F-4EAA-A61A-B2221CCE0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DC62-3897-45C2-A5F8-878F5C8C5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5C43A-249B-4C9A-9D53-36D51E936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9B81-B5DD-4780-A63E-1C279C149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00BB-E19B-4A87-81A6-39F5C6C1D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99EF-E312-4CE4-9E8D-BD4B055EF6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Line 5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94FC-B463-4FE2-9864-4172756D4916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SC</a:t>
            </a:r>
            <a:r>
              <a:rPr b="0" lang="ja-JP" sz="6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部会報告</a:t>
            </a:r>
            <a:endParaRPr b="0" lang="en-US" sz="60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4.12.09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国際標準戦略部会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211640" y="6524640"/>
            <a:ext cx="647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63600" y="-2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Meiryo UI"/>
                <a:ea typeface="Meiryo UI"/>
              </a:rPr>
              <a:t>部会での議論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正方形/長方形 4"/>
          <p:cNvSpPr/>
          <p:nvPr/>
        </p:nvSpPr>
        <p:spPr>
          <a:xfrm>
            <a:off x="179280" y="549360"/>
            <a:ext cx="9155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H.785.0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「災害情報サービスに関する要求条件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　が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ITU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勧告化完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12/8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部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　・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ITU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中間会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ーキテクチャー文書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.78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整合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　・次回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SG16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会合（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月）にむけた議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正方形/長方形 6"/>
          <p:cNvSpPr/>
          <p:nvPr/>
        </p:nvSpPr>
        <p:spPr>
          <a:xfrm>
            <a:off x="189000" y="4349880"/>
            <a:ext cx="915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今後の国内審議項目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　　・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オリンピック等に向けた新たなテーマを追加検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　（多言語、競技速報一斉配信、パブリックビューイング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次回は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月に開催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0:28:04Z</dcterms:created>
  <dc:creator>MRI</dc:creator>
  <dc:description/>
  <dc:language>en-US</dc:language>
  <cp:lastModifiedBy>日本電信電話株式会社</cp:lastModifiedBy>
  <dcterms:modified xsi:type="dcterms:W3CDTF">2014-12-08T12:04:18Z</dcterms:modified>
  <cp:revision>265</cp:revision>
  <dc:subject/>
  <dc:title>２.目的</dc:title>
</cp:coreProperties>
</file>