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6DEA-F882-4998-BA16-1F0660A01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427F-6210-4D30-B500-A6FF509A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40C1-CB1B-40CA-81D0-F5A44B187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4ACE-7996-4A8A-834C-0A7C7BC4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FB75-1D7C-4CEA-8742-59B672A1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BA88-B2F3-41CB-B670-4A85A8CC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6808-96DB-45D5-A18A-3ECA1146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00FA-8B1B-4EAC-8659-61F775F0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446A-E456-46AF-93A6-2683E20A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8F0D-E3FA-4ED5-A51E-9FEE7AA1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E4F2-5BF8-41B2-8960-873E0008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55FE-41CF-4C8E-AEE5-AAF5C034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DA34-F86E-4174-AC3F-A63162EF306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920" y="40464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ユーザーズ部会活動報告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第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回会合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4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年９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4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日（水）１５：００～１５：４５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　　　　　　　　ジェイアール東日本企画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ki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）会議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議　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　１）国際標準戦略部会より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U-T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標準化の進捗報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　　　㈱日本電信電話　中野様（災害対応の標準化等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　２）海外の展示会レポートと業界動向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　　　ＤＳＣ江口常務理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※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次回会合は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月下旬に実施予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9T07:50:05Z</dcterms:created>
  <dc:creator>Takashi Yamamoto</dc:creator>
  <dc:description/>
  <dc:language>en-US</dc:language>
  <cp:lastModifiedBy>Takashi Yamamoto</cp:lastModifiedBy>
  <dcterms:modified xsi:type="dcterms:W3CDTF">2014-09-29T07:54:37Z</dcterms:modified>
  <cp:revision>2</cp:revision>
  <dc:subject/>
  <dc:title>PowerPoint プレゼンテーション</dc:title>
</cp:coreProperties>
</file>