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CE6C-9129-4CCA-B8D5-BDB4FA9D3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8FD1-4982-43A8-BA2A-93CE3430F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DC22-FE19-4177-8B24-4A4B0329F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02C4-E6C8-4D19-94F2-FCDF4B235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DD07-234E-4AE9-A631-C8C895FCA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4DE7D-14CC-4B6F-A63D-7F6A690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E0F16-E028-45C2-86ED-D4C2C339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63047-23AD-42C9-8218-E6D5E97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C1AAF-C6A1-4A1E-A498-A836B12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DBA1-9E97-4F45-A7D3-6C71A0D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B04A-E1AD-4CF5-9C71-DA8560B1D9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1AAE8-CE7B-4DC8-99EA-FB87CDD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1F47-90AA-4A53-B509-2E6DD94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5678-E07A-4962-A9A0-D440CCB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0699F-B64D-41F2-BDC1-01FEE9B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76922-1BA7-4350-9E6E-FEF86DD0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7820A-74E4-44F4-9635-183825C6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A678-D596-4D05-8FC2-89D6D242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CCCA-6738-4DEC-A299-A0048FB71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FD45-B7D4-4940-998E-FE2D89D34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B549-7F78-456C-8D55-C0502E705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26AF-2493-4EE1-80A0-9CA6A1AB7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7F3B-265A-4A30-B604-904F31B35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2247-1E11-48CD-9176-A1FCB1B19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9A1-C141-48D0-AF84-136F3DEA9B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DFC-BDAE-41E4-8B33-6A3FC43A7F55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160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SC</a:t>
            </a: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4.11.11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国際標準戦略部会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6360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Meiryo UI"/>
                <a:ea typeface="Meiryo UI"/>
              </a:rPr>
              <a:t>部会での議論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4"/>
          <p:cNvSpPr/>
          <p:nvPr/>
        </p:nvSpPr>
        <p:spPr>
          <a:xfrm>
            <a:off x="179280" y="549360"/>
            <a:ext cx="915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10/28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部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ITU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IPTV-GSI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会合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10/6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～＠ウズベキスタ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　のフィードバック（アーキテクチャー文書の扱いについ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・次回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月の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SG16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会合に向けた協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　　　中間会合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ML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会合）に向けた文書議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　　　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つの寄書案を中間会合向けに審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6"/>
          <p:cNvSpPr/>
          <p:nvPr/>
        </p:nvSpPr>
        <p:spPr>
          <a:xfrm>
            <a:off x="189000" y="3298680"/>
            <a:ext cx="915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今後の国内審議項目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・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DSC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で検討する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アラート対応のシステム要件を反映さ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災害対応の標準化に追加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L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アラー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WG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連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　・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オリンピック等に向けた新たなテーマを追加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（各部会・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WG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との連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　　→グローバルコミュニケーション等新たなテーマ立上げ検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次回は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月上旬予定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SG16</a:t>
            </a:r>
            <a:r>
              <a:rPr b="0" lang="ja-JP" sz="2800" spc="-1" strike="noStrike">
                <a:solidFill>
                  <a:srgbClr val="000000"/>
                </a:solidFill>
                <a:latin typeface="Meiryo UI"/>
                <a:ea typeface="Meiryo UI"/>
              </a:rPr>
              <a:t>会合向け寄書議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日本電信電話株式会社</cp:lastModifiedBy>
  <dcterms:modified xsi:type="dcterms:W3CDTF">2014-11-10T04:13:55Z</dcterms:modified>
  <cp:revision>263</cp:revision>
  <dc:subject/>
  <dc:title>２.目的</dc:title>
</cp:coreProperties>
</file>