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46B-4D7A-468D-A6B2-A873170D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38B-E1A4-4A96-AE97-C8991AC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D62-5D15-4FFB-A748-F0AE4B3A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33D-D8D1-4CDE-8CC7-66738C1A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1AF-59EC-4153-BE0A-C6BA0D0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105-A38A-433C-98AC-CAF10C3D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500-9AAE-4BE7-9DD9-2A341EFD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559-BC37-408D-AF25-F475FBD2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2F0-40D2-4279-A48F-28559B5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9FC-DDE4-4BC1-B8D3-AB5A6A8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768-F409-4141-BA44-B5B958A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2B0-FC31-49AD-8F95-8EDB445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169-1E93-4821-8242-2C700748CD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468360" y="1125360"/>
            <a:ext cx="8280360" cy="539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3"/>
          <p:cNvSpPr/>
          <p:nvPr/>
        </p:nvSpPr>
        <p:spPr>
          <a:xfrm>
            <a:off x="755640" y="549360"/>
            <a:ext cx="7777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ユーザーズ部会　活動報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（金）　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回部会を実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議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１）災害対応ガイドライン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版リリースのご報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２）公共情報コモンズ・総務省等の最新状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３）今期の活動計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４）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・部会終了後に懇親会を開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・産経新聞社様がユーザーズ部会に新規加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次回日程　次回の部会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（水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: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同日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: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から「Ｌアラートワーキンググルー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（初回会合）」を実施予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0:40:33Z</dcterms:created>
  <dc:creator>Takashi Yamamoto</dc:creator>
  <dc:description/>
  <dc:language>en-US</dc:language>
  <cp:lastModifiedBy>Takashi Yamamoto</cp:lastModifiedBy>
  <dcterms:modified xsi:type="dcterms:W3CDTF">2014-09-08T10:47:51Z</dcterms:modified>
  <cp:revision>1</cp:revision>
  <dc:subject/>
  <dc:title>PowerPoint プレゼンテーション</dc:title>
</cp:coreProperties>
</file>