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479C-68DA-4683-A4A0-64ECCE378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9530-80ED-4C07-A529-B34E2539B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E676-BDC9-4E4C-A8A3-9BBE59EDD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CE50-0116-495F-BBFF-A9C8E56AD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4554-33B3-4F4B-AC44-7DC35ACAD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2C62F-BC1B-4655-916F-348F2C9E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EB9AA-01D3-437B-966D-FFA59882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29CAC-6EB4-43CA-8E0A-A202C8BA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8D940-74E1-4869-9BBE-67C4AE97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806B6-8AC0-4C3C-9630-4960C140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51DB-35B5-4DF8-9D0B-90C8CEB3CE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74B65-AB1C-47ED-B73E-5204BE20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020D0-4261-4556-B381-03FBF0DA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B88F9-79D5-4D4C-842C-81131A28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16B7A-469F-478C-985F-733F5FA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12706-650C-4D29-9BE0-AD6B549B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CA2B7-1AF4-4A42-97E0-F70460B7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9CCB4-EA26-49A6-B96F-5B91B49D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0A94-07D0-48D9-8231-A436831E2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35EC-DAFF-44A3-B645-5EA0181FB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4104-4B4C-4424-BB29-4A15FC44B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2A13-B36B-498E-869B-359511766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572B-4283-467B-B461-54D4CC504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0179-155B-4566-92F4-3894073DF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5F4E-8CBB-4E40-953B-1EC3DE93BB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D7BF-2E08-49E1-99C2-BEBD1F6A070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4.9.9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国際標準戦略部会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636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次回　</a:t>
            </a:r>
            <a:r>
              <a:rPr b="1" lang="en-US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ITU</a:t>
            </a:r>
            <a:r>
              <a:rPr b="1" lang="ja-JP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IPTV-GSI</a:t>
            </a:r>
            <a:r>
              <a:rPr b="1" lang="ja-JP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会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10/6</a:t>
            </a:r>
            <a:r>
              <a:rPr b="1" lang="ja-JP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～＠</a:t>
            </a:r>
            <a:r>
              <a:rPr b="0" lang="ja-JP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ウズベキスタン</a:t>
            </a:r>
            <a:r>
              <a:rPr b="1" lang="ja-JP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）に向け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正方形/長方形 3"/>
          <p:cNvSpPr/>
          <p:nvPr/>
        </p:nvSpPr>
        <p:spPr>
          <a:xfrm>
            <a:off x="138240" y="2133720"/>
            <a:ext cx="8610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韓国作業文章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H.DS-ARCH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DS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システム拡張仕様）への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　　＜韓国側完成予定</a:t>
            </a: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(2015.02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想定</a:t>
            </a: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　　・</a:t>
            </a: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H.780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（システム基本要件）、</a:t>
            </a: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H.785.0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との整合性確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　　・詳細の表現上の指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　　　に関する寄書</a:t>
            </a: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件を提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9/3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部会開催し（寄書レビュー）、各社議論のう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DSC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TTC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等の国内審議を経て、提出予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636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今後の国際標準化につい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正方形/長方形 4"/>
          <p:cNvSpPr/>
          <p:nvPr/>
        </p:nvSpPr>
        <p:spPr>
          <a:xfrm>
            <a:off x="385920" y="1268280"/>
            <a:ext cx="915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SG16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＠札幌承認後の勧告化状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　　●</a:t>
            </a: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H.785.0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「災害情報サービスに関する要求条件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ITU-T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メンバーによる意見照会（</a:t>
            </a: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AAP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　　→メンバーの事務手続きが遅れ、発行は</a:t>
            </a:r>
            <a:r>
              <a:rPr b="0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月以降の予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6"/>
          <p:cNvSpPr/>
          <p:nvPr/>
        </p:nvSpPr>
        <p:spPr>
          <a:xfrm>
            <a:off x="385920" y="3933720"/>
            <a:ext cx="9154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DSC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で検討する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アラート対応のシステム要件を反映さ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災害対応の標準化を推進（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アラート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WG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連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オリンピックに向けた新たな標準化要件を追加検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（各部会との連携によるテーマ・仕様設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日本電信電話株式会社</cp:lastModifiedBy>
  <dcterms:modified xsi:type="dcterms:W3CDTF">2014-09-08T10:22:16Z</dcterms:modified>
  <cp:revision>257</cp:revision>
  <dc:subject/>
  <dc:title>２.目的</dc:title>
</cp:coreProperties>
</file>