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5F85-F7B8-4015-9D09-1A277B913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DB1C-539B-43D6-A990-3880B2D77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250E-67E9-4D46-8E98-84F293E6D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4973-2584-4E16-96CF-15793B00E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AB6B-D0D0-4F30-AEE4-CC991F080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57E89-4208-4BF3-B9A2-D9775BF0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36631-30C9-4F07-A6BA-85EB6CF2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1DDC0-B0EE-4A02-B7CE-CB47FDD0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DE064-C044-486F-BAC1-3A748FE0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20208-BE2B-4A9F-A14E-9E99240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A415-B160-4483-A7EE-4079381E02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4A284-97D3-4907-832D-9FD4C719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10365-C406-4866-8A13-1CA98664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B5B11-F483-4F97-B0C9-13EFA05F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E2C9-0E70-4E92-94A1-9C25256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C5CDF-E1B6-4829-A7D6-D1C179E5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26AAB-3B72-478F-BC66-BEAF99D1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C48F3-05FD-4FB7-A608-C8517496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1AF1-50EB-4FCE-AF87-7FC9D3012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C06A-9A42-47D3-9BBC-4DA129758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8871-309E-4FFD-913C-27F00FF5D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14C3-F563-49F7-9323-FD964DBDF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0CFC-174C-45B5-B774-99CD3ACF9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E056-A517-4E6B-9287-194737B40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3F3F-D5A7-4666-BBA9-E004627968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4A90-4B4C-408C-8B40-701345C4878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4.2.19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期間・場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4.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TV-G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ジュネー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テー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4/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ラポータ　谷川氏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寄書数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（日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、韓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DS-DIS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災害対策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modifications on acces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changes of subjects of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resolution for editor's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editorial modifications on abbrevi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modifications of sub-clause 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changes of AppendicesProposed additions of new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additions of explanatory texts of disaster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TP.DS-UCIS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ラクティブサービ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 to revise use-case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 to restructure clau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加者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三菱電機から参加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U-T IPTV-GSI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イベン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今後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U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関連会合予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83026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4.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TV-G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ジュネー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勧告化に向けて、完成内容に近い寄書を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4.06.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~07.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5050"/>
                </a:solidFill>
                <a:latin typeface="Arial"/>
              </a:rPr>
              <a:t>　　</a:t>
            </a: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SG16</a:t>
            </a:r>
            <a:r>
              <a:rPr b="0" lang="ja-JP" sz="2400" spc="-1" strike="noStrike">
                <a:solidFill>
                  <a:srgbClr val="ff5050"/>
                </a:solidFill>
                <a:latin typeface="Arial"/>
              </a:rPr>
              <a:t>会合＠札幌コンベンションセン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.DS-DIS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勧告化合意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STP.DS-UC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承認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14.11.17~2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TV-G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ジュネー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5.0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G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合：ジュネー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U-T SG16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札幌会合におけるデジタルサイネージに関する件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さて、本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-T SG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会合を札幌で開催するため、現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-T SG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本開催支援委員会が中心となって、準備を進めております。つきましては、本会合の出席者への会場内での案内掲示板として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-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標準化に関連するデジタルサイネージを活用いたしたく、ご多忙中とは存じますが、デジタルサイネージコンソーシアム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様に、下記に示しますように、関連機器等の貸与にご協力いただきたく、ご検討のほどよろしくお願いいた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１．機器貸与のお願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機器　　　　　デジタルサイネージによる電子掲示板　　２式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２）期間　　　　　　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（日）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（土）（含む準備・撤去期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３）場所 　　　　　札幌コンベンション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４）その他運用については、現地スタッフにて対応可能。会場スケジュールなどのコンテンツ更新は現地にて対応予定（詳細は要相談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-T SG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札幌会合につい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概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期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場所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札幌コンベンション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出席者数：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２）運営体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総務省招集で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-T SG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本開催支援委員会」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発足し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-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関連の主要関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会社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TT,NICT,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三菱電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NHK,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沖電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富士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立製作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NEC,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東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KDDI,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ソニ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ソフトバンクなど）が参加し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-SG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本開催支援委員会（三菱電機株式会社　青井 伸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日本電信電話株式会社</cp:lastModifiedBy>
  <dcterms:modified xsi:type="dcterms:W3CDTF">2014-02-18T10:26:54Z</dcterms:modified>
  <cp:revision>228</cp:revision>
  <dc:subject/>
  <dc:title>２.目的</dc:title>
</cp:coreProperties>
</file>