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2E0A1-B20E-4CC7-80BB-53790F981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1DE43-03C1-45AC-BDE7-938086E8F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85BE-018E-4898-AC54-B3BD9BF90A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96FAC-36D6-4CA1-A9B7-22C33B5E6A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274680"/>
            <a:ext cx="896472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6C604-4126-4697-AF35-EF93D37278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BE1E1-83A7-4870-A4B7-BA2E0BAB8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457B4-FF19-4233-9F79-8CA761402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56EB6-ABD3-4627-933F-FACA225A5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74680"/>
            <a:ext cx="896472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3D8BB-54B9-4EB0-BD46-194C91990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FDD9-040B-4F57-8441-173DE5D14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9A984-3F39-4F4D-83C5-BE09B6578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B93F2-6C7F-4CA4-9842-39A46962C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505320" y="6502320"/>
            <a:ext cx="213336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C2D8-8C62-4F42-96A3-1862DC0F86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" name="Line 5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16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SC</a:t>
            </a:r>
            <a:r>
              <a:rPr b="0" lang="ja-JP" sz="6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部会報告</a:t>
            </a:r>
            <a:endParaRPr b="0" lang="en-US" sz="60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3.4.9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国際標準戦略部会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211640" y="6524640"/>
            <a:ext cx="64764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スライド番号プレースホルダ 3"/>
          <p:cNvSpPr/>
          <p:nvPr/>
        </p:nvSpPr>
        <p:spPr>
          <a:xfrm>
            <a:off x="3505320" y="6502320"/>
            <a:ext cx="2133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D7DA-CF46-4FBA-A672-7C25284CCA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34084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国際標準戦略部会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" y="83664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１　進捗状況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80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○部会（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4/8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）の状況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80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　・次回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TU-T GSI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会合（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5/6-10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）に向け、以下の寄書について審議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80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後日、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SC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理事会、システム部会にて審議頂きたい（通常どおりメールにて）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80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80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災害対応（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H.DS-DISR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80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roposal for additions of definition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80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roposal for modification to clause6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　　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80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roposal for modification to clause7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80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80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②インタラクティブサイネージ（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HSTP.DS-UCI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80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roposal to change one of the use-case figuer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80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roposal to categorize use-case of the advanced interactive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80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80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２　次回の部会開催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8049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日程：　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5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月下旬～６月上旬頃を予定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0:28:04Z</dcterms:created>
  <dc:creator>MRI</dc:creator>
  <dc:description/>
  <dc:language>en-US</dc:language>
  <cp:lastModifiedBy>日本電信電話株式会社</cp:lastModifiedBy>
  <dcterms:modified xsi:type="dcterms:W3CDTF">2013-04-08T06:18:26Z</dcterms:modified>
  <cp:revision>210</cp:revision>
  <dc:subject/>
  <dc:title>２.目的</dc:title>
</cp:coreProperties>
</file>