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7DE-96BE-44B5-AF70-366141C4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1A6-6042-4A7D-81F1-EF8DE178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44D-95BC-4A64-BAAA-E87A059E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9C8-2ADA-4601-8D76-B35E206A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03A-608F-41BE-A054-962153BA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AFE-959A-4434-A4B4-35605928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3C3-3C93-4B05-A283-07BEF042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39C-A677-40D0-B30D-E12D711F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E6B-1FAA-470E-8E94-F286D51D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DD6-E458-4404-92B7-3BDF670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99B-362B-4BB7-A0FE-F57B4726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F90-757B-4B16-91C3-4A47F082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7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EB66-EF05-4A3E-A0F9-69337AA41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56080" y="3063960"/>
            <a:ext cx="4241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a1a1a"/>
                </a:solidFill>
                <a:latin typeface="A-OTF 新ゴ Pro B"/>
              </a:rPr>
              <a:t>指標部会　部会報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08240" y="1773360"/>
            <a:ext cx="1942920" cy="2217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237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61722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株）ビデオリサー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野原 久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0360" y="37893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8000" y="765000"/>
            <a:ext cx="8893080" cy="0"/>
          </a:xfrm>
          <a:prstGeom prst="line">
            <a:avLst/>
          </a:prstGeom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8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実証実験の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08756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アンケート結果は？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484280"/>
            <a:ext cx="85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実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素材で見ると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✓実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素材のうちひとつでも見た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.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909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アンケート回答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✓実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素材のうちひとつでも注文の参考にした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909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アンケート回答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✓実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素材のうちひとつでも実際に注文した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53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サイネージ視認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42900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デジタルサイネージの効果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✓実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素材のうちひとつでも実際に注文した人は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92360" y="3500280"/>
            <a:ext cx="4970520" cy="3360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00720" y="5948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969080" y="5408640"/>
            <a:ext cx="645840" cy="1008000"/>
          </a:xfrm>
          <a:custGeom>
            <a:avLst/>
            <a:gdLst>
              <a:gd name="textAreaLeft" fmla="*/ 0 w 645840"/>
              <a:gd name="textAreaRight" fmla="*/ 233280 w 6458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6337440"/>
            <a:ext cx="5329080" cy="3682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サイネージを見た人と見ていない人では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倍の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33520"/>
            <a:ext cx="9144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度指標部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実証実験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標部会とし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度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度に続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目の実証実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765000"/>
            <a:ext cx="8893080" cy="0"/>
          </a:xfrm>
          <a:prstGeom prst="line">
            <a:avLst/>
          </a:prstGeom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920" y="-115920"/>
            <a:ext cx="834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765000"/>
            <a:ext cx="8893080" cy="0"/>
          </a:xfrm>
          <a:prstGeom prst="line">
            <a:avLst/>
          </a:prstGeom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9280" y="765000"/>
            <a:ext cx="896472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ロケーション：カラオケボックス内サブモニタ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実施カラオケ店舗：株式会社スタンダードが保有するカラオケボック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http://www.standard-k.co.j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サブモニター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・スタンダード社カラオケルーム全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78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店舗のうち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　 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702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室（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51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店舗）に導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　　関東・名古屋・関西・仙台・福岡の都市部で、上記のうち約８５％をカバ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実施時期：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2012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26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日～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2012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月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実証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・カラオケボックス内サブモニター（サイネージ）による飲食メニュー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  アップセル効果を探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・過去の実験で得られた結果から最適な広告クリエイティブで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DSC</a:t>
            </a: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実験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 素材を制作し、全時間帯で放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89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実証実験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765000"/>
            <a:ext cx="8893080" cy="0"/>
          </a:xfrm>
          <a:prstGeom prst="line">
            <a:avLst/>
          </a:prstGeom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9280" y="1111320"/>
            <a:ext cx="871380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◆</a:t>
            </a: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実験素材の検討・条件</a:t>
            </a:r>
            <a:br>
              <a:rPr sz="1600"/>
            </a:b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．常によく出る商品ではないこと⇒サイネージでの告知効果が検証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　  しづらいた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　 </a:t>
            </a:r>
            <a:r>
              <a:rPr b="0" lang="en-US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．利益率が高い商品⇒店舗として売りたい商品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．良い商品ではあるが認知不足で売り上げが伸びない商品⇒サイネー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　  ジ告知効果が出やすい商品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．動画</a:t>
            </a:r>
            <a:r>
              <a:rPr b="0" lang="en-US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DSC</a:t>
            </a: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実験素材に向いた商品⇒しずる感が出やすい商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◆</a:t>
            </a: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実験素材（商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　 </a:t>
            </a:r>
            <a:r>
              <a:rPr b="0" lang="en-US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①から揚げチキン（</a:t>
            </a:r>
            <a:r>
              <a:rPr b="0" lang="en-US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590</a:t>
            </a:r>
            <a:r>
              <a:rPr b="0" lang="zh-CN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　 ②スティック型チキンからあげ（</a:t>
            </a:r>
            <a:r>
              <a:rPr b="0" lang="en-US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490</a:t>
            </a:r>
            <a:r>
              <a:rPr b="0" lang="zh-CN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　 ③博多とんこつラーメン（</a:t>
            </a:r>
            <a:r>
              <a:rPr b="0" lang="en-US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590</a:t>
            </a:r>
            <a:r>
              <a:rPr b="0" lang="zh-CN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円）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➢上記</a:t>
            </a:r>
            <a:r>
              <a:rPr b="0" lang="en-US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素材（商品）のクリエイティブを制作。全時間帯で放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　 ➢なお、実施店舗の飲料を除くメニュー（食べ物）数は約</a:t>
            </a:r>
            <a:r>
              <a:rPr b="0" lang="en-US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4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HGS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8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実験素材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765000"/>
            <a:ext cx="8893080" cy="0"/>
          </a:xfrm>
          <a:prstGeom prst="line">
            <a:avLst/>
          </a:prstGeom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89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実施ロケーション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24" b="14"/>
          <a:stretch/>
        </p:blipFill>
        <p:spPr>
          <a:xfrm>
            <a:off x="303120" y="1773360"/>
            <a:ext cx="5689800" cy="474984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9" name=""/>
          <p:cNvSpPr/>
          <p:nvPr/>
        </p:nvSpPr>
        <p:spPr>
          <a:xfrm>
            <a:off x="303120" y="857160"/>
            <a:ext cx="8372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号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株式会社スタンダー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Cor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住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 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5-001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東京都港区芝公園ニ丁目４番１号　芝パーク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8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80200" y="1773360"/>
            <a:ext cx="261288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サイネージ導入状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スタンダード社カラオケルーム全</a:t>
            </a:r>
            <a:r>
              <a:rPr b="0" lang="en-US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78</a:t>
            </a:r>
            <a:r>
              <a:rPr b="0" lang="zh-CN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店舗のうち、</a:t>
            </a:r>
            <a:r>
              <a:rPr b="0" lang="en-US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702</a:t>
            </a:r>
            <a:r>
              <a:rPr b="0" lang="zh-CN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室（</a:t>
            </a:r>
            <a:r>
              <a:rPr b="0" lang="en-US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店舗）に導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関東・名古屋・関西・仙台・福岡の都市部で、上記の約８５％をカバ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8000" y="765000"/>
            <a:ext cx="8893080" cy="0"/>
          </a:xfrm>
          <a:prstGeom prst="line">
            <a:avLst/>
          </a:prstGeom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8900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カラオケサイネージ（サブモニター）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907920"/>
            <a:ext cx="83534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掲出エリ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XING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社直営店舗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店舗・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702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ー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素材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秒　</a:t>
            </a:r>
            <a:r>
              <a:rPr b="0" lang="en-US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※映像のみの媒体（音声な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放映期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毎月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～末日（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ヶ月間）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露出回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回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/30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　※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758,160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回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　（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回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×30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×702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ーム）</a:t>
            </a: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接触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28,800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平均ルーム滞在時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.58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　（ルーム滞在中に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00%CM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に接触）　　　（参照元：カラオケ白書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）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ルーム滞在中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接触回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.16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回　（滞在時間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.58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×1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に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本サービスはブラザー工業株式会社による実験サービスになりま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08720" y="836640"/>
            <a:ext cx="3522600" cy="2554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496280" y="1787400"/>
            <a:ext cx="1371600" cy="1104840"/>
            <a:chOff x="7496280" y="1787400"/>
            <a:chExt cx="1371600" cy="1104840"/>
          </a:xfrm>
        </p:grpSpPr>
        <p:sp>
          <p:nvSpPr>
            <p:cNvPr id="66" name=""/>
            <p:cNvSpPr/>
            <p:nvPr/>
          </p:nvSpPr>
          <p:spPr>
            <a:xfrm>
              <a:off x="7496280" y="1787400"/>
              <a:ext cx="1371600" cy="1104840"/>
            </a:xfrm>
            <a:custGeom>
              <a:avLst/>
              <a:gdLst/>
              <a:ahLst/>
              <a:rect l="l" t="t" r="r" b="b"/>
              <a:pathLst>
                <a:path w="864" h="664">
                  <a:moveTo>
                    <a:pt x="0" y="0"/>
                  </a:moveTo>
                  <a:lnTo>
                    <a:pt x="4" y="664"/>
                  </a:lnTo>
                  <a:lnTo>
                    <a:pt x="864" y="564"/>
                  </a:lnTo>
                  <a:lnTo>
                    <a:pt x="86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2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4800" y="217188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HGS創英角ｺﾞｼｯｸUB"/>
                </a:rPr>
                <a:t>カラオケ画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567400" y="1739880"/>
            <a:ext cx="1309680" cy="803160"/>
          </a:xfrm>
          <a:custGeom>
            <a:avLst/>
            <a:gdLst/>
            <a:ahLst/>
            <a:rect l="l" t="t" r="r" b="b"/>
            <a:pathLst>
              <a:path w="826" h="484">
                <a:moveTo>
                  <a:pt x="0" y="0"/>
                </a:moveTo>
                <a:lnTo>
                  <a:pt x="0" y="484"/>
                </a:lnTo>
                <a:lnTo>
                  <a:pt x="826" y="446"/>
                </a:lnTo>
                <a:lnTo>
                  <a:pt x="826" y="3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8680" y="2065320"/>
            <a:ext cx="767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デジタルサイネージ画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8000" y="765000"/>
            <a:ext cx="8893080" cy="0"/>
          </a:xfrm>
          <a:prstGeom prst="line">
            <a:avLst/>
          </a:prstGeom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8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実証実験の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836640"/>
            <a:ext cx="8893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注文数の変化は？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➢今回の実験実施店から無作為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店舗を抽出。サイネージ設置ルームと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  非設置ルームでの一人当たりの注文数を比較。下図は非設置ルームに対する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  設置ルームでの注文数の比率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➢なお注文の絶対数は、一日当りとんこつラーメ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に対し、ｽﾃｨｯｸ型ﾁｷﾝからあ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 鶏の唐揚げ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2401920"/>
            <a:ext cx="7970760" cy="4556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1280" y="4653000"/>
            <a:ext cx="143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スティック型チキンからあ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8000" y="765000"/>
            <a:ext cx="8893080" cy="0"/>
          </a:xfrm>
          <a:prstGeom prst="line">
            <a:avLst/>
          </a:prstGeom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8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実証実験の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052640"/>
            <a:ext cx="799128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アンケート結果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➢実験実施店全店の顧客会員に、来店翌日に配信されるサンクスメールで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  サイネージに関するアンケートを実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➢会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からアンケート回答を回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➢アンケート項目は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①サイネージ視認状況（画面に気づいたか）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②流れてい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素材・商品）の認知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③オーダーの際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考有無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④商品注文有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43718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サイネージ視認状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（サブモニター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を見ましたか）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12960" y="4473720"/>
            <a:ext cx="55674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8000" y="765000"/>
            <a:ext cx="8893080" cy="0"/>
          </a:xfrm>
          <a:prstGeom prst="line">
            <a:avLst/>
          </a:prstGeom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8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実証実験の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76500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アンケート結果は？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1268280"/>
            <a:ext cx="331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個別素材（商品）認知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注文の参考有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909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（アンケート回答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2920" y="4213080"/>
            <a:ext cx="349236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実際の注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ｎ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各素材認知者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　　鶏の唐揚げ丼　　         ｎ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203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　  ｽﾃｨｯｸ型ﾁｷﾝからあげ   ｎ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34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　　博多とんこつﾗｰﾒﾝ        ｎ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35200" y="549360"/>
            <a:ext cx="6542280" cy="3673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68360" y="3860640"/>
            <a:ext cx="6626520" cy="3062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740720" y="765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4221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2276640"/>
            <a:ext cx="1295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スティック型チキンからあ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6480" y="6613560"/>
            <a:ext cx="15112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スティック型チキンからあ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4:23:10Z</dcterms:created>
  <dc:creator>システム統括部</dc:creator>
  <dc:description/>
  <dc:language>en-US</dc:language>
  <cp:lastModifiedBy>itohn</cp:lastModifiedBy>
  <dcterms:modified xsi:type="dcterms:W3CDTF">2012-06-13T02:12:36Z</dcterms:modified>
  <cp:revision>8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20000000000010243100207f6000400038000</vt:lpwstr>
  </property>
</Properties>
</file>