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27000" y="1638000"/>
            <a:ext cx="11150640" cy="15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27000" y="5619600"/>
            <a:ext cx="11150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0920" y="50292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2700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0920" y="5619600"/>
            <a:ext cx="54414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9728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467200" y="50292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270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9728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467200" y="5619600"/>
            <a:ext cx="359028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7000" y="1638000"/>
            <a:ext cx="111506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7000" y="5029200"/>
            <a:ext cx="111506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27000" y="254160"/>
            <a:ext cx="1115064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7000" y="2781360"/>
            <a:ext cx="54482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82980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121212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1594440" indent="-60084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197676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27000" y="254160"/>
            <a:ext cx="1115064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27000" y="2781360"/>
            <a:ext cx="111506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6516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140976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1854360" indent="-69876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229860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74320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74320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743200" indent="-69840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27000" y="254160"/>
            <a:ext cx="1115064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86600" y="2781360"/>
            <a:ext cx="49910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78156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1501920" indent="-56592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186156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22192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22192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221920" indent="-56556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27000" y="2781360"/>
            <a:ext cx="54482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82980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121212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1594440" indent="-60084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197676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359080" indent="-600480">
              <a:spcBef>
                <a:spcPts val="49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927000" y="254160"/>
            <a:ext cx="1115064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27000" y="254160"/>
            <a:ext cx="1115064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27000" y="2781360"/>
            <a:ext cx="111506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949320" indent="-71172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344960" indent="-71172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740600" indent="-7120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2136240" indent="-7120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2531520" indent="-71172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2531520" indent="-71172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2531520" indent="-71172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7000" y="2971440"/>
            <a:ext cx="111506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27000" y="1257120"/>
            <a:ext cx="11150640" cy="722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97056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37520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77984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218412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258840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258840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2588400" indent="-7279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7000" y="7365960"/>
            <a:ext cx="111506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27000" y="7365960"/>
            <a:ext cx="111506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27000" y="1536480"/>
            <a:ext cx="669312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7000" y="4901760"/>
            <a:ext cx="669312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27000" y="1536480"/>
            <a:ext cx="669312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7000" y="4901760"/>
            <a:ext cx="669312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33440" y="254160"/>
            <a:ext cx="10350720" cy="245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4965840"/>
            <a:ext cx="13501800" cy="0"/>
          </a:xfrm>
          <a:prstGeom prst="line">
            <a:avLst/>
          </a:prstGeom>
          <a:ln w="255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3381480" y="4176720"/>
            <a:ext cx="87627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プロダクション部会 部会報告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600200" y="2989440"/>
            <a:ext cx="1927080" cy="21999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10269360" y="9075600"/>
            <a:ext cx="311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2012.6.2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952560"/>
            <a:ext cx="13501800" cy="0"/>
          </a:xfrm>
          <a:prstGeom prst="line">
            <a:avLst/>
          </a:prstGeom>
          <a:ln w="255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65240" y="187200"/>
            <a:ext cx="609480" cy="695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973080" y="247680"/>
            <a:ext cx="11557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部会・</a:t>
            </a:r>
            <a:r>
              <a:rPr b="0" lang="en-US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WG</a:t>
            </a:r>
            <a:r>
              <a:rPr b="0" lang="zh-CN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活動報告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2293920" y="2163600"/>
            <a:ext cx="8394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【第</a:t>
            </a:r>
            <a:r>
              <a:rPr b="0" lang="en-US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42</a:t>
            </a:r>
            <a:r>
              <a:rPr b="0" lang="zh-CN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回　プロダクション部会】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1608120" y="3981600"/>
            <a:ext cx="10375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日時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23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日（水）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16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00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〜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18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0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1608120" y="5189400"/>
            <a:ext cx="5448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場所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DSC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事務局　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3F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1608120" y="6394320"/>
            <a:ext cx="12890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内容：第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回デジタルサイネージアワードについて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952560"/>
            <a:ext cx="13501800" cy="0"/>
          </a:xfrm>
          <a:prstGeom prst="line">
            <a:avLst/>
          </a:prstGeom>
          <a:ln w="255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65240" y="187200"/>
            <a:ext cx="609480" cy="6955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973080" y="247680"/>
            <a:ext cx="11557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部会・</a:t>
            </a:r>
            <a:r>
              <a:rPr b="0" lang="en-US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WG</a:t>
            </a:r>
            <a:r>
              <a:rPr b="0" lang="zh-CN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活動報告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-241200" y="1557360"/>
            <a:ext cx="13817520" cy="748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952560"/>
            <a:ext cx="13501800" cy="0"/>
          </a:xfrm>
          <a:prstGeom prst="line">
            <a:avLst/>
          </a:prstGeom>
          <a:ln w="255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65240" y="187200"/>
            <a:ext cx="609480" cy="6955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973080" y="247680"/>
            <a:ext cx="11557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部会・</a:t>
            </a:r>
            <a:r>
              <a:rPr b="0" lang="en-US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WG</a:t>
            </a:r>
            <a:r>
              <a:rPr b="0" lang="zh-CN" sz="36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活動報告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2293920" y="2163600"/>
            <a:ext cx="8394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【第</a:t>
            </a:r>
            <a:r>
              <a:rPr b="0" lang="en-US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43</a:t>
            </a:r>
            <a:r>
              <a:rPr b="0" lang="zh-CN" sz="4200" spc="-1" strike="noStrike">
                <a:solidFill>
                  <a:srgbClr val="ffffff"/>
                </a:solidFill>
                <a:latin typeface="ヒラギノ角ゴ Std W8"/>
                <a:ea typeface="ヒラギノ角ゴ Std W8"/>
              </a:rPr>
              <a:t>回　プロダクション部会】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1569960" y="3981600"/>
            <a:ext cx="10375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日時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27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日（水）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16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00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〜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18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0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1569960" y="5189400"/>
            <a:ext cx="5448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場所：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DSC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事務局　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3F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1569960" y="6394320"/>
            <a:ext cx="12890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■ 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内容：第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ヒラギノ角ゴ Pro W6"/>
                <a:ea typeface="ヒラギノ角ゴ Pro W6"/>
              </a:rPr>
              <a:t>回デジタルサイネージアワード まとめ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mazaki hajime</cp:lastModifiedBy>
  <dcterms:modified xsi:type="dcterms:W3CDTF">2012-06-19T10:20:37Z</dcterms:modified>
  <cp:revision>1</cp:revision>
  <dc:subject/>
  <dc:title>PowerPoint プレゼンテーション</dc:title>
</cp:coreProperties>
</file>