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E3E8-58E8-45BB-ACC1-D8587F23C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4714-CD74-4BE0-8D31-A7DDBB624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262E-6D1C-496A-9A3C-557B252F0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0AAC-91BC-4423-B21D-DEEB91E5B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B540-E76C-4B8F-9F23-F5ED21C33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54C6-4C0B-48E2-A104-E13AAB11D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9856-2DE8-42D0-BE80-C28962A09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B86F-826B-4949-B6E8-3B2535CE9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B64F-B2AD-42B0-957E-81ED7E7F3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C1B6-9301-446F-A819-56205A454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D7A4-5753-433F-8F37-6772971DD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D182-11E0-4884-B93E-82E95D821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3B66-AEED-4F87-8BCE-4D17C4ED6C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3893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.6.20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国際標準戦略部会</a:t>
            </a: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7ADA-6B94-414A-B42F-EA7F6810D3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国際標準戦略部会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836640"/>
            <a:ext cx="910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　進捗状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○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TU-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状況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/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新勧告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TU-T Rec. H.780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として承認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/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8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最終承認プロセ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⇒　以降、勧告として承認、発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○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W3C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状況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/14-15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Workshop on Web-based Signage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⇒最新のユースケース、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技術とのギャップ、について議論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　次回の部会開催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日程：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8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（木）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00-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場所：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T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大手町逓信ビル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議題：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Workshop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詳細報告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TU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の進め方　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日本電信電話株式会社</cp:lastModifiedBy>
  <dcterms:modified xsi:type="dcterms:W3CDTF">2012-06-19T04:05:43Z</dcterms:modified>
  <cp:revision>135</cp:revision>
  <dc:subject/>
  <dc:title>２.目的</dc:title>
</cp:coreProperties>
</file>