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B2B22-BA40-4CEF-9918-9352B3BB8E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99280"/>
            <a:ext cx="822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DC385-48C8-4AB1-9DC3-BD72581198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FFC23-BA4A-4B93-8466-0802AA30CD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836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836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99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99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99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190C1-1714-4B84-A9D2-B12B7F9565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9280" y="274680"/>
            <a:ext cx="896472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C2F78-B3A9-4059-9840-9527B7CB33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99280"/>
            <a:ext cx="822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599280"/>
            <a:ext cx="822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836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836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599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599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599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DAFD8-CAE0-4B41-BA48-213947A0FB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381DC-F0B6-447C-BF47-CF9C615895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77C9E-7567-4F88-BF4C-EEEC9BE8B5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274680"/>
            <a:ext cx="896472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9F82C-D29A-4776-B403-999EBFC7F9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2ADAB-7AFD-460C-B28C-751EF9DD19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8A468-409C-4A22-9E85-112E0AC5CF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99280"/>
            <a:ext cx="822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EB723-4DBE-4F58-83AE-BD4AAE28EA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505320" y="6502320"/>
            <a:ext cx="213336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646A-591E-438D-994B-918D8683B0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7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8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" name="Line 5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スライド番号プレースホルダ 3"/>
          <p:cNvSpPr/>
          <p:nvPr/>
        </p:nvSpPr>
        <p:spPr>
          <a:xfrm>
            <a:off x="3505320" y="6502320"/>
            <a:ext cx="2133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EE09-2F24-415A-B931-FD25AFB4697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23893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16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ＭＳ Ｐゴシック"/>
              </a:rPr>
              <a:t>DSC</a:t>
            </a:r>
            <a:r>
              <a:rPr b="0" lang="ja-JP" sz="6000" spc="-1" strike="noStrike">
                <a:solidFill>
                  <a:srgbClr val="000000"/>
                </a:solidFill>
                <a:latin typeface="ＭＳ Ｐゴシック"/>
              </a:rPr>
              <a:t>部会報告</a:t>
            </a:r>
            <a:endParaRPr b="0" lang="en-US" sz="60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ＭＳ Ｐゴシック"/>
              </a:rPr>
              <a:t>2011.11.8</a:t>
            </a:r>
            <a:endParaRPr b="0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国際標準戦略部会</a:t>
            </a:r>
            <a:endParaRPr b="0" lang="en-US" sz="4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4211640" y="6524640"/>
            <a:ext cx="64764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スライド番号プレースホルダ 3"/>
          <p:cNvSpPr/>
          <p:nvPr/>
        </p:nvSpPr>
        <p:spPr>
          <a:xfrm>
            <a:off x="3505320" y="6502320"/>
            <a:ext cx="2133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C16B-EE0F-4EB5-8847-0A80355BB5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34084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　国際標準戦略部会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560" y="1090080"/>
            <a:ext cx="9109080" cy="48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進捗状況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○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ITU-T SG16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会合（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11/21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～）に向けた作業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　－既存勧告案に対する審議進捗のための寄書（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5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件）作成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　　イントロ、アプリケーション、メタデータ、セキュリティ、災害対応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　　　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※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2012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月の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ITU-T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会合にて最終勧告案となるよう推進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○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ITU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デジタルサイネージワークショップ（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12/13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14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＠東京）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　－部会からの協賛金の拠出については理事会にて承認済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　－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DSC HP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の一部を英語化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00:28:04Z</dcterms:created>
  <dc:creator>MRI</dc:creator>
  <dc:description/>
  <dc:language>en-US</dc:language>
  <cp:lastModifiedBy>7603323</cp:lastModifiedBy>
  <dcterms:modified xsi:type="dcterms:W3CDTF">2011-11-07T03:30:29Z</dcterms:modified>
  <cp:revision>73</cp:revision>
  <dc:subject/>
  <dc:title>２.目的</dc:title>
</cp:coreProperties>
</file>