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78B-C106-4B7E-BFB3-EF2F955497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0B7-4FF7-4855-8CBE-545425C2BE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5560-2A84-49B7-AE5E-97C18FA5E4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E2D-40B7-4ACE-8572-E0BABC8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242-0185-4EA4-A6A0-1BE746FF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E4A-62CF-4241-BAA9-E7848168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953-B619-4A2E-9F70-93406FEF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335-D867-4F52-80F0-B1EE2A3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50C-C8CA-40F5-8C7E-77219995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B43-3F5C-429D-990F-EC0932B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32E-C4B3-40B8-8A13-E34ED561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1BD-8240-4B1B-8DE4-9A96940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4D9-7536-4CEC-B28F-C049093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C19-0312-4C0F-9E5E-4B8CC136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C88-4AE0-4387-BABF-85784BE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2A68-0F89-4147-99A9-77BB5793C6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指標部会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005360" y="5032440"/>
            <a:ext cx="1133280" cy="1276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3"/>
          <p:cNvSpPr/>
          <p:nvPr/>
        </p:nvSpPr>
        <p:spPr>
          <a:xfrm>
            <a:off x="4154400" y="627372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56800"/>
            <a:ext cx="757224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日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日と指標部会を開催しました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日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・地方のデジタルサイネージの実例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■マスコミ文化協会　青木氏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日　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札幌テレビ　メディアプロデューサー　内山氏　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■札幌駅前地下広場デジタルサイネージについて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786800" y="214200"/>
            <a:ext cx="1133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2:58:19Z</dcterms:created>
  <dc:creator>USER</dc:creator>
  <dc:description/>
  <dc:language>en-US</dc:language>
  <cp:lastModifiedBy>佐々木 大祐</cp:lastModifiedBy>
  <dcterms:modified xsi:type="dcterms:W3CDTF">2011-11-08T05:00:06Z</dcterms:modified>
  <cp:revision>6</cp:revision>
  <dc:subject/>
  <dc:title>■２月７日・２月２１日と指標部会を開催  ■指標づくりにあたって、 まず媒体価値を表すための指標づくりをする  ■過去の成功事例や失敗事例を参考にしながら　　 　　進める。　現実味のある指標を。  ■今後各カテゴリーで大枠の指標の方向性を決め 詳細を分科会で。（交通、流通、セグメント、一般店舗）  ■調査予算について</dc:title>
</cp:coreProperties>
</file>