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8669A1-D652-4400-A8F8-44E4C84AAA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F3B3FA-88C2-4F1B-8A71-46311426DC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86F23F-A454-4B8F-8F07-00E00D4235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87BA99-3A27-4D22-965F-03E1CA9C2D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B56B4B-BB51-4513-B232-B5989869FC3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67C319-C381-468F-B0A5-395759B34A5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D46C2B-2D68-4AD4-A03A-D95CB4133A8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EBB1FF-CCA6-471D-B4DF-FED883785F8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E35B5B-C69C-406B-9368-3B18CFD79B9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DEDA3F-F53D-4159-A3DB-F65055A41EE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17263A-64E3-4326-9717-BF53ADCBBB6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92D2B9-68D0-4A81-B46D-64A92628DB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4A2CD5-B712-4092-B61E-D423677708A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96EE04-5F51-431D-8FA2-2D4C72FEFA4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715EE3-55AB-4EF1-AAEE-2240675B01E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0FB9AB-048F-4E40-B308-DFB780B2DE0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5B415E-C174-4A77-A37E-045D1BCB5217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D136E4-436E-43EC-8A71-3A52ADAA3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184B20-4DB5-42E0-8019-40D0F1740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0313A8-4B08-43F6-ACB2-5EC0FCABA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49E823-B3E0-483A-A974-B7710983C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6AFD4D-1D8C-4396-903F-8787E9B47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6DE6D9-A5F0-4023-A792-AFF69563F60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937ADA-B09D-4800-86E4-6C2CBCE30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9F63D1-A824-4E44-B80C-8919FCCA7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242F00-5098-48E7-AAD7-935D2773E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29B68D-FD97-4935-A5E5-385E1F81D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7C1497-992A-45F1-A5CB-B8EE88C74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1A5179-84AC-4D64-9670-AE7F15E4E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CBE043-B5CF-4AAA-92F1-FA2E5A9AB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02F802D-AA4A-4811-8D26-399ABB389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4BC3236-5A8B-4AB2-8184-087F4CF28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E54A922-9B0F-4524-8917-9E0EAD385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006DDC-AD88-417F-8775-8D06292BCBF8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ECDF43C-ABB0-4008-BF4D-BC2A543A2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40B818D-8634-40CA-9DBB-BC168B8EF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4814A07-5FD9-4D95-8D32-5276D68B7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72FAC27-2DE7-4C2E-9417-E85111388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F6E5F11-5483-4525-AAC6-33F2ED352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19A16D2-3B8D-4199-A450-21E59304A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17271A4-5163-4B4F-9C5A-5F726C397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BAE3C11-7A51-4A76-A190-2772F9536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01C5C7D-F0D2-4689-AABB-1611A7BF0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68E0E66-E878-46F7-AD6A-B7CC97D0F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22F807-3CBA-48D4-8BCC-06C436D328FC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4B0270F-74E9-455C-BB70-B6EDF5D29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B712A1D-6968-4121-A101-D5CB88A4C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7A8AD14-7806-4C00-9DD4-9FE2AE970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0E86CC6-8459-4A41-8A07-61CA2A5B8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193CCCA-F69F-40C8-AE7D-2003BDBAE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1378A1E-7877-418C-886A-40D19F92B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43C1685-48BE-4F40-A4E9-5D9C0C251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7A4AC87-D087-4A6E-8D9E-5E797DE53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36D199A-816B-4027-BCA9-011393B42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4CBB538-E7FC-444F-BB03-F30F8B6C8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ACFD8E-A797-448C-A7D8-ABCB7A691B31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1E129A0-C01D-4364-9059-C1644D4B5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D97ED2-7821-4876-BAAB-5041638A68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CF2EC9-F183-466F-910B-FF51CD0F2B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6A2F62-7089-4432-9CA3-832A7706BD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844280"/>
            <a:ext cx="7772400" cy="20415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71600" y="3885840"/>
            <a:ext cx="6400800" cy="2971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 fontScale="72000"/>
          </a:bodyPr>
          <a:p>
            <a:pPr marL="2844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8440" indent="-28440" algn="ctr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8440" indent="-28440"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8440" indent="-28440" algn="ctr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8440" indent="-28440" algn="ctr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8440" indent="-28440" algn="ctr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8440" indent="-28440" algn="ctr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3"/>
          <p:cNvSpPr/>
          <p:nvPr/>
        </p:nvSpPr>
        <p:spPr>
          <a:xfrm>
            <a:off x="3124080" y="6245280"/>
            <a:ext cx="2908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SC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システム部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462440" y="624492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73C93-05DC-4A30-984D-DB9929F13826}" type="slidenum">
              <a:rPr b="0" lang="ja-JP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1"/>
          <p:cNvSpPr/>
          <p:nvPr/>
        </p:nvSpPr>
        <p:spPr>
          <a:xfrm>
            <a:off x="0" y="0"/>
            <a:ext cx="9144000" cy="836640"/>
          </a:xfrm>
          <a:prstGeom prst="rect">
            <a:avLst/>
          </a:prstGeom>
          <a:gradFill rotWithShape="0">
            <a:gsLst>
              <a:gs pos="0">
                <a:srgbClr val="a6eef8"/>
              </a:gs>
              <a:gs pos="50000">
                <a:srgbClr val="ffffff"/>
              </a:gs>
              <a:gs pos="100000">
                <a:srgbClr val="a6eef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-27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50560" y="1196640"/>
            <a:ext cx="8713800" cy="5661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4"/>
          <p:cNvSpPr/>
          <p:nvPr/>
        </p:nvSpPr>
        <p:spPr>
          <a:xfrm>
            <a:off x="3124080" y="6245280"/>
            <a:ext cx="2908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SC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システム部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7462440" y="624492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CF516-8CFD-4092-B99D-6FFD8B1D2473}" type="slidenum">
              <a:rPr b="0" lang="ja-JP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82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86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>
                <a:gd name="textAreaLeft" fmla="*/ 0 w 5143320"/>
                <a:gd name="textAreaRight" fmla="*/ 5143680 w 514332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88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>
                  <a:gd name="textAreaLeft" fmla="*/ 0 w 1581120"/>
                  <a:gd name="textAreaRight" fmla="*/ 1581480 w 1581120"/>
                  <a:gd name="textAreaTop" fmla="*/ 0 h 846000"/>
                  <a:gd name="textAreaBottom" fmla="*/ 846360 h 846000"/>
                </a:gdLst>
                <a:ahLst/>
                <a:rect l="textAreaLeft" t="textAreaTop" r="textAreaRight" b="textAreaBottom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>
                  <a:gd name="textAreaLeft" fmla="*/ 0 w 600120"/>
                  <a:gd name="textAreaRight" fmla="*/ 600480 w 60012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>
                  <a:gd name="textAreaLeft" fmla="*/ 0 w 246240"/>
                  <a:gd name="textAreaRight" fmla="*/ 246240 w 24624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3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>
                <a:gd name="textAreaLeft" fmla="*/ 0 w 6311880"/>
                <a:gd name="textAreaRight" fmla="*/ 6312240 w 631188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9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ffffff"/>
                </a:solidFill>
                <a:latin typeface="Times New Roman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C60B1-33C5-4040-B622-8CF254692AE3}" type="datetime">
              <a:rPr b="0" lang="ja-JP" sz="12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26/07/31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ffffff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2B914-D56D-4078-8D7B-D30E0513A787}" type="slidenum">
              <a:rPr b="0" lang="ja-JP" sz="12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43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47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8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49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4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56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dt" idx="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ffffff"/>
                </a:solidFill>
                <a:latin typeface="Times New Roman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1D96C-B1A6-4574-B3E0-733DE71FE8F6}" type="datetime">
              <a:rPr b="0" lang="ja-JP" sz="12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26/07/31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 type="sldNum" idx="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ffffff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58441-86F5-44B3-8B99-099783668B23}" type="slidenum">
              <a:rPr b="0" lang="ja-JP" sz="12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3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04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6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208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>
                <a:gd name="textAreaLeft" fmla="*/ 0 w 5143320"/>
                <a:gd name="textAreaRight" fmla="*/ 5143680 w 514332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9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210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>
                  <a:gd name="textAreaLeft" fmla="*/ 0 w 1581120"/>
                  <a:gd name="textAreaRight" fmla="*/ 1581480 w 1581120"/>
                  <a:gd name="textAreaTop" fmla="*/ 0 h 846000"/>
                  <a:gd name="textAreaBottom" fmla="*/ 846360 h 846000"/>
                </a:gdLst>
                <a:ahLst/>
                <a:rect l="textAreaLeft" t="textAreaTop" r="textAreaRight" b="textAreaBottom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>
                  <a:gd name="textAreaLeft" fmla="*/ 0 w 600120"/>
                  <a:gd name="textAreaRight" fmla="*/ 600480 w 60012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>
                  <a:gd name="textAreaLeft" fmla="*/ 0 w 246240"/>
                  <a:gd name="textAreaRight" fmla="*/ 246240 w 24624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5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>
                <a:gd name="textAreaLeft" fmla="*/ 0 w 6311880"/>
                <a:gd name="textAreaRight" fmla="*/ 6312240 w 631188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217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70809-9079-4920-BDF1-EA20118BEAE0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e3e3ff"/>
                </a:solidFill>
                <a:latin typeface="Arial"/>
              </a:rPr>
              <a:t>デジタルサイネージ国際標準化検討</a:t>
            </a:r>
            <a:br>
              <a:rPr sz="3200"/>
            </a:br>
            <a:r>
              <a:rPr b="0" lang="en-US" sz="3200" spc="-1" strike="noStrike">
                <a:solidFill>
                  <a:srgbClr val="e3e3ff"/>
                </a:solidFill>
                <a:latin typeface="Arial"/>
              </a:rPr>
              <a:t>ITU-T SG16</a:t>
            </a:r>
            <a:r>
              <a:rPr b="0" lang="ja-JP" sz="3200" spc="-1" strike="noStrike">
                <a:solidFill>
                  <a:srgbClr val="e3e3ff"/>
                </a:solidFill>
                <a:latin typeface="Arial"/>
              </a:rPr>
              <a:t>会合準備状況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1371600" y="4149720"/>
            <a:ext cx="6400800" cy="103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011/11/0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SC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システム部会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4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e3e3ff"/>
                </a:solidFill>
                <a:latin typeface="Arial"/>
              </a:rPr>
              <a:t>背景</a:t>
            </a:r>
            <a:endParaRPr b="0" lang="en-US" sz="2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78920" y="691920"/>
            <a:ext cx="8713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ＭＳ Ｐゴシック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ITU-T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International Telecommunication Union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電気通信標準化部会）の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SG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Study Group)16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にデジタルサイネージの標準化を提案し、勧告化作業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SG16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はマルチメディア端末、システム、アプリケーションに関する標準化、規制を担当。グループ内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Q(Question)13“Multimedia application platforms and end system for IPTV”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という分科会内に、「デジタルサイネージに関する勧告化作業」を提案（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NTT/OKI/NEC)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し、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H.FDSS(Framework of Digital Signage Service)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として承認された。（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11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年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3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月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この時点での会合予定は、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e3e3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7/18 - 22 IPTV-GSI(@</a:t>
            </a:r>
            <a:r>
              <a:rPr b="0" lang="ja-JP" sz="1400" spc="-1" strike="noStrike">
                <a:solidFill>
                  <a:srgbClr val="ffffff"/>
                </a:solidFill>
                <a:latin typeface="Arial"/>
              </a:rPr>
              <a:t>リオデジャネイロ）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e3e3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1/17-18 Q13/16</a:t>
            </a:r>
            <a:r>
              <a:rPr b="0" lang="ja-JP" sz="1400" spc="-1" strike="noStrike">
                <a:solidFill>
                  <a:srgbClr val="ffffff"/>
                </a:solidFill>
                <a:latin typeface="Arial"/>
              </a:rPr>
              <a:t>ラポータ会合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@</a:t>
            </a:r>
            <a:r>
              <a:rPr b="0" lang="ja-JP" sz="1400" spc="-1" strike="noStrike">
                <a:solidFill>
                  <a:srgbClr val="ffffff"/>
                </a:solidFill>
                <a:latin typeface="Arial"/>
              </a:rPr>
              <a:t>ジュネーブ）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e3e3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1/21-12/2 SG/WP16(@</a:t>
            </a:r>
            <a:r>
              <a:rPr b="0" lang="ja-JP" sz="1400" spc="-1" strike="noStrike">
                <a:solidFill>
                  <a:srgbClr val="ffffff"/>
                </a:solidFill>
                <a:latin typeface="Arial"/>
              </a:rPr>
              <a:t>ジュネーブ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)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ＭＳ Ｐゴシック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これまでのシステム部会での対応経緯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国際標準部会が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SG16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会合への対応開始（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4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月）　</a:t>
            </a:r>
            <a:r>
              <a:rPr b="0" lang="ja-JP" sz="1600" spc="-1" strike="noStrike">
                <a:solidFill>
                  <a:srgbClr val="ffffff"/>
                </a:solidFill>
                <a:latin typeface="Wingdings"/>
                <a:ea typeface="Wingdings"/>
              </a:rPr>
              <a:t>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　システム部会への協力要請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リオデジャネイロ会合用寄書（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NTT/OKI/NEC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作成）の内容レビュー（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6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月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)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　</a:t>
            </a:r>
            <a:r>
              <a:rPr b="0" lang="ja-JP" sz="1600" spc="-1" strike="noStrike">
                <a:solidFill>
                  <a:srgbClr val="ffffff"/>
                </a:solidFill>
                <a:latin typeface="Wingdings"/>
                <a:ea typeface="Wingdings"/>
              </a:rPr>
              <a:t>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　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DSC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標準システムガイドラインを参照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ジュネーブ会合用寄書（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NTT/OKI/NEC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作成）の内容レビュー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ジュネーブ会合での修正指示は、ドバイ会合（追加。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9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月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)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にて確認されることとなっ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ＭＳ Ｐゴシック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現状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次回のジュネーブ会合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(11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月）で寄書（提案ドラフト）の全体骨子を完成する必要あり、検討作業の加速が必要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システム部会有志が寄書作成検討作業に参画することになり、作業加速をはかる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e3e3ff"/>
              </a:buClr>
              <a:buFont typeface="ＭＳ Ｐゴシック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5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回の検討会を実施　（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9/29(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木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)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、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0/4(</a:t>
            </a:r>
            <a:r>
              <a:rPr b="0" lang="zh-TW" sz="1400" spc="-1" strike="noStrike">
                <a:solidFill>
                  <a:srgbClr val="ffffff"/>
                </a:solidFill>
                <a:latin typeface="ＭＳ Ｐゴシック"/>
              </a:rPr>
              <a:t>火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)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、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0/7(</a:t>
            </a:r>
            <a:r>
              <a:rPr b="0" lang="zh-TW" sz="1400" spc="-1" strike="noStrike">
                <a:solidFill>
                  <a:srgbClr val="ffffff"/>
                </a:solidFill>
                <a:latin typeface="ＭＳ Ｐゴシック"/>
              </a:rPr>
              <a:t>水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)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、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0/13(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木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)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、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0/18(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火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e3e3ff"/>
              </a:buClr>
              <a:buFont typeface="ＭＳ Ｐゴシック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検討内容についてはシステム日開へ展開予定（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0/20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）　</a:t>
            </a:r>
            <a:r>
              <a:rPr b="0" lang="ja-JP" sz="1400" spc="-1" strike="noStrike">
                <a:solidFill>
                  <a:srgbClr val="ffffff"/>
                </a:solidFill>
                <a:latin typeface="Wingdings"/>
                <a:ea typeface="Wingdings"/>
              </a:rPr>
              <a:t>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　ドキュメントレビュー　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0/19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0/2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ja-JP" sz="1600" spc="-1" strike="noStrike">
                <a:solidFill>
                  <a:srgbClr val="ffffff"/>
                </a:solidFill>
                <a:latin typeface="Arial"/>
              </a:rPr>
              <a:t>月会合（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PTV-GSI</a:t>
            </a:r>
            <a:r>
              <a:rPr b="0" lang="ja-JP" sz="1600" spc="-1" strike="noStrike">
                <a:solidFill>
                  <a:srgbClr val="ffffff"/>
                </a:solidFill>
                <a:latin typeface="Arial"/>
              </a:rPr>
              <a:t>会合）が追加され、残件の議論も可能に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e3e3ff"/>
                </a:solidFill>
                <a:latin typeface="Arial"/>
              </a:rPr>
              <a:t>寄書概要</a:t>
            </a:r>
            <a:endParaRPr b="0" lang="en-US" sz="24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269" name=""/>
          <p:cNvGraphicFramePr/>
          <p:nvPr/>
        </p:nvGraphicFramePr>
        <p:xfrm>
          <a:off x="179280" y="981000"/>
          <a:ext cx="8753760" cy="3475080"/>
        </p:xfrm>
        <a:graphic>
          <a:graphicData uri="http://schemas.openxmlformats.org/drawingml/2006/table">
            <a:tbl>
              <a:tblPr/>
              <a:tblGrid>
                <a:gridCol w="393840"/>
                <a:gridCol w="2887560"/>
                <a:gridCol w="2236680"/>
                <a:gridCol w="323568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項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内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状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１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Scop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本提案のねら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内容確認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２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Referenc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参照文献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内容確認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３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Definit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専門用語の定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内容確認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４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Abbreviations and acronym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略称の説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内容確認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５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nvent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要求レベル（必須、推奨）の説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内容確認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Overvie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システム概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サイネージアーキテクチャ図の改訂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７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Requirem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要件（基本要件、端末要件等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詳細記述を作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Functional architecture and key featur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要件（機能、アプリケーション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要求内容を確認し、詳細記述を作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Metada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要件（メタデータ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メタデータそのものを「推奨」レベルとし、詳細記述を作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１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erminal device interfac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端末インターフェース（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HDMI</a:t>
                      </a:r>
                      <a:r>
                        <a:rPr b="0" lang="ja-JP" sz="12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等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詳細記述を検討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１１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Middlew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ソフトウェアアップグレード要件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削除予定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0" name="Text Box 157"/>
          <p:cNvSpPr/>
          <p:nvPr/>
        </p:nvSpPr>
        <p:spPr>
          <a:xfrm>
            <a:off x="179280" y="4508640"/>
            <a:ext cx="8964720" cy="12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検討のポイント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SC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標準システムガイドラインに沿った内容となっていることを確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SC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システムガイドブックからユースケースを参照（モバイル連携等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メタデータは例示程度で記述（メタデータ利用を認めるが、形式等は規定せず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e3e3ff"/>
                </a:solidFill>
                <a:latin typeface="Arial"/>
              </a:rPr>
              <a:t>今後のスケジュール</a:t>
            </a:r>
            <a:endParaRPr b="0" lang="en-US" sz="24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272" name=""/>
          <p:cNvGraphicFramePr/>
          <p:nvPr/>
        </p:nvGraphicFramePr>
        <p:xfrm>
          <a:off x="324000" y="1197000"/>
          <a:ext cx="8383320" cy="3927600"/>
        </p:xfrm>
        <a:graphic>
          <a:graphicData uri="http://schemas.openxmlformats.org/drawingml/2006/table">
            <a:tbl>
              <a:tblPr/>
              <a:tblGrid>
                <a:gridCol w="1726920"/>
                <a:gridCol w="1719360"/>
                <a:gridCol w="822240"/>
                <a:gridCol w="824040"/>
                <a:gridCol w="822240"/>
                <a:gridCol w="822240"/>
                <a:gridCol w="824040"/>
                <a:gridCol w="8222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１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１１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１２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１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２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３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４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５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59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3" name="AutoShape 45"/>
          <p:cNvSpPr/>
          <p:nvPr/>
        </p:nvSpPr>
        <p:spPr>
          <a:xfrm>
            <a:off x="3276720" y="1628640"/>
            <a:ext cx="215640" cy="216000"/>
          </a:xfrm>
          <a:prstGeom prst="triangle">
            <a:avLst>
              <a:gd name="adj" fmla="val 50000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46"/>
          <p:cNvSpPr/>
          <p:nvPr/>
        </p:nvSpPr>
        <p:spPr>
          <a:xfrm>
            <a:off x="2916360" y="1844640"/>
            <a:ext cx="187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TU-T SG16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会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AutoShape 55"/>
          <p:cNvSpPr/>
          <p:nvPr/>
        </p:nvSpPr>
        <p:spPr>
          <a:xfrm>
            <a:off x="5724360" y="1628640"/>
            <a:ext cx="216000" cy="216000"/>
          </a:xfrm>
          <a:prstGeom prst="triangle">
            <a:avLst>
              <a:gd name="adj" fmla="val 50000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56"/>
          <p:cNvSpPr/>
          <p:nvPr/>
        </p:nvSpPr>
        <p:spPr>
          <a:xfrm>
            <a:off x="5435640" y="1844640"/>
            <a:ext cx="187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PTV-GS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会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AutoShape 57"/>
          <p:cNvSpPr/>
          <p:nvPr/>
        </p:nvSpPr>
        <p:spPr>
          <a:xfrm>
            <a:off x="1403280" y="4365720"/>
            <a:ext cx="216000" cy="215640"/>
          </a:xfrm>
          <a:prstGeom prst="triangle">
            <a:avLst>
              <a:gd name="adj" fmla="val 50000"/>
            </a:avLst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58"/>
          <p:cNvSpPr/>
          <p:nvPr/>
        </p:nvSpPr>
        <p:spPr>
          <a:xfrm>
            <a:off x="324000" y="4653000"/>
            <a:ext cx="187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寄書検討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5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回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Line 59"/>
          <p:cNvSpPr/>
          <p:nvPr/>
        </p:nvSpPr>
        <p:spPr>
          <a:xfrm flipH="1">
            <a:off x="324000" y="4581360"/>
            <a:ext cx="107928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AutoShape 61"/>
          <p:cNvSpPr/>
          <p:nvPr/>
        </p:nvSpPr>
        <p:spPr>
          <a:xfrm>
            <a:off x="1677960" y="3778200"/>
            <a:ext cx="216000" cy="216000"/>
          </a:xfrm>
          <a:prstGeom prst="triangle">
            <a:avLst>
              <a:gd name="adj" fmla="val 50000"/>
            </a:avLst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Line 62"/>
          <p:cNvSpPr/>
          <p:nvPr/>
        </p:nvSpPr>
        <p:spPr>
          <a:xfrm>
            <a:off x="1501920" y="4354560"/>
            <a:ext cx="2966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Line 63"/>
          <p:cNvSpPr/>
          <p:nvPr/>
        </p:nvSpPr>
        <p:spPr>
          <a:xfrm flipV="1">
            <a:off x="1797120" y="400500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64"/>
          <p:cNvSpPr/>
          <p:nvPr/>
        </p:nvSpPr>
        <p:spPr>
          <a:xfrm>
            <a:off x="1990800" y="3797280"/>
            <a:ext cx="187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SC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内レビュ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AutoShape 65"/>
          <p:cNvSpPr/>
          <p:nvPr/>
        </p:nvSpPr>
        <p:spPr>
          <a:xfrm>
            <a:off x="1832040" y="3201840"/>
            <a:ext cx="216000" cy="216000"/>
          </a:xfrm>
          <a:prstGeom prst="triangle">
            <a:avLst>
              <a:gd name="adj" fmla="val 50000"/>
            </a:avLst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Line 66"/>
          <p:cNvSpPr/>
          <p:nvPr/>
        </p:nvSpPr>
        <p:spPr>
          <a:xfrm>
            <a:off x="1779480" y="3790800"/>
            <a:ext cx="15876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Line 67"/>
          <p:cNvSpPr/>
          <p:nvPr/>
        </p:nvSpPr>
        <p:spPr>
          <a:xfrm flipV="1">
            <a:off x="1927080" y="3424320"/>
            <a:ext cx="11160" cy="3650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68"/>
          <p:cNvSpPr/>
          <p:nvPr/>
        </p:nvSpPr>
        <p:spPr>
          <a:xfrm>
            <a:off x="2036880" y="3317760"/>
            <a:ext cx="116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TC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審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AutoShape 69"/>
          <p:cNvSpPr/>
          <p:nvPr/>
        </p:nvSpPr>
        <p:spPr>
          <a:xfrm>
            <a:off x="2233440" y="2638440"/>
            <a:ext cx="216000" cy="216000"/>
          </a:xfrm>
          <a:prstGeom prst="triangle">
            <a:avLst>
              <a:gd name="adj" fmla="val 50000"/>
            </a:avLst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Line 70"/>
          <p:cNvSpPr/>
          <p:nvPr/>
        </p:nvSpPr>
        <p:spPr>
          <a:xfrm>
            <a:off x="1925640" y="3206880"/>
            <a:ext cx="44136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Line 71"/>
          <p:cNvSpPr/>
          <p:nvPr/>
        </p:nvSpPr>
        <p:spPr>
          <a:xfrm flipV="1">
            <a:off x="2354400" y="2865600"/>
            <a:ext cx="0" cy="3283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72"/>
          <p:cNvSpPr/>
          <p:nvPr/>
        </p:nvSpPr>
        <p:spPr>
          <a:xfrm>
            <a:off x="2446200" y="2838600"/>
            <a:ext cx="153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寄書締め切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AutoShape 73"/>
          <p:cNvSpPr/>
          <p:nvPr/>
        </p:nvSpPr>
        <p:spPr>
          <a:xfrm rot="18994800">
            <a:off x="2397240" y="2184120"/>
            <a:ext cx="563400" cy="245880"/>
          </a:xfrm>
          <a:prstGeom prst="rightArrow">
            <a:avLst>
              <a:gd name="adj1" fmla="val 50000"/>
              <a:gd name="adj2" fmla="val 57284"/>
            </a:avLst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Line 74"/>
          <p:cNvSpPr/>
          <p:nvPr/>
        </p:nvSpPr>
        <p:spPr>
          <a:xfrm flipH="1">
            <a:off x="3563640" y="4581360"/>
            <a:ext cx="7556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AutoShape 75"/>
          <p:cNvSpPr/>
          <p:nvPr/>
        </p:nvSpPr>
        <p:spPr>
          <a:xfrm>
            <a:off x="4319640" y="4365720"/>
            <a:ext cx="216000" cy="215640"/>
          </a:xfrm>
          <a:prstGeom prst="triangle">
            <a:avLst>
              <a:gd name="adj" fmla="val 50000"/>
            </a:avLst>
          </a:prstGeom>
          <a:solidFill>
            <a:srgbClr val="cc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76"/>
          <p:cNvSpPr/>
          <p:nvPr/>
        </p:nvSpPr>
        <p:spPr>
          <a:xfrm>
            <a:off x="3425760" y="2230560"/>
            <a:ext cx="195480" cy="2280960"/>
          </a:xfrm>
          <a:prstGeom prst="line">
            <a:avLst/>
          </a:prstGeom>
          <a:ln w="19080">
            <a:solidFill>
              <a:srgbClr val="ffffff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77"/>
          <p:cNvSpPr/>
          <p:nvPr/>
        </p:nvSpPr>
        <p:spPr>
          <a:xfrm>
            <a:off x="4572000" y="4329000"/>
            <a:ext cx="15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残件フィック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AutoShape 79"/>
          <p:cNvSpPr/>
          <p:nvPr/>
        </p:nvSpPr>
        <p:spPr>
          <a:xfrm>
            <a:off x="4597560" y="3778200"/>
            <a:ext cx="215640" cy="216000"/>
          </a:xfrm>
          <a:prstGeom prst="triangle">
            <a:avLst>
              <a:gd name="adj" fmla="val 50000"/>
            </a:avLst>
          </a:prstGeom>
          <a:solidFill>
            <a:srgbClr val="cc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Line 80"/>
          <p:cNvSpPr/>
          <p:nvPr/>
        </p:nvSpPr>
        <p:spPr>
          <a:xfrm>
            <a:off x="4421160" y="4354560"/>
            <a:ext cx="2970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Line 81"/>
          <p:cNvSpPr/>
          <p:nvPr/>
        </p:nvSpPr>
        <p:spPr>
          <a:xfrm flipV="1">
            <a:off x="4716360" y="400500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AutoShape 82"/>
          <p:cNvSpPr/>
          <p:nvPr/>
        </p:nvSpPr>
        <p:spPr>
          <a:xfrm>
            <a:off x="4751280" y="3201840"/>
            <a:ext cx="216000" cy="216000"/>
          </a:xfrm>
          <a:prstGeom prst="triangle">
            <a:avLst>
              <a:gd name="adj" fmla="val 50000"/>
            </a:avLst>
          </a:prstGeom>
          <a:solidFill>
            <a:srgbClr val="cc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Line 83"/>
          <p:cNvSpPr/>
          <p:nvPr/>
        </p:nvSpPr>
        <p:spPr>
          <a:xfrm>
            <a:off x="4699080" y="3790800"/>
            <a:ext cx="15876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Line 84"/>
          <p:cNvSpPr/>
          <p:nvPr/>
        </p:nvSpPr>
        <p:spPr>
          <a:xfrm flipV="1">
            <a:off x="4846680" y="3424320"/>
            <a:ext cx="11160" cy="3650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AutoShape 85"/>
          <p:cNvSpPr/>
          <p:nvPr/>
        </p:nvSpPr>
        <p:spPr>
          <a:xfrm>
            <a:off x="5153040" y="2638440"/>
            <a:ext cx="216000" cy="216000"/>
          </a:xfrm>
          <a:prstGeom prst="triangle">
            <a:avLst>
              <a:gd name="adj" fmla="val 50000"/>
            </a:avLst>
          </a:prstGeom>
          <a:solidFill>
            <a:srgbClr val="cc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Line 86"/>
          <p:cNvSpPr/>
          <p:nvPr/>
        </p:nvSpPr>
        <p:spPr>
          <a:xfrm>
            <a:off x="4844880" y="3206880"/>
            <a:ext cx="44136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Line 87"/>
          <p:cNvSpPr/>
          <p:nvPr/>
        </p:nvSpPr>
        <p:spPr>
          <a:xfrm flipV="1">
            <a:off x="5273640" y="2865600"/>
            <a:ext cx="0" cy="3283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AutoShape 88"/>
          <p:cNvSpPr/>
          <p:nvPr/>
        </p:nvSpPr>
        <p:spPr>
          <a:xfrm rot="18513600">
            <a:off x="5239440" y="2289960"/>
            <a:ext cx="455760" cy="209520"/>
          </a:xfrm>
          <a:prstGeom prst="rightArrow">
            <a:avLst>
              <a:gd name="adj1" fmla="val 50000"/>
              <a:gd name="adj2" fmla="val 54381"/>
            </a:avLst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AutoShape 89"/>
          <p:cNvSpPr/>
          <p:nvPr/>
        </p:nvSpPr>
        <p:spPr>
          <a:xfrm>
            <a:off x="8172360" y="1665360"/>
            <a:ext cx="216000" cy="216000"/>
          </a:xfrm>
          <a:prstGeom prst="triangle">
            <a:avLst>
              <a:gd name="adj" fmla="val 50000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90"/>
          <p:cNvSpPr/>
          <p:nvPr/>
        </p:nvSpPr>
        <p:spPr>
          <a:xfrm>
            <a:off x="7848720" y="1881360"/>
            <a:ext cx="11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TU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勧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AutoShape 92"/>
          <p:cNvSpPr/>
          <p:nvPr/>
        </p:nvSpPr>
        <p:spPr>
          <a:xfrm rot="16200000">
            <a:off x="1636920" y="3951000"/>
            <a:ext cx="144360" cy="2700360"/>
          </a:xfrm>
          <a:custGeom>
            <a:avLst/>
            <a:gdLst>
              <a:gd name="textAreaLeft" fmla="*/ 92160 w 144360"/>
              <a:gd name="textAreaRight" fmla="*/ 144360 w 144360"/>
              <a:gd name="textAreaTop" fmla="*/ 70200 h 2700360"/>
              <a:gd name="textAreaBottom" fmla="*/ 2630160 h 270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93"/>
          <p:cNvSpPr/>
          <p:nvPr/>
        </p:nvSpPr>
        <p:spPr>
          <a:xfrm>
            <a:off x="179280" y="540864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1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月会合までの対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AutoShape 94"/>
          <p:cNvSpPr/>
          <p:nvPr/>
        </p:nvSpPr>
        <p:spPr>
          <a:xfrm rot="16200000">
            <a:off x="4914000" y="3986640"/>
            <a:ext cx="142920" cy="2700360"/>
          </a:xfrm>
          <a:custGeom>
            <a:avLst/>
            <a:gdLst>
              <a:gd name="textAreaLeft" fmla="*/ 91440 w 142920"/>
              <a:gd name="textAreaRight" fmla="*/ 143280 w 142920"/>
              <a:gd name="textAreaTop" fmla="*/ 70200 h 2700360"/>
              <a:gd name="textAreaBottom" fmla="*/ 2630160 h 270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95"/>
          <p:cNvSpPr/>
          <p:nvPr/>
        </p:nvSpPr>
        <p:spPr>
          <a:xfrm>
            <a:off x="3708360" y="5445000"/>
            <a:ext cx="32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想定され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月会合までの対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/>
          </p:nvPr>
        </p:nvSpPr>
        <p:spPr>
          <a:xfrm>
            <a:off x="178920" y="799920"/>
            <a:ext cx="8713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012.2 :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次回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PTV-GSI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対応予定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.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章「端末アーキテクチャ」の完成度向上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Arial"/>
              </a:rPr>
              <a:t>アーキテクチャブロック図の追加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Arial"/>
              </a:rPr>
              <a:t>個別機能の説明文の追加・修正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章「端末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/F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」の説明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国内での展開が想定されるユースケースの拡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Arial"/>
              </a:rPr>
              <a:t>新規：モバイル端末とサイネージ端末間の連携サービス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Arial"/>
              </a:rPr>
              <a:t>充実：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.3</a:t>
            </a:r>
            <a:r>
              <a:rPr b="0" lang="ja-JP" sz="1600" spc="-1" strike="noStrike">
                <a:solidFill>
                  <a:srgbClr val="ffffff"/>
                </a:solidFill>
                <a:latin typeface="Arial"/>
              </a:rPr>
              <a:t>緊急通知サービス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 I.4</a:t>
            </a:r>
            <a:r>
              <a:rPr b="0" lang="ja-JP" sz="1600" spc="-1" strike="noStrike">
                <a:solidFill>
                  <a:srgbClr val="ffffff"/>
                </a:solidFill>
                <a:latin typeface="Arial"/>
              </a:rPr>
              <a:t>視聴者情報活用、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.5</a:t>
            </a:r>
            <a:r>
              <a:rPr b="0" lang="ja-JP" sz="1600" spc="-1" strike="noStrike">
                <a:solidFill>
                  <a:srgbClr val="ffffff"/>
                </a:solidFill>
                <a:latin typeface="Arial"/>
              </a:rPr>
              <a:t>インタラクション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1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章「ミドルウェア」の削除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Arial"/>
              </a:rPr>
              <a:t>現在まで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SC</a:t>
            </a:r>
            <a:r>
              <a:rPr b="0" lang="ja-JP" sz="1600" spc="-1" strike="noStrike">
                <a:solidFill>
                  <a:srgbClr val="ffffff"/>
                </a:solidFill>
                <a:latin typeface="Arial"/>
              </a:rPr>
              <a:t>側で特に提案なし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012.5: SG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１６会合予定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勧告草案と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SC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ガイドラインの整合再確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Arial"/>
              </a:rPr>
              <a:t>特に７章「要求条件」、８章「機能アーキテクチャ」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pe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、６章「概要」の完成度向上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Arial"/>
              </a:rPr>
              <a:t>主に文言の追加修正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既存関連勧告の調査とリンク情報の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G16</a:t>
            </a:r>
            <a:r>
              <a:rPr b="0" lang="ja-JP" sz="1600" spc="-1" strike="noStrike">
                <a:solidFill>
                  <a:srgbClr val="ffffff"/>
                </a:solidFill>
                <a:latin typeface="Arial"/>
              </a:rPr>
              <a:t>マルチメディア系、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G13</a:t>
            </a:r>
            <a:r>
              <a:rPr b="0" lang="ja-JP" sz="1600" spc="-1" strike="noStrike">
                <a:solidFill>
                  <a:srgbClr val="ffffff"/>
                </a:solidFill>
                <a:latin typeface="Arial"/>
              </a:rPr>
              <a:t>配信系勧告群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エディトリアルチェック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e3e3ff"/>
                </a:solidFill>
                <a:latin typeface="Arial"/>
              </a:rPr>
              <a:t>補足：</a:t>
            </a:r>
            <a:r>
              <a:rPr b="0" lang="en-US" sz="2400" spc="-1" strike="noStrike">
                <a:solidFill>
                  <a:srgbClr val="e3e3ff"/>
                </a:solidFill>
                <a:latin typeface="Arial"/>
              </a:rPr>
              <a:t>H.FDSS</a:t>
            </a:r>
            <a:r>
              <a:rPr b="0" lang="ja-JP" sz="2400" spc="-1" strike="noStrike">
                <a:solidFill>
                  <a:srgbClr val="e3e3ff"/>
                </a:solidFill>
                <a:latin typeface="Arial"/>
              </a:rPr>
              <a:t>勧告化までの主な残務について（エディター案）</a:t>
            </a:r>
            <a:endParaRPr b="0" lang="en-US" sz="24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2T14:44:43Z</dcterms:created>
  <dc:creator>M.Kubota</dc:creator>
  <dc:description/>
  <dc:language>en-US</dc:language>
  <cp:lastModifiedBy>frptr6162</cp:lastModifiedBy>
  <dcterms:modified xsi:type="dcterms:W3CDTF">2011-11-08T05:22:17Z</dcterms:modified>
  <cp:revision>218</cp:revision>
  <dc:subject/>
  <dc:title>DSCシステム部会</dc:title>
</cp:coreProperties>
</file>