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21BBA82-6E22-4254-8095-0A01588967F0}" type="slidenum"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D9A8CCB-5434-4804-B51B-5EC2EEF843E0}" type="slidenum"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igital-signage.jp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6279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80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281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282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2C0A640-482E-4A79-B196-0735370662B6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309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デジタルサイネージコンソーシア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4720" y="2060640"/>
            <a:ext cx="2138040" cy="26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75"/>
          <p:cNvSpPr/>
          <p:nvPr/>
        </p:nvSpPr>
        <p:spPr>
          <a:xfrm rot="16200000">
            <a:off x="3348000" y="585720"/>
            <a:ext cx="2448000" cy="9144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8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9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1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59A2183-7C94-44DC-B8F7-C4CF55944907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6" descr="logo_dsc"/>
          <p:cNvPicPr/>
          <p:nvPr/>
        </p:nvPicPr>
        <p:blipFill>
          <a:blip r:embed="rId2"/>
          <a:stretch/>
        </p:blipFill>
        <p:spPr>
          <a:xfrm>
            <a:off x="644400" y="225360"/>
            <a:ext cx="97488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8" descr="DIGITAL SIGNAGE"/>
          <p:cNvPicPr/>
          <p:nvPr/>
        </p:nvPicPr>
        <p:blipFill>
          <a:blip r:embed="rId3"/>
          <a:stretch/>
        </p:blipFill>
        <p:spPr>
          <a:xfrm>
            <a:off x="0" y="1665360"/>
            <a:ext cx="9144000" cy="2273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29"/>
          <p:cNvSpPr/>
          <p:nvPr/>
        </p:nvSpPr>
        <p:spPr>
          <a:xfrm>
            <a:off x="4932360" y="580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l Signage Consort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640" y="2457000"/>
            <a:ext cx="685008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ロケーション部会　報告</a:t>
            </a:r>
            <a:endParaRPr b="1" lang="en-US" sz="4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44280" y="468936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ISCO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hikuse Tak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スライド番号プレースホルダ 1"/>
          <p:cNvSpPr/>
          <p:nvPr/>
        </p:nvSpPr>
        <p:spPr>
          <a:xfrm>
            <a:off x="7029360" y="6529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B44-0610-40FF-A46A-665B3DE451AC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4"/>
          <p:cNvSpPr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正方形/長方形 5"/>
          <p:cNvSpPr/>
          <p:nvPr/>
        </p:nvSpPr>
        <p:spPr>
          <a:xfrm>
            <a:off x="0" y="1714680"/>
            <a:ext cx="5000760" cy="307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ロケーション部会報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619360" cy="23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</a:rPr>
              <a:t>新しい活動（前回に報告）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ルチスクリーン・マーケティング部会もしく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のデジタルサイネージ・デバイスやロケーションだけでなく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ゆるスクリーンに向けたデジタルサイネージビジネスの在り方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討議・検討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次世代デジタルサイネージ検討部会もしく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ブレット・コンピュータ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向け映像配信サービスを利用し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新しいデジタルサイネージの在り方と運営モデルの検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</a:rPr>
              <a:t>次世代デジタルサイネージの検討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ジタルサイネージとスマホへ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型配信の連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部会によりプロトコルを含めたシステムモデルを検討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</a:rPr>
              <a:t>提案：システム部会とロケ部会のコラボ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1124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型配信のサービスモデル検討にロケ部会が参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24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部会とロケ部会の合同部会会議を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24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部会へロケーション部会の予算の一部を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検証システムの構築費用に充てていただ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</a:rPr>
              <a:t>デジタルサイネージ白書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2012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</a:rPr>
              <a:t>の制作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ロケ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部会が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中心的役割を担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白書に執筆時の問題点を考慮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販売価格の再検討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コスト回収よりも広く頒布することを優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事務局の負担軽減のため、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編集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外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近日中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事務局とミーティングを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1" descr="logo_dsc"/>
          <p:cNvPicPr/>
          <p:nvPr/>
        </p:nvPicPr>
        <p:blipFill>
          <a:blip r:embed="rId1"/>
          <a:stretch/>
        </p:blipFill>
        <p:spPr>
          <a:xfrm>
            <a:off x="3500280" y="2179800"/>
            <a:ext cx="2079720" cy="254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2:30:18Z</dcterms:created>
  <dc:creator>Cisco Systems, Inc.</dc:creator>
  <dc:description/>
  <dc:language>en-US</dc:language>
  <cp:lastModifiedBy>fujisaki</cp:lastModifiedBy>
  <cp:lastPrinted>1999-01-27T00:54:54Z</cp:lastPrinted>
  <dcterms:modified xsi:type="dcterms:W3CDTF">2011-11-08T01:16:49Z</dcterms:modified>
  <cp:revision>19</cp:revision>
  <dc:subject>Guide for Creating Powerpoint Presentations</dc:subject>
  <dc:title>DSCロケーション部会　報告</dc:title>
</cp:coreProperties>
</file>