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27000" y="254160"/>
            <a:ext cx="11150640" cy="245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7000" y="2781360"/>
            <a:ext cx="5448240" cy="608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82980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marL="121212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marL="1594440" indent="-60084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marL="197676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marL="235908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marL="235908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marL="235908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27000" y="254160"/>
            <a:ext cx="11150640" cy="245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27000" y="2781360"/>
            <a:ext cx="11150640" cy="608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65160" indent="-69840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marL="1409760" indent="-69840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marL="1854360" indent="-69876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marL="2298600" indent="-69840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marL="2743200" indent="-69840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marL="2743200" indent="-69840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marL="2743200" indent="-69840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27000" y="254160"/>
            <a:ext cx="11150640" cy="245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86600" y="2781360"/>
            <a:ext cx="4991040" cy="608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781560" indent="-56556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6556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marL="1501920" indent="-56592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marL="1861560" indent="-56556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marL="2221920" indent="-56556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marL="2221920" indent="-56556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marL="2221920" indent="-56556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927000" y="2781360"/>
            <a:ext cx="5448240" cy="608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82980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marL="121212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marL="1594440" indent="-60084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marL="197676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marL="235908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marL="235908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marL="235908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927000" y="254160"/>
            <a:ext cx="11150640" cy="245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27000" y="254160"/>
            <a:ext cx="11150640" cy="245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27000" y="2781360"/>
            <a:ext cx="11150640" cy="608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949320" indent="-71172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344960" indent="-71172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740600" indent="-71208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2136240" indent="-71208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2531520" indent="-71172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2531520" indent="-71172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2531520" indent="-71172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27000" y="2971440"/>
            <a:ext cx="111506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27000" y="1257120"/>
            <a:ext cx="11150640" cy="722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970560" indent="-72792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375200" indent="-72792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779840" indent="-72792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2184120" indent="-72792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2588400" indent="-72792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2588400" indent="-72792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2588400" indent="-72792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27000" y="7365960"/>
            <a:ext cx="111506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27000" y="7365960"/>
            <a:ext cx="111506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27000" y="1536480"/>
            <a:ext cx="669312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7000" y="4901760"/>
            <a:ext cx="669312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27000" y="1536480"/>
            <a:ext cx="669312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7000" y="4901760"/>
            <a:ext cx="669312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33440" y="254160"/>
            <a:ext cx="10350720" cy="245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4965840"/>
            <a:ext cx="13501800" cy="0"/>
          </a:xfrm>
          <a:prstGeom prst="line">
            <a:avLst/>
          </a:prstGeom>
          <a:ln w="255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3381480" y="4176720"/>
            <a:ext cx="87627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プロダクション部会</a:t>
            </a:r>
            <a:r>
              <a:rPr b="0" lang="en-US" sz="48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 </a:t>
            </a:r>
            <a:r>
              <a:rPr b="0" lang="ja-JP" sz="48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部会報告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600200" y="2989440"/>
            <a:ext cx="1927080" cy="219996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10193400" y="9075600"/>
            <a:ext cx="3111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2011.11.8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952560"/>
            <a:ext cx="13501800" cy="0"/>
          </a:xfrm>
          <a:prstGeom prst="line">
            <a:avLst/>
          </a:prstGeom>
          <a:ln w="255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165240" y="187200"/>
            <a:ext cx="609480" cy="6955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973080" y="247680"/>
            <a:ext cx="11557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部会・</a:t>
            </a:r>
            <a:r>
              <a:rPr b="0" lang="en-US" sz="36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WG</a:t>
            </a:r>
            <a:r>
              <a:rPr b="0" lang="zh-CN" sz="36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活動報告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820800" y="3981600"/>
            <a:ext cx="10375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■ 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日時：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26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日（水）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16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：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00 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〜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18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：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00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2293920" y="2163600"/>
            <a:ext cx="83948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【第</a:t>
            </a:r>
            <a:r>
              <a:rPr b="0" lang="en-US" sz="42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35</a:t>
            </a:r>
            <a:r>
              <a:rPr b="0" lang="zh-CN" sz="42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回　プロダクション部会】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820800" y="5037120"/>
            <a:ext cx="5448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■ 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場所：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DSC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事務局　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2F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820800" y="6089760"/>
            <a:ext cx="1289052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■ 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内容：来月以降のコンテンツ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WG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方針について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　　　　</a:t>
            </a:r>
            <a:r>
              <a:rPr b="0" lang="zh-CN" sz="24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・アップトゥデイトな先端事例の収集、取材を行う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　　　　　 ・切り口はソーシャルメディア連動型、タッチパネル型、体験型、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　　　　　    広告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/</a:t>
            </a:r>
            <a:r>
              <a:rPr b="0" lang="zh-CN" sz="24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販促型の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つ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952560"/>
            <a:ext cx="13501800" cy="0"/>
          </a:xfrm>
          <a:prstGeom prst="line">
            <a:avLst/>
          </a:prstGeom>
          <a:ln w="255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65240" y="187200"/>
            <a:ext cx="609480" cy="6955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973080" y="247680"/>
            <a:ext cx="11557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次回の活動予定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820800" y="3981600"/>
            <a:ext cx="10375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■ 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日時：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11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24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日（木）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16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：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00 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〜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18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：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00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>
            <a:off x="2293920" y="2163600"/>
            <a:ext cx="83948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【第</a:t>
            </a:r>
            <a:r>
              <a:rPr b="0" lang="en-US" sz="42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36</a:t>
            </a:r>
            <a:r>
              <a:rPr b="0" lang="zh-CN" sz="42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回　プロダクション部会】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>
            <a:off x="820800" y="5037120"/>
            <a:ext cx="5448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■ 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場所：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DSC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事務局　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2F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820800" y="6089760"/>
            <a:ext cx="12890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■ 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内容：最新の事例収集および議論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amazaki hajime</cp:lastModifiedBy>
  <dcterms:modified xsi:type="dcterms:W3CDTF">2011-11-08T02:59:06Z</dcterms:modified>
  <cp:revision>1</cp:revision>
  <dc:subject/>
  <dc:title>PowerPoint プレゼンテーション</dc:title>
</cp:coreProperties>
</file>