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1AB8-328E-4FD1-91AF-53BAB8B8C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6312-70A7-4815-BE0D-233BC6CCA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1782-E466-436B-94CD-CEB621157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F2C8-6AC0-441D-9B35-D63258D69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AB39-3744-49FC-BD6E-1C553F257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7AE1-CA03-407B-BF03-0ACD5604C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0BD6-EC4F-41E4-B04A-2AB484B19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D6A8-E6D3-4439-A817-164F4B4BF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3FEB-134D-4434-919C-7B2453B19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DD33-84B8-407F-A274-16999BEAA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0AA4-A253-4B57-A68D-8A103ED75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F4BC-55C9-42A7-B960-0EEF65F75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956-3EEE-4ADB-AF40-ED23D244E1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78D1-A2BB-47D6-A82B-3A93ADCEFE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378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ＭＳ Ｐゴシック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2011.3.9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国際標準戦略部会</a:t>
            </a: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6E1D-881A-4740-9A99-8D79B77210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国際標準戦略部会　第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回開催（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011. 2.2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803160"/>
            <a:ext cx="850716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回部会の検討内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（１）標準化の進め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仕様検討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○総務省委託事業成果の「標準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仕様案」を部会として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 レビュー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情報収集・発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○次年度以降の標準仕様に関する情報発信を議論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（２）その他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白書の執筆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２．トピックス（総務省の動きなど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１）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ユーザーズフォーラム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UF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」（次回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/16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3:0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との連携強化のために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UF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会合との合同開催の可能性を検討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ｻｻｷﾓﾘﾋｺ</cp:lastModifiedBy>
  <dcterms:modified xsi:type="dcterms:W3CDTF">2011-03-09T03:06:07Z</dcterms:modified>
  <cp:revision>50</cp:revision>
  <dc:subject/>
  <dc:title>２.目的</dc:title>
</cp:coreProperties>
</file>