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D7C-0F25-4D4B-8A3A-AC2C9223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76B-4299-45BC-9FCB-117CCD12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F2F-D713-4E80-8087-97D7AC50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9C5-E564-42DB-A4BD-B472C6AC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8B3-4102-48A9-ACD7-B5C1245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87E-6D83-4ADC-89C0-BEE16AF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C62-2A84-483D-AAE5-4913E17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F19-AA30-44C6-B0B2-0281C523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EF5-7545-445B-B98C-E065957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B67-2D0D-4616-91A4-EA6ACF6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C87-6FD2-4A92-89DD-7DA2A58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B70-B0D5-4782-8C2A-0AE118D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C1DB-7FC0-419F-A5DA-7DD43CE3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gital-signage.jp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1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1.png"/><Relationship Id="rId23" Type="http://schemas.openxmlformats.org/officeDocument/2006/relationships/image" Target="../media/image15.png"/><Relationship Id="rId24" Type="http://schemas.openxmlformats.org/officeDocument/2006/relationships/image" Target="../media/image11.png"/><Relationship Id="rId25" Type="http://schemas.openxmlformats.org/officeDocument/2006/relationships/image" Target="../media/image15.png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87720" y="3517920"/>
            <a:ext cx="474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23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デジタルサイネージコンソーシア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プロダクション部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68360" y="2205000"/>
            <a:ext cx="82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第ニ回デジタルサイネージアワード　実施概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デジタルサイネージコンソーシア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3429000"/>
            <a:ext cx="10713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正方形/長方形 1"/>
          <p:cNvGrpSpPr/>
          <p:nvPr/>
        </p:nvGrpSpPr>
        <p:grpSpPr>
          <a:xfrm>
            <a:off x="85680" y="1017720"/>
            <a:ext cx="8869320" cy="993600"/>
            <a:chOff x="85680" y="1017720"/>
            <a:chExt cx="8869320" cy="993600"/>
          </a:xfrm>
        </p:grpSpPr>
        <p:pic>
          <p:nvPicPr>
            <p:cNvPr id="173" name="正方形/長方形 1" descr=""/>
            <p:cNvPicPr/>
            <p:nvPr/>
          </p:nvPicPr>
          <p:blipFill>
            <a:blip r:embed="rId1"/>
            <a:stretch/>
          </p:blipFill>
          <p:spPr>
            <a:xfrm>
              <a:off x="85680" y="1017720"/>
              <a:ext cx="88693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5920" y="1044360"/>
              <a:ext cx="8813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正方形/長方形 2"/>
          <p:cNvGrpSpPr/>
          <p:nvPr/>
        </p:nvGrpSpPr>
        <p:grpSpPr>
          <a:xfrm>
            <a:off x="85680" y="2077920"/>
            <a:ext cx="8869320" cy="993600"/>
            <a:chOff x="85680" y="2077920"/>
            <a:chExt cx="8869320" cy="993600"/>
          </a:xfrm>
        </p:grpSpPr>
        <p:pic>
          <p:nvPicPr>
            <p:cNvPr id="176" name="正方形/長方形 2" descr=""/>
            <p:cNvPicPr/>
            <p:nvPr/>
          </p:nvPicPr>
          <p:blipFill>
            <a:blip r:embed="rId2"/>
            <a:stretch/>
          </p:blipFill>
          <p:spPr>
            <a:xfrm>
              <a:off x="85680" y="2077920"/>
              <a:ext cx="88693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15920" y="2106360"/>
              <a:ext cx="88138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正方形/長方形 3"/>
          <p:cNvGrpSpPr/>
          <p:nvPr/>
        </p:nvGrpSpPr>
        <p:grpSpPr>
          <a:xfrm>
            <a:off x="85680" y="3157560"/>
            <a:ext cx="8869320" cy="992160"/>
            <a:chOff x="85680" y="3157560"/>
            <a:chExt cx="8869320" cy="992160"/>
          </a:xfrm>
        </p:grpSpPr>
        <p:pic>
          <p:nvPicPr>
            <p:cNvPr id="179" name="正方形/長方形 3" descr=""/>
            <p:cNvPicPr/>
            <p:nvPr/>
          </p:nvPicPr>
          <p:blipFill>
            <a:blip r:embed="rId3"/>
            <a:stretch/>
          </p:blipFill>
          <p:spPr>
            <a:xfrm>
              <a:off x="85680" y="3157560"/>
              <a:ext cx="88693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5920" y="3186360"/>
              <a:ext cx="8813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正方形/長方形 4"/>
          <p:cNvGrpSpPr/>
          <p:nvPr/>
        </p:nvGrpSpPr>
        <p:grpSpPr>
          <a:xfrm>
            <a:off x="85680" y="4235400"/>
            <a:ext cx="8869320" cy="993600"/>
            <a:chOff x="85680" y="4235400"/>
            <a:chExt cx="8869320" cy="993600"/>
          </a:xfrm>
        </p:grpSpPr>
        <p:pic>
          <p:nvPicPr>
            <p:cNvPr id="182" name="正方形/長方形 4" descr=""/>
            <p:cNvPicPr/>
            <p:nvPr/>
          </p:nvPicPr>
          <p:blipFill>
            <a:blip r:embed="rId4"/>
            <a:stretch/>
          </p:blipFill>
          <p:spPr>
            <a:xfrm>
              <a:off x="85680" y="4235400"/>
              <a:ext cx="88693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15920" y="4267080"/>
              <a:ext cx="88138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正方形/長方形 8"/>
          <p:cNvGrpSpPr/>
          <p:nvPr/>
        </p:nvGrpSpPr>
        <p:grpSpPr>
          <a:xfrm>
            <a:off x="268200" y="1108080"/>
            <a:ext cx="1567080" cy="804600"/>
            <a:chOff x="268200" y="1108080"/>
            <a:chExt cx="1567080" cy="804600"/>
          </a:xfrm>
        </p:grpSpPr>
        <p:pic>
          <p:nvPicPr>
            <p:cNvPr id="185" name="正方形/長方形 8" descr=""/>
            <p:cNvPicPr/>
            <p:nvPr/>
          </p:nvPicPr>
          <p:blipFill>
            <a:blip r:embed="rId5"/>
            <a:stretch/>
          </p:blipFill>
          <p:spPr>
            <a:xfrm>
              <a:off x="268200" y="1108080"/>
              <a:ext cx="156708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70000" y="1109520"/>
              <a:ext cx="156528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コンテンツ部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正方形/長方形 9"/>
          <p:cNvGrpSpPr/>
          <p:nvPr/>
        </p:nvGrpSpPr>
        <p:grpSpPr>
          <a:xfrm>
            <a:off x="268200" y="2168640"/>
            <a:ext cx="1567080" cy="811080"/>
            <a:chOff x="268200" y="2168640"/>
            <a:chExt cx="1567080" cy="811080"/>
          </a:xfrm>
        </p:grpSpPr>
        <p:pic>
          <p:nvPicPr>
            <p:cNvPr id="188" name="正方形/長方形 9" descr=""/>
            <p:cNvPicPr/>
            <p:nvPr/>
          </p:nvPicPr>
          <p:blipFill>
            <a:blip r:embed="rId6"/>
            <a:stretch/>
          </p:blipFill>
          <p:spPr>
            <a:xfrm>
              <a:off x="268200" y="2168640"/>
              <a:ext cx="1567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70000" y="2171880"/>
              <a:ext cx="15652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ロケーション部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正方形/長方形 10"/>
          <p:cNvGrpSpPr/>
          <p:nvPr/>
        </p:nvGrpSpPr>
        <p:grpSpPr>
          <a:xfrm>
            <a:off x="268200" y="3254400"/>
            <a:ext cx="1567080" cy="804600"/>
            <a:chOff x="268200" y="3254400"/>
            <a:chExt cx="1567080" cy="804600"/>
          </a:xfrm>
        </p:grpSpPr>
        <p:pic>
          <p:nvPicPr>
            <p:cNvPr id="191" name="正方形/長方形 10" descr=""/>
            <p:cNvPicPr/>
            <p:nvPr/>
          </p:nvPicPr>
          <p:blipFill>
            <a:blip r:embed="rId7"/>
            <a:stretch/>
          </p:blipFill>
          <p:spPr>
            <a:xfrm>
              <a:off x="268200" y="3256920"/>
              <a:ext cx="1567080" cy="8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0000" y="3254400"/>
              <a:ext cx="156528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システム部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正方形/長方形 11"/>
          <p:cNvGrpSpPr/>
          <p:nvPr/>
        </p:nvGrpSpPr>
        <p:grpSpPr>
          <a:xfrm>
            <a:off x="268200" y="4340160"/>
            <a:ext cx="1567080" cy="803520"/>
            <a:chOff x="268200" y="4340160"/>
            <a:chExt cx="1567080" cy="803520"/>
          </a:xfrm>
        </p:grpSpPr>
        <p:pic>
          <p:nvPicPr>
            <p:cNvPr id="194" name="正方形/長方形 11" descr=""/>
            <p:cNvPicPr/>
            <p:nvPr/>
          </p:nvPicPr>
          <p:blipFill>
            <a:blip r:embed="rId8"/>
            <a:stretch/>
          </p:blipFill>
          <p:spPr>
            <a:xfrm>
              <a:off x="268200" y="4343040"/>
              <a:ext cx="156708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0000" y="4340160"/>
              <a:ext cx="156528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優秀賞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正方形/長方形 12"/>
          <p:cNvGrpSpPr/>
          <p:nvPr/>
        </p:nvGrpSpPr>
        <p:grpSpPr>
          <a:xfrm>
            <a:off x="4432320" y="1139760"/>
            <a:ext cx="2139840" cy="755640"/>
            <a:chOff x="4432320" y="1139760"/>
            <a:chExt cx="2139840" cy="755640"/>
          </a:xfrm>
        </p:grpSpPr>
        <p:pic>
          <p:nvPicPr>
            <p:cNvPr id="197" name="正方形/長方形 12" descr=""/>
            <p:cNvPicPr/>
            <p:nvPr/>
          </p:nvPicPr>
          <p:blipFill>
            <a:blip r:embed="rId9"/>
            <a:stretch/>
          </p:blipFill>
          <p:spPr>
            <a:xfrm>
              <a:off x="4432320" y="1139760"/>
              <a:ext cx="21398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451400" y="1158840"/>
              <a:ext cx="20988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正方形/長方形 13"/>
          <p:cNvGrpSpPr/>
          <p:nvPr/>
        </p:nvGrpSpPr>
        <p:grpSpPr>
          <a:xfrm>
            <a:off x="6669000" y="1139760"/>
            <a:ext cx="2140200" cy="755640"/>
            <a:chOff x="6669000" y="1139760"/>
            <a:chExt cx="2140200" cy="755640"/>
          </a:xfrm>
        </p:grpSpPr>
        <p:pic>
          <p:nvPicPr>
            <p:cNvPr id="200" name="正方形/長方形 13" descr=""/>
            <p:cNvPicPr/>
            <p:nvPr/>
          </p:nvPicPr>
          <p:blipFill>
            <a:blip r:embed="rId10"/>
            <a:stretch/>
          </p:blipFill>
          <p:spPr>
            <a:xfrm>
              <a:off x="6669000" y="1139760"/>
              <a:ext cx="2140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689880" y="1158840"/>
              <a:ext cx="20970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正方形/長方形 14"/>
          <p:cNvGrpSpPr/>
          <p:nvPr/>
        </p:nvGrpSpPr>
        <p:grpSpPr>
          <a:xfrm>
            <a:off x="2193840" y="1139760"/>
            <a:ext cx="2140200" cy="755640"/>
            <a:chOff x="2193840" y="1139760"/>
            <a:chExt cx="2140200" cy="755640"/>
          </a:xfrm>
        </p:grpSpPr>
        <p:pic>
          <p:nvPicPr>
            <p:cNvPr id="203" name="正方形/長方形 14" descr=""/>
            <p:cNvPicPr/>
            <p:nvPr/>
          </p:nvPicPr>
          <p:blipFill>
            <a:blip r:embed="rId11"/>
            <a:stretch/>
          </p:blipFill>
          <p:spPr>
            <a:xfrm>
              <a:off x="2193840" y="1139760"/>
              <a:ext cx="2140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14720" y="1158840"/>
              <a:ext cx="20970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正方形/長方形 15"/>
          <p:cNvGrpSpPr/>
          <p:nvPr/>
        </p:nvGrpSpPr>
        <p:grpSpPr>
          <a:xfrm>
            <a:off x="4432320" y="2200320"/>
            <a:ext cx="2139840" cy="755640"/>
            <a:chOff x="4432320" y="2200320"/>
            <a:chExt cx="2139840" cy="755640"/>
          </a:xfrm>
        </p:grpSpPr>
        <p:pic>
          <p:nvPicPr>
            <p:cNvPr id="206" name="正方形/長方形 15" descr=""/>
            <p:cNvPicPr/>
            <p:nvPr/>
          </p:nvPicPr>
          <p:blipFill>
            <a:blip r:embed="rId12"/>
            <a:stretch/>
          </p:blipFill>
          <p:spPr>
            <a:xfrm>
              <a:off x="4432320" y="2200320"/>
              <a:ext cx="21398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451400" y="2221200"/>
              <a:ext cx="20988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正方形/長方形 16"/>
          <p:cNvGrpSpPr/>
          <p:nvPr/>
        </p:nvGrpSpPr>
        <p:grpSpPr>
          <a:xfrm>
            <a:off x="6669000" y="2200320"/>
            <a:ext cx="2140200" cy="755640"/>
            <a:chOff x="6669000" y="2200320"/>
            <a:chExt cx="2140200" cy="755640"/>
          </a:xfrm>
        </p:grpSpPr>
        <p:pic>
          <p:nvPicPr>
            <p:cNvPr id="209" name="正方形/長方形 16" descr=""/>
            <p:cNvPicPr/>
            <p:nvPr/>
          </p:nvPicPr>
          <p:blipFill>
            <a:blip r:embed="rId13"/>
            <a:stretch/>
          </p:blipFill>
          <p:spPr>
            <a:xfrm>
              <a:off x="6669000" y="2200320"/>
              <a:ext cx="2140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689880" y="2221200"/>
              <a:ext cx="20970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正方形/長方形 17"/>
          <p:cNvGrpSpPr/>
          <p:nvPr/>
        </p:nvGrpSpPr>
        <p:grpSpPr>
          <a:xfrm>
            <a:off x="2193840" y="2200320"/>
            <a:ext cx="2140200" cy="755640"/>
            <a:chOff x="2193840" y="2200320"/>
            <a:chExt cx="2140200" cy="755640"/>
          </a:xfrm>
        </p:grpSpPr>
        <p:pic>
          <p:nvPicPr>
            <p:cNvPr id="212" name="正方形/長方形 17" descr=""/>
            <p:cNvPicPr/>
            <p:nvPr/>
          </p:nvPicPr>
          <p:blipFill>
            <a:blip r:embed="rId14"/>
            <a:stretch/>
          </p:blipFill>
          <p:spPr>
            <a:xfrm>
              <a:off x="2193840" y="2200320"/>
              <a:ext cx="2140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214720" y="2221200"/>
              <a:ext cx="20970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正方形/長方形 18"/>
          <p:cNvGrpSpPr/>
          <p:nvPr/>
        </p:nvGrpSpPr>
        <p:grpSpPr>
          <a:xfrm>
            <a:off x="4432320" y="3278160"/>
            <a:ext cx="2139840" cy="757440"/>
            <a:chOff x="4432320" y="3278160"/>
            <a:chExt cx="2139840" cy="757440"/>
          </a:xfrm>
        </p:grpSpPr>
        <p:pic>
          <p:nvPicPr>
            <p:cNvPr id="215" name="正方形/長方形 18" descr=""/>
            <p:cNvPicPr/>
            <p:nvPr/>
          </p:nvPicPr>
          <p:blipFill>
            <a:blip r:embed="rId15"/>
            <a:stretch/>
          </p:blipFill>
          <p:spPr>
            <a:xfrm>
              <a:off x="4432320" y="3278160"/>
              <a:ext cx="213984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451400" y="3302280"/>
              <a:ext cx="2098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正方形/長方形 19"/>
          <p:cNvGrpSpPr/>
          <p:nvPr/>
        </p:nvGrpSpPr>
        <p:grpSpPr>
          <a:xfrm>
            <a:off x="6669000" y="3278160"/>
            <a:ext cx="2140200" cy="757440"/>
            <a:chOff x="6669000" y="3278160"/>
            <a:chExt cx="2140200" cy="757440"/>
          </a:xfrm>
        </p:grpSpPr>
        <p:pic>
          <p:nvPicPr>
            <p:cNvPr id="218" name="正方形/長方形 19" descr=""/>
            <p:cNvPicPr/>
            <p:nvPr/>
          </p:nvPicPr>
          <p:blipFill>
            <a:blip r:embed="rId16"/>
            <a:stretch/>
          </p:blipFill>
          <p:spPr>
            <a:xfrm>
              <a:off x="6669000" y="3278160"/>
              <a:ext cx="21402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89880" y="3302280"/>
              <a:ext cx="20970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正方形/長方形 20"/>
          <p:cNvGrpSpPr/>
          <p:nvPr/>
        </p:nvGrpSpPr>
        <p:grpSpPr>
          <a:xfrm>
            <a:off x="2193840" y="3278160"/>
            <a:ext cx="2140200" cy="757440"/>
            <a:chOff x="2193840" y="3278160"/>
            <a:chExt cx="2140200" cy="757440"/>
          </a:xfrm>
        </p:grpSpPr>
        <p:pic>
          <p:nvPicPr>
            <p:cNvPr id="221" name="正方形/長方形 20" descr=""/>
            <p:cNvPicPr/>
            <p:nvPr/>
          </p:nvPicPr>
          <p:blipFill>
            <a:blip r:embed="rId17"/>
            <a:stretch/>
          </p:blipFill>
          <p:spPr>
            <a:xfrm>
              <a:off x="2193840" y="3278160"/>
              <a:ext cx="21402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214720" y="3302280"/>
              <a:ext cx="20970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正方形/長方形 21"/>
          <p:cNvGrpSpPr/>
          <p:nvPr/>
        </p:nvGrpSpPr>
        <p:grpSpPr>
          <a:xfrm>
            <a:off x="2193840" y="4357800"/>
            <a:ext cx="2140200" cy="755640"/>
            <a:chOff x="2193840" y="4357800"/>
            <a:chExt cx="2140200" cy="755640"/>
          </a:xfrm>
        </p:grpSpPr>
        <p:pic>
          <p:nvPicPr>
            <p:cNvPr id="224" name="正方形/長方形 21" descr=""/>
            <p:cNvPicPr/>
            <p:nvPr/>
          </p:nvPicPr>
          <p:blipFill>
            <a:blip r:embed="rId18"/>
            <a:stretch/>
          </p:blipFill>
          <p:spPr>
            <a:xfrm>
              <a:off x="2193840" y="4357800"/>
              <a:ext cx="2140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14720" y="4381560"/>
              <a:ext cx="20970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正方形/長方形 22"/>
          <p:cNvGrpSpPr/>
          <p:nvPr/>
        </p:nvGrpSpPr>
        <p:grpSpPr>
          <a:xfrm>
            <a:off x="4743360" y="4340160"/>
            <a:ext cx="1564920" cy="803520"/>
            <a:chOff x="4743360" y="4340160"/>
            <a:chExt cx="1564920" cy="803520"/>
          </a:xfrm>
        </p:grpSpPr>
        <p:pic>
          <p:nvPicPr>
            <p:cNvPr id="227" name="正方形/長方形 22" descr=""/>
            <p:cNvPicPr/>
            <p:nvPr/>
          </p:nvPicPr>
          <p:blipFill>
            <a:blip r:embed="rId19"/>
            <a:stretch/>
          </p:blipFill>
          <p:spPr>
            <a:xfrm>
              <a:off x="4743360" y="4343040"/>
              <a:ext cx="156348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744800" y="4340160"/>
              <a:ext cx="156348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特別賞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正方形/長方形 23"/>
          <p:cNvGrpSpPr/>
          <p:nvPr/>
        </p:nvGrpSpPr>
        <p:grpSpPr>
          <a:xfrm>
            <a:off x="6669000" y="4357800"/>
            <a:ext cx="2140200" cy="755640"/>
            <a:chOff x="6669000" y="4357800"/>
            <a:chExt cx="2140200" cy="755640"/>
          </a:xfrm>
        </p:grpSpPr>
        <p:pic>
          <p:nvPicPr>
            <p:cNvPr id="230" name="正方形/長方形 23" descr=""/>
            <p:cNvPicPr/>
            <p:nvPr/>
          </p:nvPicPr>
          <p:blipFill>
            <a:blip r:embed="rId20"/>
            <a:stretch/>
          </p:blipFill>
          <p:spPr>
            <a:xfrm>
              <a:off x="6669000" y="4357800"/>
              <a:ext cx="2140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689880" y="4381560"/>
              <a:ext cx="20970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正方形/長方形 24"/>
          <p:cNvGrpSpPr/>
          <p:nvPr/>
        </p:nvGrpSpPr>
        <p:grpSpPr>
          <a:xfrm>
            <a:off x="85680" y="5321160"/>
            <a:ext cx="8869320" cy="987480"/>
            <a:chOff x="85680" y="5321160"/>
            <a:chExt cx="8869320" cy="987480"/>
          </a:xfrm>
        </p:grpSpPr>
        <p:pic>
          <p:nvPicPr>
            <p:cNvPr id="233" name="正方形/長方形 24" descr=""/>
            <p:cNvPicPr/>
            <p:nvPr/>
          </p:nvPicPr>
          <p:blipFill>
            <a:blip r:embed="rId21"/>
            <a:stretch/>
          </p:blipFill>
          <p:spPr>
            <a:xfrm>
              <a:off x="85680" y="5321160"/>
              <a:ext cx="886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5920" y="5346360"/>
              <a:ext cx="88138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正方形/長方形 25"/>
          <p:cNvGrpSpPr/>
          <p:nvPr/>
        </p:nvGrpSpPr>
        <p:grpSpPr>
          <a:xfrm>
            <a:off x="268200" y="5418000"/>
            <a:ext cx="1567080" cy="804960"/>
            <a:chOff x="268200" y="5418000"/>
            <a:chExt cx="1567080" cy="804960"/>
          </a:xfrm>
        </p:grpSpPr>
        <p:pic>
          <p:nvPicPr>
            <p:cNvPr id="236" name="正方形/長方形 25" descr=""/>
            <p:cNvPicPr/>
            <p:nvPr/>
          </p:nvPicPr>
          <p:blipFill>
            <a:blip r:embed="rId22"/>
            <a:stretch/>
          </p:blipFill>
          <p:spPr>
            <a:xfrm>
              <a:off x="268200" y="5419440"/>
              <a:ext cx="156708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0000" y="5418000"/>
              <a:ext cx="156528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インテル賞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正方形/長方形 26"/>
          <p:cNvGrpSpPr/>
          <p:nvPr/>
        </p:nvGrpSpPr>
        <p:grpSpPr>
          <a:xfrm>
            <a:off x="2193840" y="5443560"/>
            <a:ext cx="2140200" cy="749160"/>
            <a:chOff x="2193840" y="5443560"/>
            <a:chExt cx="2140200" cy="749160"/>
          </a:xfrm>
        </p:grpSpPr>
        <p:pic>
          <p:nvPicPr>
            <p:cNvPr id="239" name="正方形/長方形 26" descr=""/>
            <p:cNvPicPr/>
            <p:nvPr/>
          </p:nvPicPr>
          <p:blipFill>
            <a:blip r:embed="rId23"/>
            <a:stretch/>
          </p:blipFill>
          <p:spPr>
            <a:xfrm>
              <a:off x="2193840" y="5443560"/>
              <a:ext cx="2140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214720" y="5462280"/>
              <a:ext cx="20970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正方形/長方形 27"/>
          <p:cNvGrpSpPr/>
          <p:nvPr/>
        </p:nvGrpSpPr>
        <p:grpSpPr>
          <a:xfrm>
            <a:off x="4743360" y="5418000"/>
            <a:ext cx="1564920" cy="804960"/>
            <a:chOff x="4743360" y="5418000"/>
            <a:chExt cx="1564920" cy="804960"/>
          </a:xfrm>
        </p:grpSpPr>
        <p:pic>
          <p:nvPicPr>
            <p:cNvPr id="242" name="正方形/長方形 27" descr=""/>
            <p:cNvPicPr/>
            <p:nvPr/>
          </p:nvPicPr>
          <p:blipFill>
            <a:blip r:embed="rId24"/>
            <a:stretch/>
          </p:blipFill>
          <p:spPr>
            <a:xfrm>
              <a:off x="4743360" y="5419440"/>
              <a:ext cx="156348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744800" y="5418000"/>
              <a:ext cx="156348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ffffff"/>
                  </a:solidFill>
                  <a:latin typeface="ＭＳ Ｐゴシック"/>
                </a:rPr>
                <a:t>アドビ賞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正方形/長方形 28"/>
          <p:cNvGrpSpPr/>
          <p:nvPr/>
        </p:nvGrpSpPr>
        <p:grpSpPr>
          <a:xfrm>
            <a:off x="6669000" y="5443560"/>
            <a:ext cx="2140200" cy="749160"/>
            <a:chOff x="6669000" y="5443560"/>
            <a:chExt cx="2140200" cy="749160"/>
          </a:xfrm>
        </p:grpSpPr>
        <p:pic>
          <p:nvPicPr>
            <p:cNvPr id="245" name="正方形/長方形 28" descr=""/>
            <p:cNvPicPr/>
            <p:nvPr/>
          </p:nvPicPr>
          <p:blipFill>
            <a:blip r:embed="rId25"/>
            <a:stretch/>
          </p:blipFill>
          <p:spPr>
            <a:xfrm>
              <a:off x="6669000" y="5443560"/>
              <a:ext cx="2140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689880" y="5462280"/>
              <a:ext cx="20970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テキスト ボックス 2"/>
          <p:cNvSpPr/>
          <p:nvPr/>
        </p:nvSpPr>
        <p:spPr>
          <a:xfrm>
            <a:off x="2880360" y="1216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乃村工藝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アイテ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30"/>
          <p:cNvSpPr/>
          <p:nvPr/>
        </p:nvSpPr>
        <p:spPr>
          <a:xfrm>
            <a:off x="2187720" y="158760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漢字ファンタジア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37"/>
          <p:cNvSpPr/>
          <p:nvPr/>
        </p:nvSpPr>
        <p:spPr>
          <a:xfrm>
            <a:off x="2783520" y="233532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共同通信社　・　大日本印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32"/>
          <p:cNvSpPr/>
          <p:nvPr/>
        </p:nvSpPr>
        <p:spPr>
          <a:xfrm>
            <a:off x="2187720" y="266868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社内サイネージからノウハウ蓄積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39"/>
          <p:cNvSpPr/>
          <p:nvPr/>
        </p:nvSpPr>
        <p:spPr>
          <a:xfrm>
            <a:off x="2676960" y="3403440"/>
            <a:ext cx="114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日本電信電話　・　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アイテ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34"/>
          <p:cNvSpPr/>
          <p:nvPr/>
        </p:nvSpPr>
        <p:spPr>
          <a:xfrm>
            <a:off x="2187720" y="373680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ひかりサイネ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41"/>
          <p:cNvSpPr/>
          <p:nvPr/>
        </p:nvSpPr>
        <p:spPr>
          <a:xfrm>
            <a:off x="2849760" y="448308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丸紅テクノシステ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36"/>
          <p:cNvSpPr/>
          <p:nvPr/>
        </p:nvSpPr>
        <p:spPr>
          <a:xfrm>
            <a:off x="2187720" y="481176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羽田空港　太陽光</a:t>
            </a:r>
            <a:r>
              <a:rPr b="0" lang="en-US" sz="800" spc="-1" strike="noStrike">
                <a:solidFill>
                  <a:srgbClr val="262673"/>
                </a:solidFill>
                <a:latin typeface="Arial"/>
              </a:rPr>
              <a:t>ECO</a:t>
            </a: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見える化サイネ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43"/>
          <p:cNvSpPr/>
          <p:nvPr/>
        </p:nvSpPr>
        <p:spPr>
          <a:xfrm>
            <a:off x="2952720" y="5548320"/>
            <a:ext cx="59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トライポッ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38"/>
          <p:cNvSpPr/>
          <p:nvPr/>
        </p:nvSpPr>
        <p:spPr>
          <a:xfrm>
            <a:off x="2200320" y="5778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</a:t>
            </a:r>
            <a:r>
              <a:rPr b="0" lang="en-US" sz="800" spc="-1" strike="noStrike">
                <a:solidFill>
                  <a:srgbClr val="262673"/>
                </a:solidFill>
                <a:latin typeface="Arial"/>
              </a:rPr>
              <a:t>2010</a:t>
            </a: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サンフレッチェ広島開幕イベン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ｲｵﾝﾓｰﾙ広島府中ｿﾚｲﾕｸﾘｽﾏｽ「のぞくとｻﾝﾀ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45"/>
          <p:cNvSpPr/>
          <p:nvPr/>
        </p:nvSpPr>
        <p:spPr>
          <a:xfrm>
            <a:off x="5209200" y="1266840"/>
            <a:ext cx="59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バスキュー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40"/>
          <p:cNvSpPr/>
          <p:nvPr/>
        </p:nvSpPr>
        <p:spPr>
          <a:xfrm>
            <a:off x="4441680" y="1587600"/>
            <a:ext cx="212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</a:t>
            </a:r>
            <a:r>
              <a:rPr b="0" lang="en-US" sz="800" spc="-1" strike="noStrike">
                <a:solidFill>
                  <a:srgbClr val="262673"/>
                </a:solidFill>
                <a:latin typeface="Arial"/>
              </a:rPr>
              <a:t>TOKYO GIRLS PARADE</a:t>
            </a: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47"/>
          <p:cNvSpPr/>
          <p:nvPr/>
        </p:nvSpPr>
        <p:spPr>
          <a:xfrm>
            <a:off x="5312160" y="233532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ユニ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42"/>
          <p:cNvSpPr/>
          <p:nvPr/>
        </p:nvSpPr>
        <p:spPr>
          <a:xfrm>
            <a:off x="4441680" y="2668680"/>
            <a:ext cx="212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ユニカビジョンシングル「音を楽しむ」篇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49"/>
          <p:cNvSpPr/>
          <p:nvPr/>
        </p:nvSpPr>
        <p:spPr>
          <a:xfrm>
            <a:off x="4903200" y="33656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ピーディーシー　・　シティーバンク銀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ght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44"/>
          <p:cNvSpPr/>
          <p:nvPr/>
        </p:nvSpPr>
        <p:spPr>
          <a:xfrm>
            <a:off x="4441680" y="3632040"/>
            <a:ext cx="21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最先端タッチパネルサイネージを活かし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スマートバンキング銀行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51"/>
          <p:cNvSpPr/>
          <p:nvPr/>
        </p:nvSpPr>
        <p:spPr>
          <a:xfrm>
            <a:off x="7514640" y="126684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オリコ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46"/>
          <p:cNvSpPr/>
          <p:nvPr/>
        </p:nvSpPr>
        <p:spPr>
          <a:xfrm>
            <a:off x="6680160" y="158760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アサヒ飲料　一番ドリップ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53"/>
          <p:cNvSpPr/>
          <p:nvPr/>
        </p:nvSpPr>
        <p:spPr>
          <a:xfrm>
            <a:off x="7513920" y="2278080"/>
            <a:ext cx="455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バンテ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ソニー・コンピューター・エンターテインメン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48"/>
          <p:cNvSpPr/>
          <p:nvPr/>
        </p:nvSpPr>
        <p:spPr>
          <a:xfrm>
            <a:off x="6680160" y="2565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　「新型</a:t>
            </a:r>
            <a:r>
              <a:rPr b="0" lang="en-US" sz="800" spc="-1" strike="noStrike">
                <a:solidFill>
                  <a:srgbClr val="262673"/>
                </a:solidFill>
                <a:latin typeface="Arial"/>
              </a:rPr>
              <a:t>PS3×</a:t>
            </a: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機動戦士ガンダム戦記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発売試遊イベント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55"/>
          <p:cNvSpPr/>
          <p:nvPr/>
        </p:nvSpPr>
        <p:spPr>
          <a:xfrm>
            <a:off x="7536600" y="340344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ビー・ユー・ジ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50"/>
          <p:cNvSpPr/>
          <p:nvPr/>
        </p:nvSpPr>
        <p:spPr>
          <a:xfrm>
            <a:off x="6680160" y="361800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953735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「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udience. tag</a:t>
            </a: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有機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極小ウェアラブルデジタルサイネ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57"/>
          <p:cNvSpPr/>
          <p:nvPr/>
        </p:nvSpPr>
        <p:spPr>
          <a:xfrm>
            <a:off x="7514640" y="446724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立教大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52"/>
          <p:cNvSpPr/>
          <p:nvPr/>
        </p:nvSpPr>
        <p:spPr>
          <a:xfrm>
            <a:off x="6680160" y="481176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262673"/>
                </a:solidFill>
                <a:latin typeface="Arial"/>
              </a:rPr>
              <a:t>縦シネマ「檜原村滝めぐり」「再発見ヨコハマ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59"/>
          <p:cNvSpPr/>
          <p:nvPr/>
        </p:nvSpPr>
        <p:spPr>
          <a:xfrm>
            <a:off x="7520040" y="55483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ピクル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54"/>
          <p:cNvSpPr/>
          <p:nvPr/>
        </p:nvSpPr>
        <p:spPr>
          <a:xfrm>
            <a:off x="6680160" y="5892840"/>
            <a:ext cx="21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weetBubbles(</a:t>
            </a: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ツイートバブルス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ご参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第一回デジタルサイネージアワード　受賞一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144360" y="-360"/>
            <a:ext cx="86040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ご参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第一回デジタルサイネージアワード　特設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正方形/長方形 20"/>
          <p:cNvSpPr/>
          <p:nvPr/>
        </p:nvSpPr>
        <p:spPr>
          <a:xfrm>
            <a:off x="141120" y="836640"/>
            <a:ext cx="90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cc66"/>
                </a:solidFill>
                <a:latin typeface="Times New Roman"/>
              </a:rPr>
              <a:t>■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第一回アワード受賞作品発表サイト　　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digital-signage.jp/award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10750" r="0" b="4376"/>
          <a:stretch/>
        </p:blipFill>
        <p:spPr>
          <a:xfrm>
            <a:off x="571680" y="1484280"/>
            <a:ext cx="80326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762012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2920" y="1989000"/>
            <a:ext cx="45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募集期間　：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42920" y="2479680"/>
            <a:ext cx="86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応募条件　：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以降に、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デジタルサイネージ作品を制作した企業・教育機関・個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　　　　　　　　  （発表・未発表問わず）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第一回デジタルサイネージアワード受賞作品除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824760" y="3191040"/>
            <a:ext cx="542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応募方法　：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公開のデジタルサイネージアワードキャンペーンサイト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　　　　　　　専用フォームからエントリーを受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"/>
          <p:cNvSpPr/>
          <p:nvPr/>
        </p:nvSpPr>
        <p:spPr>
          <a:xfrm>
            <a:off x="142920" y="3855960"/>
            <a:ext cx="87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各　　賞　  ：　ゴールド賞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作品）、シルバー賞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作品）、ブロンズ賞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作品）、特別賞（１作品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　　　　　　　スポンサー賞</a:t>
            </a:r>
            <a:r>
              <a:rPr b="1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スポンサー賞は、協賛企業により表彰作品数が変動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108000" y="451944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審査方法　：　デジタルサイネージコンソーシアム会員投票、一般投票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）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142920" y="5081760"/>
            <a:ext cx="85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表 彰 式　 ：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デジタルサイネージジャパン</a:t>
            </a:r>
            <a:r>
              <a:rPr b="1" lang="en-US" sz="10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会場内で実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142920" y="5621400"/>
            <a:ext cx="52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主　　催　  ：　デジタルサイネージコンソーシア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国内のデジタルサイネージ事例の中から、優秀な作品を選出し、表彰することにより、業界関係者へのデジタルサイネージの啓蒙とデジタルサイネージ市場の認知度向上を目的として開催いた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コネクタ 47"/>
          <p:cNvSpPr/>
          <p:nvPr/>
        </p:nvSpPr>
        <p:spPr>
          <a:xfrm>
            <a:off x="179280" y="2406600"/>
            <a:ext cx="8699760" cy="1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線コネクタ 47"/>
          <p:cNvSpPr/>
          <p:nvPr/>
        </p:nvSpPr>
        <p:spPr>
          <a:xfrm>
            <a:off x="179280" y="311472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47"/>
          <p:cNvSpPr/>
          <p:nvPr/>
        </p:nvSpPr>
        <p:spPr>
          <a:xfrm>
            <a:off x="179280" y="380700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線コネクタ 47"/>
          <p:cNvSpPr/>
          <p:nvPr/>
        </p:nvSpPr>
        <p:spPr>
          <a:xfrm>
            <a:off x="179280" y="4468680"/>
            <a:ext cx="8699760" cy="1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コネクタ 47"/>
          <p:cNvSpPr/>
          <p:nvPr/>
        </p:nvSpPr>
        <p:spPr>
          <a:xfrm>
            <a:off x="179280" y="500076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線コネクタ 47"/>
          <p:cNvSpPr/>
          <p:nvPr/>
        </p:nvSpPr>
        <p:spPr>
          <a:xfrm>
            <a:off x="179280" y="552456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線コネクタ 47"/>
          <p:cNvSpPr/>
          <p:nvPr/>
        </p:nvSpPr>
        <p:spPr>
          <a:xfrm>
            <a:off x="193680" y="6024600"/>
            <a:ext cx="869940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492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639880"/>
            <a:ext cx="4343400" cy="330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86400" y="2662200"/>
            <a:ext cx="2717640" cy="3733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デジタルサイネージアワード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募集サイトは下記の通り公開いた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50720" y="1938240"/>
            <a:ext cx="4658400" cy="36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digital-signage.jp/award/201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492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デジタルサイネージアワード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投票サイトは下記の通り公開いた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今回のアワードでは一般の方も投票できるようにいた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027160"/>
            <a:ext cx="2438280" cy="185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0" b="29657"/>
          <a:stretch/>
        </p:blipFill>
        <p:spPr>
          <a:xfrm>
            <a:off x="3933720" y="2000160"/>
            <a:ext cx="4953240" cy="441972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757600" y="2914560"/>
            <a:ext cx="106668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4120" y="4029120"/>
            <a:ext cx="180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投票については募集サイトにて告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492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応募作品の紹介ページは下記の通りとなり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927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00600" y="2757600"/>
            <a:ext cx="2362320" cy="182880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28720" y="4514760"/>
            <a:ext cx="480960" cy="514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24160" y="4514760"/>
            <a:ext cx="480960" cy="514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00520" y="4524480"/>
            <a:ext cx="480960" cy="514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5600" y="4524480"/>
            <a:ext cx="480960" cy="514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71960" y="4524480"/>
            <a:ext cx="480960" cy="514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876320"/>
            <a:ext cx="5943600" cy="3429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56200" y="5759280"/>
            <a:ext cx="744120" cy="489960"/>
          </a:xfrm>
          <a:prstGeom prst="rect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今回は本サイト上での動画掲載は行なわず、画像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枚と紹介文での訴求を行なっていただき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補足説明として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や動画コンテンツへのリンクを掲載いた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492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投票については専用フォームから受付を致します（一般投票可）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投票後は事務局にて集計を行ない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09480" y="2590920"/>
            <a:ext cx="3124440" cy="2619360"/>
            <a:chOff x="609480" y="2590920"/>
            <a:chExt cx="3124440" cy="26193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609480" y="2606040"/>
              <a:ext cx="3124440" cy="260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337120" y="3056400"/>
              <a:ext cx="1139400" cy="966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5000" y="3985200"/>
              <a:ext cx="231840" cy="271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2280" y="3985200"/>
              <a:ext cx="231840" cy="271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20200" y="3990240"/>
              <a:ext cx="231840" cy="271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07480" y="3990240"/>
              <a:ext cx="231840" cy="271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5400" y="3990240"/>
              <a:ext cx="231840" cy="271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360" y="2590920"/>
              <a:ext cx="2867400" cy="18122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rcRect l="0" t="0" r="0" b="29995"/>
          <a:stretch/>
        </p:blipFill>
        <p:spPr>
          <a:xfrm>
            <a:off x="6029280" y="1886040"/>
            <a:ext cx="1347840" cy="3265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0" t="67031" r="0" b="0"/>
          <a:stretch/>
        </p:blipFill>
        <p:spPr>
          <a:xfrm>
            <a:off x="6043680" y="5014800"/>
            <a:ext cx="1347840" cy="153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929200" y="1785960"/>
            <a:ext cx="1600200" cy="48006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3429000"/>
            <a:ext cx="19051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03720" y="5105520"/>
            <a:ext cx="907560" cy="9464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投票は一人○票とし、ゴールド賞・シルバー賞・ブロンド賞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投票の多い順に決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別賞は学生作品の中から１つを選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スポンサー賞は各スポンサーより選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492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デジタルサイネージアワード告知につい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4000" y="2209680"/>
            <a:ext cx="135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媒体への告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2360" y="2624040"/>
            <a:ext cx="21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紙媒体への掲載協力依頼及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系でご協力いただける企業様にバナー掲載のご協力を要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120" y="32432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告知用ポスターの製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24560" y="3646440"/>
            <a:ext cx="36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製作系の各学校等に校内展示の協力依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勉強会等で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参加企業様への配布（社内その他にて展示のご協力を要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2240" y="4419720"/>
            <a:ext cx="17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アワードロゴの作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720" y="4822920"/>
            <a:ext cx="2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デジタルサイネージアワードのブランド強化のため、表彰時や受賞者サイト配布用バナーなど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使用するためのバナーを製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3720" y="307656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43243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492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第二回デジタルサイネージアワード　実施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4200" y="838080"/>
            <a:ext cx="8715600" cy="765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実施スケジュール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880" y="2043000"/>
            <a:ext cx="21337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3600" y="2043000"/>
            <a:ext cx="21337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67320" y="2043000"/>
            <a:ext cx="21333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0680" y="2043000"/>
            <a:ext cx="21337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1320" y="21337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514600"/>
            <a:ext cx="85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4920" y="21337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21337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6160" y="21337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" y="26668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募集サイトリリ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28600" y="268128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募集期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7880" y="3048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媒体掲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195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35672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5080" y="3429000"/>
            <a:ext cx="1003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ロゴ／ポスター製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809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11120" y="3657600"/>
            <a:ext cx="729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ポスター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92080" y="3957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後援／スポンサー調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110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772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1520" y="4648320"/>
            <a:ext cx="36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投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4968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06280" y="4830840"/>
            <a:ext cx="36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選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538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120" y="4338720"/>
            <a:ext cx="10036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取りまと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投票サイトオープ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00440" y="55148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3720" y="5257800"/>
            <a:ext cx="91224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授賞式準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当日進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レゼンター調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司会者調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彰状／盾準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2480" y="5529240"/>
            <a:ext cx="6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9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24160" y="4743360"/>
            <a:ext cx="63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賞サイ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オープ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-108000" y="44280"/>
            <a:ext cx="762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ご参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第一回デジタルサイネージアワ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49840" y="765000"/>
            <a:ext cx="329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募集期間　：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日～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989360" y="1154160"/>
            <a:ext cx="377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応募条件　：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6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日までに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度以上公開もしくは、デモを行ったデジタルサイネージ作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　　　　　　　　 　　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前回のプレアワード受賞作品を除く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267200" y="1758960"/>
            <a:ext cx="522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応募方法　：　デジタルサイネージアワードキャンペーンサイトの専用フォームからエントリーを受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142920" y="2192400"/>
            <a:ext cx="69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各　　賞　  ：　コンテンツ部門 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作品）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/ 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システム部門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作品） 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/ 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ロケーション部門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作品）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　　　　　　　　　　特別賞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作品）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優秀賞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作品）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スポンサー賞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作品）　　　　　　　　　　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968760" y="2854440"/>
            <a:ext cx="58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審査方法　：　デジタルサイネージ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コンソーシアム会員による投票形式（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日～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281160" y="3271680"/>
            <a:ext cx="859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表 彰 式　 ：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日（水）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14:20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15:2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デジタルサイネージジャパン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会場内特設ステー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599040" y="4567320"/>
            <a:ext cx="3166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主　　催　  ：　デジタルサイネージコンソーシア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線コネクタ 47"/>
          <p:cNvSpPr/>
          <p:nvPr/>
        </p:nvSpPr>
        <p:spPr>
          <a:xfrm>
            <a:off x="179280" y="110016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コネクタ 48"/>
          <p:cNvSpPr/>
          <p:nvPr/>
        </p:nvSpPr>
        <p:spPr>
          <a:xfrm>
            <a:off x="179280" y="170820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線コネクタ 49"/>
          <p:cNvSpPr/>
          <p:nvPr/>
        </p:nvSpPr>
        <p:spPr>
          <a:xfrm>
            <a:off x="179280" y="2131920"/>
            <a:ext cx="8699760" cy="1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線コネクタ 50"/>
          <p:cNvSpPr/>
          <p:nvPr/>
        </p:nvSpPr>
        <p:spPr>
          <a:xfrm>
            <a:off x="179280" y="275436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線コネクタ 51"/>
          <p:cNvSpPr/>
          <p:nvPr/>
        </p:nvSpPr>
        <p:spPr>
          <a:xfrm>
            <a:off x="179280" y="3200400"/>
            <a:ext cx="8699760" cy="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線コネクタ 52"/>
          <p:cNvSpPr/>
          <p:nvPr/>
        </p:nvSpPr>
        <p:spPr>
          <a:xfrm>
            <a:off x="179280" y="3670200"/>
            <a:ext cx="8699760" cy="1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線コネクタ 53"/>
          <p:cNvSpPr/>
          <p:nvPr/>
        </p:nvSpPr>
        <p:spPr>
          <a:xfrm>
            <a:off x="179280" y="4925880"/>
            <a:ext cx="8699760" cy="1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476280"/>
            <a:ext cx="91440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図 22" descr="IMG_1108"/>
          <p:cNvPicPr/>
          <p:nvPr/>
        </p:nvPicPr>
        <p:blipFill>
          <a:blip r:embed="rId1"/>
          <a:stretch/>
        </p:blipFill>
        <p:spPr>
          <a:xfrm>
            <a:off x="681120" y="5157720"/>
            <a:ext cx="2235240" cy="1582920"/>
          </a:xfrm>
          <a:prstGeom prst="rect">
            <a:avLst/>
          </a:prstGeom>
          <a:ln w="0">
            <a:noFill/>
          </a:ln>
        </p:spPr>
      </p:pic>
      <p:pic>
        <p:nvPicPr>
          <p:cNvPr id="166" name="図 24" descr="RIMG0005"/>
          <p:cNvPicPr/>
          <p:nvPr/>
        </p:nvPicPr>
        <p:blipFill>
          <a:blip r:embed="rId2"/>
          <a:stretch/>
        </p:blipFill>
        <p:spPr>
          <a:xfrm>
            <a:off x="3348000" y="5157720"/>
            <a:ext cx="2235240" cy="1582920"/>
          </a:xfrm>
          <a:prstGeom prst="rect">
            <a:avLst/>
          </a:prstGeom>
          <a:ln w="0">
            <a:noFill/>
          </a:ln>
        </p:spPr>
      </p:pic>
      <p:pic>
        <p:nvPicPr>
          <p:cNvPr id="167" name="図 19" descr="00003"/>
          <p:cNvPicPr/>
          <p:nvPr/>
        </p:nvPicPr>
        <p:blipFill>
          <a:blip r:embed="rId3"/>
          <a:stretch/>
        </p:blipFill>
        <p:spPr>
          <a:xfrm>
            <a:off x="5940360" y="5157720"/>
            <a:ext cx="2235240" cy="1582920"/>
          </a:xfrm>
          <a:prstGeom prst="rect">
            <a:avLst/>
          </a:prstGeom>
          <a:ln w="0">
            <a:noFill/>
          </a:ln>
        </p:spPr>
      </p:pic>
      <p:sp>
        <p:nvSpPr>
          <p:cNvPr id="168" name="直線コネクタ 52"/>
          <p:cNvSpPr/>
          <p:nvPr/>
        </p:nvSpPr>
        <p:spPr>
          <a:xfrm>
            <a:off x="179280" y="4078440"/>
            <a:ext cx="869976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2825640" y="3716280"/>
            <a:ext cx="101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後援団体  ：　経済産業省、総務省、デジタルコンテンツ協会、デジタルメディア協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897840" y="4133880"/>
            <a:ext cx="346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c000"/>
                </a:solidFill>
                <a:latin typeface="ＭＳ Ｐゴシック"/>
              </a:rPr>
              <a:t>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　スポンサー：　アドビ システムズ 株式会社、インテル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線コネクタ 53"/>
          <p:cNvSpPr/>
          <p:nvPr/>
        </p:nvSpPr>
        <p:spPr>
          <a:xfrm>
            <a:off x="165240" y="4497480"/>
            <a:ext cx="8699400" cy="14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5:22Z</dcterms:created>
  <dc:creator>shimizu</dc:creator>
  <dc:description/>
  <dc:language>en-US</dc:language>
  <cp:lastModifiedBy>shimizu</cp:lastModifiedBy>
  <dcterms:modified xsi:type="dcterms:W3CDTF">2011-03-02T02:20:36Z</dcterms:modified>
  <cp:revision>180</cp:revision>
  <dc:subject/>
  <dc:title>第一回デジタルサイネージアワード（案）について</dc:title>
</cp:coreProperties>
</file>