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3116-C085-4ED4-934E-E2C634A2E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06C3-E700-44B0-9E17-E511C2950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69A1-64C2-40C5-94B0-0887EAFBC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DF4C-A500-419C-BBAE-02D73838B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0C05-A7EA-497B-89E9-183A493CB7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9BB5-5776-4B15-8606-7764DA0F10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1E86-A844-4DF0-84A6-7F4F17E855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EEDF-D230-4386-A1E3-0CD8B003D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24A3-001E-4A1F-AF55-077D5AED59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D808-ACF5-418C-95E8-28A4EF32EE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A77A-2B68-4D3F-816F-E0E0F607F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A80E-9570-45E3-825F-F3A233C9B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A3B3-4C2F-40BE-8A91-1B876F722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6866-BA01-489D-8619-0E248D77C4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5B21-4EC2-418B-A49D-F3B0CEE1F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3F55-3323-4ED5-874D-9400318938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89F1-162B-4108-B6B1-312DA08302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9EF-6799-4286-AA71-655FA9DC32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94B-9981-4DBD-9489-A85C5A7FC2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B3B-CC0D-414B-9EFA-4305E98F31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E34-B4D6-4DAF-8F60-DC1CBDB4DF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33B-4762-45FD-8CD6-D554F4B2F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4186-C644-4D47-90DC-290699B76B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DC-7412-4A66-BF4F-77F013022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96A-BF3B-42C1-8932-D816A75B09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F53-53FB-42C6-8FB9-7A2ABF1057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4A5-5A1C-4ABC-8F8F-00CA1509F0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35B-C663-40A2-85DD-D6C32387AA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447-9406-43E9-9BEF-D7120A4757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A9A-41DE-4812-A2CB-086D34E28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B68B-A5A9-41EE-B81B-C318EC17A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2531-70A2-4C8B-BA0C-86CE7EC2B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3AD1-6097-4331-A56F-BA191B8FF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B191-B682-4E04-99C8-72430FA63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0005-9208-4383-9420-AED079C87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88A2-1A12-4861-8208-67D2E4E7D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4000"/>
          </a:bodyPr>
          <a:p>
            <a:pPr marL="331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229-D8D4-42B9-8030-DA11EE4EC4C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D0A-2BA1-4938-92C0-0BD1B85DEDD0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a6eef8"/>
              </a:gs>
              <a:gs pos="50000">
                <a:srgbClr val="ffffff"/>
              </a:gs>
              <a:gs pos="100000">
                <a:srgbClr val="a6ee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38AB-318D-4D66-8EA0-3B52103724CD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スライド番号プレースホルダ 3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283-A1F6-4716-A175-312D17DF613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2" name="Freeform 2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7280 h 48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Freeform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26" name="Freeform 6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7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28" name="Freeform 8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821" y="15230"/>
                    </a:moveTo>
                    <a:lnTo>
                      <a:pt x="10757" y="15108"/>
                    </a:lnTo>
                    <a:lnTo>
                      <a:pt x="6085" y="10167"/>
                    </a:lnTo>
                    <a:lnTo>
                      <a:pt x="2760" y="2695"/>
                    </a:lnTo>
                    <a:lnTo>
                      <a:pt x="0" y="0"/>
                    </a:lnTo>
                    <a:lnTo>
                      <a:pt x="478" y="1062"/>
                    </a:lnTo>
                    <a:lnTo>
                      <a:pt x="0" y="2654"/>
                    </a:lnTo>
                    <a:lnTo>
                      <a:pt x="652" y="4859"/>
                    </a:lnTo>
                    <a:lnTo>
                      <a:pt x="1630" y="9922"/>
                    </a:lnTo>
                    <a:lnTo>
                      <a:pt x="978" y="17231"/>
                    </a:lnTo>
                    <a:lnTo>
                      <a:pt x="4346" y="13434"/>
                    </a:lnTo>
                    <a:lnTo>
                      <a:pt x="12864" y="21518"/>
                    </a:lnTo>
                    <a:lnTo>
                      <a:pt x="21600" y="21600"/>
                    </a:lnTo>
                    <a:lnTo>
                      <a:pt x="17993" y="19313"/>
                    </a:lnTo>
                    <a:lnTo>
                      <a:pt x="13821" y="15230"/>
                    </a:lnTo>
                    <a:close/>
                    <a:moveTo>
                      <a:pt x="13821" y="1523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Freeform 13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5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91A-996C-4F94-A8CF-18A11BB3F19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03280" y="4076640"/>
            <a:ext cx="64008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1/03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システム部会 幹事・事務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457200" y="590400"/>
            <a:ext cx="82296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3e3ff"/>
                </a:solidFill>
                <a:latin typeface="Arial"/>
                <a:ea typeface="ＭＳ Ｐゴシック"/>
              </a:rPr>
              <a:t>デジタルサイネージコンソーシアム</a:t>
            </a:r>
            <a:br>
              <a:rPr sz="3600"/>
            </a:br>
            <a:r>
              <a:rPr b="0" lang="ja-JP" sz="4800" spc="-1" strike="noStrike">
                <a:solidFill>
                  <a:srgbClr val="e3e3ff"/>
                </a:solidFill>
                <a:latin typeface="Arial"/>
                <a:ea typeface="ＭＳ Ｐゴシック"/>
              </a:rPr>
              <a:t>システム部会活動報告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自販機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551-9AE9-437E-A204-2AA0B1709A9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39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1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48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F50C-4DD6-4C60-B1EA-B7EEF167EF7F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図 24" descr="自動販売機.jpg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464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今後の方針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6AB-ECEB-4D97-9282-D755FEC3CA65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62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64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1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4EE-7CF1-473F-991D-DD9D963C1E3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コンテンツ プレースホルダ 2"/>
          <p:cNvSpPr/>
          <p:nvPr/>
        </p:nvSpPr>
        <p:spPr>
          <a:xfrm>
            <a:off x="349200" y="620640"/>
            <a:ext cx="8686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１）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日（金）の部会で修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２） デジタルサイネージとモバイル端末連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　　に関する提言書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月末に完成させ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5C1-83DF-47D8-AB04-E2FC38E607A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4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6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3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A35-EAD5-4FA2-9581-06518C2EBA5E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268360" y="2925720"/>
            <a:ext cx="4896000" cy="64764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年間活動計画検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2268360" y="3718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未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2268360" y="4510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未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7361280" y="2421000"/>
            <a:ext cx="288720" cy="863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7710480" y="25718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幹事・事務局で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268360" y="134136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インターフェイス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2268360" y="2133720"/>
            <a:ext cx="4896000" cy="647640"/>
          </a:xfrm>
          <a:prstGeom prst="rect">
            <a:avLst/>
          </a:prstGeom>
          <a:solidFill>
            <a:srgbClr val="add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2268360" y="2133720"/>
            <a:ext cx="4896000" cy="647640"/>
          </a:xfrm>
          <a:prstGeom prst="rect">
            <a:avLst/>
          </a:prstGeom>
          <a:solidFill>
            <a:srgbClr val="fc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の完成（最終調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2268360" y="1341360"/>
            <a:ext cx="4896000" cy="647640"/>
          </a:xfrm>
          <a:prstGeom prst="rect">
            <a:avLst/>
          </a:prstGeom>
          <a:solidFill>
            <a:srgbClr val="b3e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検討レポート見本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8AE-E6EA-4B69-B9C5-F5CC06987E2B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9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1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937E-7F4E-4E9B-9248-97C82F3A8CAD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グループ化 32"/>
          <p:cNvGrpSpPr/>
          <p:nvPr/>
        </p:nvGrpSpPr>
        <p:grpSpPr>
          <a:xfrm>
            <a:off x="826920" y="1106640"/>
            <a:ext cx="7594920" cy="5232240"/>
            <a:chOff x="826920" y="1106640"/>
            <a:chExt cx="7594920" cy="5232240"/>
          </a:xfrm>
        </p:grpSpPr>
        <p:graphicFrame>
          <p:nvGraphicFramePr>
            <p:cNvPr id="168" name="Object 30"/>
            <p:cNvGraphicFramePr/>
            <p:nvPr/>
          </p:nvGraphicFramePr>
          <p:xfrm>
            <a:off x="4733280" y="1119600"/>
            <a:ext cx="3688560" cy="521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33280" y="1119600"/>
                      <a:ext cx="3688560" cy="52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31"/>
            <p:cNvGraphicFramePr/>
            <p:nvPr/>
          </p:nvGraphicFramePr>
          <p:xfrm>
            <a:off x="826920" y="1106640"/>
            <a:ext cx="3690360" cy="522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6920" y="1106640"/>
                      <a:ext cx="3690360" cy="522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バーチャルサイネー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00F7-42F6-4E97-A07C-D64042499CEE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6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8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5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69AB-4E3A-4E50-A321-F3D64B1A2B79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"/>
          <p:cNvPicPr/>
          <p:nvPr/>
        </p:nvPicPr>
        <p:blipFill>
          <a:blip r:embed="rId1"/>
          <a:stretch/>
        </p:blipFill>
        <p:spPr>
          <a:xfrm>
            <a:off x="1692360" y="1154160"/>
            <a:ext cx="60768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バーチャルサイネー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DA40-E2DE-4C78-BB18-87058045EAC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9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1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8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469-E095-4665-AEAB-A27C3A4FCB5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図 24" descr="バーチャル.png"/>
          <p:cNvPicPr/>
          <p:nvPr/>
        </p:nvPicPr>
        <p:blipFill>
          <a:blip r:embed="rId1"/>
          <a:stretch/>
        </p:blipFill>
        <p:spPr>
          <a:xfrm>
            <a:off x="933480" y="1125360"/>
            <a:ext cx="7310520" cy="4830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店舗内サイネー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3A0-6FB4-4611-B7F4-A3C9D8D4AB39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22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4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986A-F3F1-4AED-BAD4-C485D3A0D903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311120" y="1125360"/>
            <a:ext cx="66456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店舗内サイネー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75B-721B-4CEA-8861-64481F7D424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45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47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4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76D0-795A-4FFF-B47B-AA7A7A5C1696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図 24" descr="店舗内.jpg"/>
          <p:cNvPicPr/>
          <p:nvPr/>
        </p:nvPicPr>
        <p:blipFill>
          <a:blip r:embed="rId1"/>
          <a:stretch/>
        </p:blipFill>
        <p:spPr>
          <a:xfrm>
            <a:off x="1036800" y="1263600"/>
            <a:ext cx="699120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クーポンゲート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46A7-BB6C-48A3-A88C-591C218A53AF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8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70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7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31E-0DD9-480F-8701-DEC39E32F08B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-9601200" y="9601200"/>
            <a:ext cx="66446280" cy="47243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1384200" y="981000"/>
            <a:ext cx="6643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クーポンゲート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350-D585-49F1-BDE6-FD841B766E72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2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4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1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37A-A154-472C-9025-7CAA14CFE2D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-9601200" y="9601200"/>
            <a:ext cx="66446280" cy="47243880"/>
          </a:xfrm>
          <a:prstGeom prst="rect">
            <a:avLst/>
          </a:prstGeom>
          <a:ln w="0">
            <a:noFill/>
          </a:ln>
        </p:spPr>
      </p:pic>
      <p:pic>
        <p:nvPicPr>
          <p:cNvPr id="311" name="図 26" descr="クーポン.jpg"/>
          <p:cNvPicPr/>
          <p:nvPr/>
        </p:nvPicPr>
        <p:blipFill>
          <a:blip r:embed="rId2"/>
          <a:stretch/>
        </p:blipFill>
        <p:spPr>
          <a:xfrm>
            <a:off x="1117440" y="1197000"/>
            <a:ext cx="6983640" cy="4695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604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自販機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89A-5DD6-409C-8242-3CA6F090FB4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6" name="Freeform 6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80" y="18900"/>
                  </a:moveTo>
                  <a:lnTo>
                    <a:pt x="19967" y="15918"/>
                  </a:lnTo>
                  <a:lnTo>
                    <a:pt x="19407" y="15112"/>
                  </a:lnTo>
                  <a:lnTo>
                    <a:pt x="17853" y="9188"/>
                  </a:lnTo>
                  <a:lnTo>
                    <a:pt x="17020" y="2982"/>
                  </a:lnTo>
                  <a:lnTo>
                    <a:pt x="16380" y="282"/>
                  </a:lnTo>
                  <a:lnTo>
                    <a:pt x="16020" y="1894"/>
                  </a:lnTo>
                  <a:lnTo>
                    <a:pt x="15260" y="2982"/>
                  </a:lnTo>
                  <a:lnTo>
                    <a:pt x="14227" y="2982"/>
                  </a:lnTo>
                  <a:lnTo>
                    <a:pt x="13627" y="5158"/>
                  </a:lnTo>
                  <a:lnTo>
                    <a:pt x="11833" y="8946"/>
                  </a:lnTo>
                  <a:lnTo>
                    <a:pt x="10680" y="7294"/>
                  </a:lnTo>
                  <a:lnTo>
                    <a:pt x="10400" y="4070"/>
                  </a:lnTo>
                  <a:lnTo>
                    <a:pt x="10280" y="3506"/>
                  </a:lnTo>
                  <a:lnTo>
                    <a:pt x="9640" y="2418"/>
                  </a:lnTo>
                  <a:lnTo>
                    <a:pt x="9167" y="2982"/>
                  </a:lnTo>
                  <a:lnTo>
                    <a:pt x="8727" y="3506"/>
                  </a:lnTo>
                  <a:lnTo>
                    <a:pt x="8287" y="524"/>
                  </a:lnTo>
                  <a:lnTo>
                    <a:pt x="8167" y="0"/>
                  </a:lnTo>
                  <a:lnTo>
                    <a:pt x="7927" y="0"/>
                  </a:lnTo>
                  <a:lnTo>
                    <a:pt x="7373" y="1370"/>
                  </a:lnTo>
                  <a:lnTo>
                    <a:pt x="7293" y="1612"/>
                  </a:lnTo>
                  <a:lnTo>
                    <a:pt x="7133" y="2176"/>
                  </a:lnTo>
                  <a:lnTo>
                    <a:pt x="6893" y="2982"/>
                  </a:lnTo>
                  <a:lnTo>
                    <a:pt x="6693" y="2982"/>
                  </a:lnTo>
                  <a:lnTo>
                    <a:pt x="6573" y="2982"/>
                  </a:lnTo>
                  <a:lnTo>
                    <a:pt x="6373" y="3264"/>
                  </a:lnTo>
                  <a:lnTo>
                    <a:pt x="6133" y="3788"/>
                  </a:lnTo>
                  <a:lnTo>
                    <a:pt x="5893" y="4312"/>
                  </a:lnTo>
                  <a:lnTo>
                    <a:pt x="5620" y="5158"/>
                  </a:lnTo>
                  <a:lnTo>
                    <a:pt x="5420" y="5682"/>
                  </a:lnTo>
                  <a:lnTo>
                    <a:pt x="5260" y="5964"/>
                  </a:lnTo>
                  <a:lnTo>
                    <a:pt x="5220" y="6206"/>
                  </a:lnTo>
                  <a:lnTo>
                    <a:pt x="3707" y="9188"/>
                  </a:lnTo>
                  <a:lnTo>
                    <a:pt x="2627" y="11848"/>
                  </a:lnTo>
                  <a:lnTo>
                    <a:pt x="713" y="18618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0880" y="18900"/>
                  </a:lnTo>
                  <a:close/>
                  <a:moveTo>
                    <a:pt x="20880" y="18900"/>
                  </a:moveTo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93" y="15116"/>
                    </a:moveTo>
                    <a:lnTo>
                      <a:pt x="10735" y="14994"/>
                    </a:lnTo>
                    <a:lnTo>
                      <a:pt x="6072" y="10091"/>
                    </a:lnTo>
                    <a:lnTo>
                      <a:pt x="2754" y="2675"/>
                    </a:lnTo>
                    <a:lnTo>
                      <a:pt x="0" y="0"/>
                    </a:lnTo>
                    <a:lnTo>
                      <a:pt x="477" y="1054"/>
                    </a:lnTo>
                    <a:lnTo>
                      <a:pt x="0" y="2634"/>
                    </a:lnTo>
                    <a:lnTo>
                      <a:pt x="651" y="4823"/>
                    </a:lnTo>
                    <a:lnTo>
                      <a:pt x="1627" y="9848"/>
                    </a:lnTo>
                    <a:lnTo>
                      <a:pt x="976" y="17102"/>
                    </a:lnTo>
                    <a:lnTo>
                      <a:pt x="4337" y="13333"/>
                    </a:lnTo>
                    <a:lnTo>
                      <a:pt x="13272" y="21600"/>
                    </a:lnTo>
                    <a:lnTo>
                      <a:pt x="21600" y="21438"/>
                    </a:lnTo>
                    <a:lnTo>
                      <a:pt x="17957" y="19168"/>
                    </a:lnTo>
                    <a:lnTo>
                      <a:pt x="13793" y="15116"/>
                    </a:lnTo>
                    <a:close/>
                    <a:moveTo>
                      <a:pt x="13793" y="15116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20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181" y="0"/>
                    </a:moveTo>
                    <a:lnTo>
                      <a:pt x="6271" y="1101"/>
                    </a:lnTo>
                    <a:lnTo>
                      <a:pt x="2787" y="1836"/>
                    </a:lnTo>
                    <a:lnTo>
                      <a:pt x="2090" y="4039"/>
                    </a:lnTo>
                    <a:lnTo>
                      <a:pt x="4877" y="6976"/>
                    </a:lnTo>
                    <a:lnTo>
                      <a:pt x="5574" y="9913"/>
                    </a:lnTo>
                    <a:lnTo>
                      <a:pt x="0" y="21600"/>
                    </a:lnTo>
                    <a:lnTo>
                      <a:pt x="6271" y="14257"/>
                    </a:lnTo>
                    <a:lnTo>
                      <a:pt x="9755" y="13217"/>
                    </a:lnTo>
                    <a:lnTo>
                      <a:pt x="14632" y="7710"/>
                    </a:lnTo>
                    <a:lnTo>
                      <a:pt x="16723" y="7343"/>
                    </a:lnTo>
                    <a:lnTo>
                      <a:pt x="16723" y="5507"/>
                    </a:lnTo>
                    <a:lnTo>
                      <a:pt x="21600" y="4039"/>
                    </a:lnTo>
                    <a:lnTo>
                      <a:pt x="18813" y="3671"/>
                    </a:lnTo>
                    <a:lnTo>
                      <a:pt x="4181" y="0"/>
                    </a:lnTo>
                    <a:close/>
                    <a:moveTo>
                      <a:pt x="4181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29" y="0"/>
                    </a:moveTo>
                    <a:lnTo>
                      <a:pt x="686" y="1036"/>
                    </a:lnTo>
                    <a:lnTo>
                      <a:pt x="0" y="3188"/>
                    </a:lnTo>
                    <a:lnTo>
                      <a:pt x="3429" y="9644"/>
                    </a:lnTo>
                    <a:lnTo>
                      <a:pt x="17714" y="21600"/>
                    </a:lnTo>
                    <a:lnTo>
                      <a:pt x="16571" y="11079"/>
                    </a:lnTo>
                    <a:lnTo>
                      <a:pt x="21600" y="6058"/>
                    </a:lnTo>
                    <a:lnTo>
                      <a:pt x="14343" y="7492"/>
                    </a:lnTo>
                    <a:lnTo>
                      <a:pt x="5143" y="4304"/>
                    </a:lnTo>
                    <a:lnTo>
                      <a:pt x="1029" y="0"/>
                    </a:lnTo>
                    <a:close/>
                    <a:moveTo>
                      <a:pt x="1029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886" y="0"/>
                    </a:moveTo>
                    <a:lnTo>
                      <a:pt x="0" y="0"/>
                    </a:lnTo>
                    <a:lnTo>
                      <a:pt x="836" y="1964"/>
                    </a:lnTo>
                    <a:lnTo>
                      <a:pt x="836" y="5891"/>
                    </a:lnTo>
                    <a:lnTo>
                      <a:pt x="0" y="7855"/>
                    </a:lnTo>
                    <a:lnTo>
                      <a:pt x="10870" y="19636"/>
                    </a:lnTo>
                    <a:lnTo>
                      <a:pt x="13378" y="13745"/>
                    </a:lnTo>
                    <a:lnTo>
                      <a:pt x="21600" y="21600"/>
                    </a:lnTo>
                    <a:lnTo>
                      <a:pt x="17559" y="7855"/>
                    </a:lnTo>
                    <a:lnTo>
                      <a:pt x="20764" y="0"/>
                    </a:lnTo>
                    <a:lnTo>
                      <a:pt x="15886" y="0"/>
                    </a:lnTo>
                    <a:close/>
                    <a:moveTo>
                      <a:pt x="15886" y="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86" y="10800"/>
                    </a:moveTo>
                    <a:lnTo>
                      <a:pt x="0" y="5400"/>
                    </a:lnTo>
                    <a:lnTo>
                      <a:pt x="6171" y="1800"/>
                    </a:lnTo>
                    <a:lnTo>
                      <a:pt x="0" y="1800"/>
                    </a:lnTo>
                    <a:lnTo>
                      <a:pt x="6171" y="1800"/>
                    </a:lnTo>
                    <a:lnTo>
                      <a:pt x="12343" y="1800"/>
                    </a:lnTo>
                    <a:lnTo>
                      <a:pt x="18514" y="1800"/>
                    </a:lnTo>
                    <a:lnTo>
                      <a:pt x="21600" y="0"/>
                    </a:lnTo>
                    <a:lnTo>
                      <a:pt x="15429" y="5400"/>
                    </a:lnTo>
                    <a:lnTo>
                      <a:pt x="21600" y="14400"/>
                    </a:lnTo>
                    <a:lnTo>
                      <a:pt x="6171" y="21600"/>
                    </a:lnTo>
                    <a:lnTo>
                      <a:pt x="3086" y="10800"/>
                    </a:lnTo>
                    <a:close/>
                    <a:moveTo>
                      <a:pt x="3086" y="10800"/>
                    </a:moveTo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567" y="21600"/>
                  </a:lnTo>
                  <a:lnTo>
                    <a:pt x="20883" y="20862"/>
                  </a:lnTo>
                  <a:lnTo>
                    <a:pt x="13511" y="12501"/>
                  </a:lnTo>
                  <a:lnTo>
                    <a:pt x="11077" y="1476"/>
                  </a:lnTo>
                  <a:lnTo>
                    <a:pt x="10360" y="984"/>
                  </a:lnTo>
                  <a:lnTo>
                    <a:pt x="10230" y="2213"/>
                  </a:lnTo>
                  <a:lnTo>
                    <a:pt x="10099" y="2213"/>
                  </a:lnTo>
                  <a:lnTo>
                    <a:pt x="9942" y="1230"/>
                  </a:lnTo>
                  <a:lnTo>
                    <a:pt x="9257" y="4181"/>
                  </a:lnTo>
                  <a:lnTo>
                    <a:pt x="8736" y="5164"/>
                  </a:lnTo>
                  <a:lnTo>
                    <a:pt x="8480" y="5410"/>
                  </a:lnTo>
                  <a:lnTo>
                    <a:pt x="8122" y="4181"/>
                  </a:lnTo>
                  <a:lnTo>
                    <a:pt x="7372" y="5164"/>
                  </a:lnTo>
                  <a:lnTo>
                    <a:pt x="6981" y="984"/>
                  </a:lnTo>
                  <a:lnTo>
                    <a:pt x="6954" y="738"/>
                  </a:lnTo>
                  <a:lnTo>
                    <a:pt x="6856" y="492"/>
                  </a:lnTo>
                  <a:lnTo>
                    <a:pt x="6726" y="246"/>
                  </a:lnTo>
                  <a:lnTo>
                    <a:pt x="6628" y="0"/>
                  </a:lnTo>
                  <a:lnTo>
                    <a:pt x="6497" y="0"/>
                  </a:lnTo>
                  <a:lnTo>
                    <a:pt x="6334" y="0"/>
                  </a:lnTo>
                  <a:lnTo>
                    <a:pt x="6204" y="0"/>
                  </a:lnTo>
                  <a:lnTo>
                    <a:pt x="6171" y="0"/>
                  </a:lnTo>
                  <a:lnTo>
                    <a:pt x="6139" y="0"/>
                  </a:lnTo>
                  <a:lnTo>
                    <a:pt x="6106" y="246"/>
                  </a:lnTo>
                  <a:lnTo>
                    <a:pt x="6074" y="492"/>
                  </a:lnTo>
                  <a:lnTo>
                    <a:pt x="5976" y="738"/>
                  </a:lnTo>
                  <a:lnTo>
                    <a:pt x="5911" y="738"/>
                  </a:lnTo>
                  <a:lnTo>
                    <a:pt x="5813" y="984"/>
                  </a:lnTo>
                  <a:lnTo>
                    <a:pt x="5715" y="1230"/>
                  </a:lnTo>
                  <a:lnTo>
                    <a:pt x="5617" y="1476"/>
                  </a:lnTo>
                  <a:lnTo>
                    <a:pt x="5585" y="1721"/>
                  </a:lnTo>
                  <a:lnTo>
                    <a:pt x="5264" y="2459"/>
                  </a:lnTo>
                  <a:lnTo>
                    <a:pt x="5003" y="2951"/>
                  </a:lnTo>
                  <a:lnTo>
                    <a:pt x="4645" y="1967"/>
                  </a:lnTo>
                  <a:lnTo>
                    <a:pt x="4482" y="1967"/>
                  </a:lnTo>
                  <a:lnTo>
                    <a:pt x="4123" y="2951"/>
                  </a:lnTo>
                  <a:lnTo>
                    <a:pt x="3993" y="2951"/>
                  </a:lnTo>
                  <a:lnTo>
                    <a:pt x="3835" y="2459"/>
                  </a:lnTo>
                  <a:lnTo>
                    <a:pt x="3477" y="2459"/>
                  </a:lnTo>
                  <a:lnTo>
                    <a:pt x="2955" y="2951"/>
                  </a:lnTo>
                  <a:lnTo>
                    <a:pt x="2113" y="738"/>
                  </a:lnTo>
                  <a:lnTo>
                    <a:pt x="1755" y="2459"/>
                  </a:lnTo>
                  <a:lnTo>
                    <a:pt x="1722" y="2459"/>
                  </a:lnTo>
                  <a:lnTo>
                    <a:pt x="1657" y="2951"/>
                  </a:lnTo>
                  <a:lnTo>
                    <a:pt x="1559" y="3197"/>
                  </a:lnTo>
                  <a:lnTo>
                    <a:pt x="1429" y="3689"/>
                  </a:lnTo>
                  <a:lnTo>
                    <a:pt x="1103" y="4918"/>
                  </a:lnTo>
                  <a:lnTo>
                    <a:pt x="809" y="6148"/>
                  </a:lnTo>
                  <a:lnTo>
                    <a:pt x="424" y="6886"/>
                  </a:lnTo>
                  <a:lnTo>
                    <a:pt x="0" y="7378"/>
                  </a:lnTo>
                  <a:lnTo>
                    <a:pt x="0" y="21600"/>
                  </a:lnTo>
                  <a:lnTo>
                    <a:pt x="5487" y="21600"/>
                  </a:lnTo>
                  <a:lnTo>
                    <a:pt x="20236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5" name="Freeform 1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20" y="1806"/>
                  </a:moveTo>
                  <a:lnTo>
                    <a:pt x="0" y="4516"/>
                  </a:lnTo>
                  <a:lnTo>
                    <a:pt x="3906" y="8128"/>
                  </a:lnTo>
                  <a:lnTo>
                    <a:pt x="8462" y="13547"/>
                  </a:lnTo>
                  <a:lnTo>
                    <a:pt x="11303" y="12644"/>
                  </a:lnTo>
                  <a:lnTo>
                    <a:pt x="20180" y="21600"/>
                  </a:lnTo>
                  <a:lnTo>
                    <a:pt x="18049" y="13095"/>
                  </a:lnTo>
                  <a:lnTo>
                    <a:pt x="21600" y="9934"/>
                  </a:lnTo>
                  <a:lnTo>
                    <a:pt x="21245" y="9483"/>
                  </a:lnTo>
                  <a:lnTo>
                    <a:pt x="19825" y="8580"/>
                  </a:lnTo>
                  <a:lnTo>
                    <a:pt x="17694" y="6774"/>
                  </a:lnTo>
                  <a:lnTo>
                    <a:pt x="15209" y="5419"/>
                  </a:lnTo>
                  <a:lnTo>
                    <a:pt x="12723" y="4064"/>
                  </a:lnTo>
                  <a:lnTo>
                    <a:pt x="10238" y="2709"/>
                  </a:lnTo>
                  <a:lnTo>
                    <a:pt x="8462" y="1806"/>
                  </a:lnTo>
                  <a:lnTo>
                    <a:pt x="7752" y="1355"/>
                  </a:lnTo>
                  <a:lnTo>
                    <a:pt x="6332" y="1355"/>
                  </a:lnTo>
                  <a:lnTo>
                    <a:pt x="5622" y="1355"/>
                  </a:lnTo>
                  <a:lnTo>
                    <a:pt x="4261" y="903"/>
                  </a:lnTo>
                  <a:lnTo>
                    <a:pt x="3906" y="903"/>
                  </a:lnTo>
                  <a:lnTo>
                    <a:pt x="3196" y="452"/>
                  </a:lnTo>
                  <a:lnTo>
                    <a:pt x="2485" y="0"/>
                  </a:lnTo>
                  <a:lnTo>
                    <a:pt x="1775" y="0"/>
                  </a:lnTo>
                  <a:lnTo>
                    <a:pt x="1420" y="1806"/>
                  </a:lnTo>
                  <a:close/>
                  <a:moveTo>
                    <a:pt x="1420" y="1806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6" y="779"/>
                  </a:moveTo>
                  <a:lnTo>
                    <a:pt x="1466" y="260"/>
                  </a:lnTo>
                  <a:lnTo>
                    <a:pt x="1020" y="0"/>
                  </a:lnTo>
                  <a:lnTo>
                    <a:pt x="382" y="0"/>
                  </a:lnTo>
                  <a:lnTo>
                    <a:pt x="127" y="1082"/>
                  </a:lnTo>
                  <a:lnTo>
                    <a:pt x="0" y="5541"/>
                  </a:lnTo>
                  <a:lnTo>
                    <a:pt x="637" y="4502"/>
                  </a:lnTo>
                  <a:lnTo>
                    <a:pt x="956" y="5800"/>
                  </a:lnTo>
                  <a:lnTo>
                    <a:pt x="1594" y="6623"/>
                  </a:lnTo>
                  <a:lnTo>
                    <a:pt x="2221" y="11817"/>
                  </a:lnTo>
                  <a:lnTo>
                    <a:pt x="4261" y="15540"/>
                  </a:lnTo>
                  <a:lnTo>
                    <a:pt x="8255" y="15540"/>
                  </a:lnTo>
                  <a:lnTo>
                    <a:pt x="21600" y="21600"/>
                  </a:lnTo>
                  <a:lnTo>
                    <a:pt x="21154" y="21340"/>
                  </a:lnTo>
                  <a:lnTo>
                    <a:pt x="7182" y="10519"/>
                  </a:lnTo>
                  <a:lnTo>
                    <a:pt x="5461" y="6883"/>
                  </a:lnTo>
                  <a:lnTo>
                    <a:pt x="4515" y="4762"/>
                  </a:lnTo>
                  <a:lnTo>
                    <a:pt x="3878" y="3982"/>
                  </a:lnTo>
                  <a:lnTo>
                    <a:pt x="2986" y="2640"/>
                  </a:lnTo>
                  <a:lnTo>
                    <a:pt x="1976" y="779"/>
                  </a:lnTo>
                  <a:close/>
                  <a:moveTo>
                    <a:pt x="1976" y="779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80"/>
                  </a:moveTo>
                  <a:lnTo>
                    <a:pt x="1825" y="6480"/>
                  </a:lnTo>
                  <a:lnTo>
                    <a:pt x="3651" y="4320"/>
                  </a:lnTo>
                  <a:lnTo>
                    <a:pt x="1825" y="2160"/>
                  </a:lnTo>
                  <a:lnTo>
                    <a:pt x="0" y="0"/>
                  </a:lnTo>
                  <a:lnTo>
                    <a:pt x="8823" y="6480"/>
                  </a:lnTo>
                  <a:lnTo>
                    <a:pt x="16124" y="6480"/>
                  </a:lnTo>
                  <a:lnTo>
                    <a:pt x="17949" y="10800"/>
                  </a:lnTo>
                  <a:lnTo>
                    <a:pt x="19775" y="15120"/>
                  </a:lnTo>
                  <a:lnTo>
                    <a:pt x="21600" y="19440"/>
                  </a:lnTo>
                  <a:lnTo>
                    <a:pt x="21600" y="21600"/>
                  </a:lnTo>
                  <a:lnTo>
                    <a:pt x="17949" y="19440"/>
                  </a:lnTo>
                  <a:lnTo>
                    <a:pt x="14299" y="15120"/>
                  </a:lnTo>
                  <a:lnTo>
                    <a:pt x="6997" y="10800"/>
                  </a:lnTo>
                  <a:lnTo>
                    <a:pt x="6997" y="12960"/>
                  </a:lnTo>
                  <a:lnTo>
                    <a:pt x="5476" y="15120"/>
                  </a:lnTo>
                  <a:lnTo>
                    <a:pt x="3651" y="17280"/>
                  </a:lnTo>
                  <a:lnTo>
                    <a:pt x="1825" y="17280"/>
                  </a:lnTo>
                  <a:lnTo>
                    <a:pt x="1825" y="12960"/>
                  </a:lnTo>
                  <a:lnTo>
                    <a:pt x="0" y="6480"/>
                  </a:lnTo>
                  <a:close/>
                  <a:moveTo>
                    <a:pt x="0" y="648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25" y="0"/>
                  </a:moveTo>
                  <a:lnTo>
                    <a:pt x="6440" y="800"/>
                  </a:lnTo>
                  <a:lnTo>
                    <a:pt x="9660" y="800"/>
                  </a:lnTo>
                  <a:lnTo>
                    <a:pt x="15294" y="1600"/>
                  </a:lnTo>
                  <a:lnTo>
                    <a:pt x="12880" y="7200"/>
                  </a:lnTo>
                  <a:lnTo>
                    <a:pt x="12880" y="8000"/>
                  </a:lnTo>
                  <a:lnTo>
                    <a:pt x="13684" y="9600"/>
                  </a:lnTo>
                  <a:lnTo>
                    <a:pt x="14489" y="11200"/>
                  </a:lnTo>
                  <a:lnTo>
                    <a:pt x="16099" y="12800"/>
                  </a:lnTo>
                  <a:lnTo>
                    <a:pt x="19185" y="15200"/>
                  </a:lnTo>
                  <a:lnTo>
                    <a:pt x="20795" y="18400"/>
                  </a:lnTo>
                  <a:lnTo>
                    <a:pt x="21600" y="20800"/>
                  </a:lnTo>
                  <a:lnTo>
                    <a:pt x="21600" y="21600"/>
                  </a:lnTo>
                  <a:lnTo>
                    <a:pt x="12880" y="13600"/>
                  </a:lnTo>
                  <a:lnTo>
                    <a:pt x="4025" y="7200"/>
                  </a:lnTo>
                  <a:lnTo>
                    <a:pt x="0" y="0"/>
                  </a:lnTo>
                  <a:lnTo>
                    <a:pt x="4025" y="0"/>
                  </a:lnTo>
                  <a:close/>
                  <a:moveTo>
                    <a:pt x="4025" y="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"/>
                  </a:moveTo>
                  <a:lnTo>
                    <a:pt x="15010" y="10800"/>
                  </a:lnTo>
                  <a:lnTo>
                    <a:pt x="15010" y="12960"/>
                  </a:lnTo>
                  <a:lnTo>
                    <a:pt x="17207" y="15120"/>
                  </a:lnTo>
                  <a:lnTo>
                    <a:pt x="19403" y="19440"/>
                  </a:lnTo>
                  <a:lnTo>
                    <a:pt x="19403" y="21600"/>
                  </a:lnTo>
                  <a:lnTo>
                    <a:pt x="17207" y="19440"/>
                  </a:lnTo>
                  <a:lnTo>
                    <a:pt x="12814" y="17280"/>
                  </a:lnTo>
                  <a:lnTo>
                    <a:pt x="8420" y="12960"/>
                  </a:lnTo>
                  <a:lnTo>
                    <a:pt x="6224" y="10800"/>
                  </a:lnTo>
                  <a:lnTo>
                    <a:pt x="0" y="0"/>
                  </a:lnTo>
                  <a:lnTo>
                    <a:pt x="21600" y="2160"/>
                  </a:lnTo>
                  <a:close/>
                  <a:moveTo>
                    <a:pt x="21600" y="2160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42" y="3812"/>
                  </a:moveTo>
                  <a:lnTo>
                    <a:pt x="21600" y="4447"/>
                  </a:lnTo>
                  <a:lnTo>
                    <a:pt x="18426" y="8894"/>
                  </a:lnTo>
                  <a:lnTo>
                    <a:pt x="12607" y="13976"/>
                  </a:lnTo>
                  <a:lnTo>
                    <a:pt x="14723" y="16518"/>
                  </a:lnTo>
                  <a:lnTo>
                    <a:pt x="15781" y="21600"/>
                  </a:lnTo>
                  <a:lnTo>
                    <a:pt x="6789" y="13976"/>
                  </a:lnTo>
                  <a:lnTo>
                    <a:pt x="4144" y="8894"/>
                  </a:lnTo>
                  <a:lnTo>
                    <a:pt x="7847" y="6988"/>
                  </a:lnTo>
                  <a:lnTo>
                    <a:pt x="5202" y="3812"/>
                  </a:lnTo>
                  <a:lnTo>
                    <a:pt x="0" y="1271"/>
                  </a:lnTo>
                  <a:lnTo>
                    <a:pt x="0" y="0"/>
                  </a:lnTo>
                  <a:lnTo>
                    <a:pt x="529" y="0"/>
                  </a:lnTo>
                  <a:lnTo>
                    <a:pt x="1058" y="0"/>
                  </a:lnTo>
                  <a:lnTo>
                    <a:pt x="4144" y="635"/>
                  </a:lnTo>
                  <a:lnTo>
                    <a:pt x="6789" y="635"/>
                  </a:lnTo>
                  <a:lnTo>
                    <a:pt x="7318" y="635"/>
                  </a:lnTo>
                  <a:lnTo>
                    <a:pt x="7847" y="635"/>
                  </a:lnTo>
                  <a:lnTo>
                    <a:pt x="8904" y="1271"/>
                  </a:lnTo>
                  <a:lnTo>
                    <a:pt x="11020" y="1271"/>
                  </a:lnTo>
                  <a:lnTo>
                    <a:pt x="12607" y="1906"/>
                  </a:lnTo>
                  <a:lnTo>
                    <a:pt x="13136" y="1906"/>
                  </a:lnTo>
                  <a:lnTo>
                    <a:pt x="17897" y="2541"/>
                  </a:lnTo>
                  <a:lnTo>
                    <a:pt x="20542" y="3812"/>
                  </a:lnTo>
                  <a:close/>
                  <a:moveTo>
                    <a:pt x="20542" y="3812"/>
                  </a:moveTo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86EC-83B8-44F2-8849-B5EC16CF349F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327320" y="108108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4:43Z</dcterms:created>
  <dc:creator>M.Kubota</dc:creator>
  <dc:description/>
  <dc:language>en-US</dc:language>
  <cp:lastModifiedBy>frptr6162</cp:lastModifiedBy>
  <dcterms:modified xsi:type="dcterms:W3CDTF">2011-03-09T04:00:23Z</dcterms:modified>
  <cp:revision>192</cp:revision>
  <dc:subject/>
  <dc:title>DSCシステム部会</dc:title>
</cp:coreProperties>
</file>