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06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152280" y="8799480"/>
            <a:ext cx="665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Num" idx="1"/>
          </p:nvPr>
        </p:nvSpPr>
        <p:spPr>
          <a:xfrm>
            <a:off x="5929200" y="8679960"/>
            <a:ext cx="812880" cy="287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26889D5-9F01-46E8-B338-B0D8627DAE41}" type="slidenum">
              <a:rPr b="0" lang="ja-JP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99E7AB1-1E92-4D7E-8AD9-C26D3339229D}" type="slidenum"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04640" y="4378320"/>
            <a:ext cx="612144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03DFD07-797B-4AE7-A1CC-CC4BDDF58341}" type="slidenum"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04640" y="4378320"/>
            <a:ext cx="612144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5556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044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5320" y="4109040"/>
            <a:ext cx="255672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410904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4109040"/>
            <a:ext cx="7940880" cy="212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igital-signage.jp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6279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280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281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282"/>
          <p:cNvSpPr/>
          <p:nvPr/>
        </p:nvSpPr>
        <p:spPr>
          <a:xfrm>
            <a:off x="83552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E6279FE-9F4C-4518-BB4E-C76D8BA6299E}" type="slidenum">
              <a:rPr b="0" lang="ja-JP" sz="10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1173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6309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fcb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デジタルサイネージコンソーシアム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4720" y="2060640"/>
            <a:ext cx="2138040" cy="261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75"/>
          <p:cNvSpPr/>
          <p:nvPr/>
        </p:nvSpPr>
        <p:spPr>
          <a:xfrm rot="16200000">
            <a:off x="3348000" y="585720"/>
            <a:ext cx="2448000" cy="9144000"/>
          </a:xfrm>
          <a:prstGeom prst="rect">
            <a:avLst/>
          </a:prstGeom>
          <a:solidFill>
            <a:srgbClr val="fcb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8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9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80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81"/>
          <p:cNvSpPr/>
          <p:nvPr/>
        </p:nvSpPr>
        <p:spPr>
          <a:xfrm>
            <a:off x="83552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0F73786-02C8-4602-A8D3-7FF2301A8B7E}" type="slidenum">
              <a:rPr b="0" lang="ja-JP" sz="1000" spc="-1" strike="noStrike">
                <a:solidFill>
                  <a:srgbClr val="d3d3d3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26" descr="logo_dsc"/>
          <p:cNvPicPr/>
          <p:nvPr/>
        </p:nvPicPr>
        <p:blipFill>
          <a:blip r:embed="rId2"/>
          <a:stretch/>
        </p:blipFill>
        <p:spPr>
          <a:xfrm>
            <a:off x="644400" y="225360"/>
            <a:ext cx="974880" cy="1193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8" descr="DIGITAL SIGNAGE"/>
          <p:cNvPicPr/>
          <p:nvPr/>
        </p:nvPicPr>
        <p:blipFill>
          <a:blip r:embed="rId3"/>
          <a:stretch/>
        </p:blipFill>
        <p:spPr>
          <a:xfrm>
            <a:off x="0" y="1665360"/>
            <a:ext cx="9144000" cy="2273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29"/>
          <p:cNvSpPr/>
          <p:nvPr/>
        </p:nvSpPr>
        <p:spPr>
          <a:xfrm>
            <a:off x="4932360" y="5805360"/>
            <a:ext cx="40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gital Signage Consorti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445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11736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news.kakaku.com/prdnews/cd=pc/ctcd=0030/id=13662/imageno=1/" TargetMode="External"/><Relationship Id="rId4" Type="http://schemas.openxmlformats.org/officeDocument/2006/relationships/image" Target="../media/image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正方形/長方形 4"/>
          <p:cNvSpPr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1"/>
          <a:stretch/>
        </p:blipFill>
        <p:spPr>
          <a:xfrm>
            <a:off x="4554360" y="1752480"/>
            <a:ext cx="4589640" cy="3048120"/>
          </a:xfrm>
          <a:prstGeom prst="rect">
            <a:avLst/>
          </a:prstGeom>
          <a:ln w="0">
            <a:noFill/>
          </a:ln>
        </p:spPr>
      </p:pic>
      <p:sp>
        <p:nvSpPr>
          <p:cNvPr id="135" name="正方形/長方形 5"/>
          <p:cNvSpPr/>
          <p:nvPr/>
        </p:nvSpPr>
        <p:spPr>
          <a:xfrm>
            <a:off x="0" y="1752480"/>
            <a:ext cx="5245200" cy="3048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6320" y="2895480"/>
            <a:ext cx="4800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ロケーション部会報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4941720"/>
            <a:ext cx="6408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デジタルサイネージコンソーシアム　理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株式会社オリコム　メディア推進室　メディア・チーフディレクタ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　　吉田勝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981000"/>
            <a:ext cx="2663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3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</a:t>
            </a:r>
            <a:r>
              <a:rPr b="0" lang="en-US" sz="23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</a:t>
            </a:r>
            <a:r>
              <a:rPr b="0" lang="ja-JP" sz="23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月</a:t>
            </a:r>
            <a:r>
              <a:rPr b="0" lang="en-US" sz="23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2</a:t>
            </a:r>
            <a:r>
              <a:rPr b="0" lang="ja-JP" sz="23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2457000"/>
            <a:ext cx="685008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1" lang="ja-JP" sz="4400" spc="-1" strike="noStrike">
                <a:solidFill>
                  <a:srgbClr val="ffffff"/>
                </a:solidFill>
                <a:latin typeface="Arial"/>
              </a:rPr>
              <a:t>ロケーション部会　報告</a:t>
            </a:r>
            <a:endParaRPr b="1" lang="en-US" sz="44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44280" y="468936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ISCO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hikuse Take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スライド番号プレースホルダ 1"/>
          <p:cNvSpPr/>
          <p:nvPr/>
        </p:nvSpPr>
        <p:spPr>
          <a:xfrm>
            <a:off x="7029360" y="6529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0CF9-750D-4BF6-8DE6-16D35B02D3B0}" type="slidenum">
              <a:rPr b="0" lang="ja-JP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4"/>
          <p:cNvSpPr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正方形/長方形 5"/>
          <p:cNvSpPr/>
          <p:nvPr/>
        </p:nvSpPr>
        <p:spPr>
          <a:xfrm>
            <a:off x="0" y="1752480"/>
            <a:ext cx="5245200" cy="3048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152280" y="2635200"/>
            <a:ext cx="4800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パーソナルサイネージ</a:t>
            </a:r>
            <a:br>
              <a:rPr sz="3600"/>
            </a:br>
            <a:r>
              <a:rPr b="0" lang="ja-JP" sz="3600" spc="-1" strike="noStrike">
                <a:solidFill>
                  <a:srgbClr val="ffffff"/>
                </a:solidFill>
                <a:latin typeface="ＭＳ Ｐゴシック"/>
                <a:ea typeface="ＭＳ Ｐゴシック"/>
              </a:rPr>
              <a:t>ワーキング・グルー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5079960" y="17524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45360" cy="549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ja-JP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パーソナルＷＧ　第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3</a:t>
            </a:r>
            <a:r>
              <a:rPr b="1" lang="ja-JP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回定例会・忘年会を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１２／１４（火）</a:t>
            </a:r>
            <a:r>
              <a:rPr b="1" lang="ja-JP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に開催</a:t>
            </a:r>
            <a:endParaRPr b="1" lang="en-US" sz="24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83628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4000"/>
          </a:bodyPr>
          <a:p>
            <a:pPr marL="222120" indent="-2221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参加メンバ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木村さん（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Groova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）、江口常務理事、小田さん、宿院さん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伸和ｴｰｼﾞｪﾝｼｰ）、　　　　多田さん（沖電気）、鳥海さん（キヤノン）、佐藤さん（キヤノ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ＤＳＣ事務所（赤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議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7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．パーソナルサイネージのアイデア公募に関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7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．各メンバーからのトピック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7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新メンバーの沖電気さんの歓迎会を兼ねた忘年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幹事：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キヤノン株式会社　総合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&amp;D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本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イノベーション推進センター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鳥海基忠さ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67644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24360" y="2276640"/>
            <a:ext cx="858960" cy="865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[ZiiO 7&quot;]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278080"/>
            <a:ext cx="934920" cy="93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7740720" y="2368440"/>
          <a:ext cx="1079280" cy="7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40720" y="2368440"/>
                    <a:ext cx="10792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600" y="692280"/>
            <a:ext cx="1363680" cy="136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1477800" cy="1105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843280" y="692280"/>
            <a:ext cx="985680" cy="1379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995640" y="765000"/>
            <a:ext cx="1584360" cy="1186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79280" y="2708280"/>
            <a:ext cx="1617840" cy="2425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5651640" y="765000"/>
            <a:ext cx="1692000" cy="1239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79640" y="2179800"/>
            <a:ext cx="712944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情報端末：スレート端末（タブレット端末）も増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ただ、あくまでメインストリームは、ネットワークに繋がるデジタルフォトフレーム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どう使うか？アイデアを募集（公募）したらどう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「パーソナルサイネージ」（あるいは「ホームサイネージ」）という言葉のプロモーションを一番の目的とした、　　　　コンテストをしたらどうだろう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パワポ的なレベルから、アンドロイドのアプリケーション　開発まで考えら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199200"/>
            <a:ext cx="7345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3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＊意見交換をしましたが、方針はまだ固めていません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57040"/>
            <a:ext cx="810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ja-JP" sz="23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パーソナルサイネージ　ワーキング・グループ　意見交換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7"/>
          <a:stretch/>
        </p:blipFill>
        <p:spPr>
          <a:xfrm>
            <a:off x="7419960" y="765000"/>
            <a:ext cx="17240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0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1" descr="logo_dsc"/>
          <p:cNvPicPr/>
          <p:nvPr/>
        </p:nvPicPr>
        <p:blipFill>
          <a:blip r:embed="rId1"/>
          <a:stretch/>
        </p:blipFill>
        <p:spPr>
          <a:xfrm>
            <a:off x="3500280" y="2179800"/>
            <a:ext cx="2079720" cy="254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1:49:57Z</dcterms:created>
  <dc:creator>Cisco Systems, Inc.</dc:creator>
  <dc:description/>
  <cp:keywords/>
  <dc:language>en-US</dc:language>
  <cp:lastModifiedBy>yosidaka</cp:lastModifiedBy>
  <cp:lastPrinted>1999-01-27T00:54:54Z</cp:lastPrinted>
  <dcterms:modified xsi:type="dcterms:W3CDTF">2011-01-12T05:53:39Z</dcterms:modified>
  <cp:revision>13</cp:revision>
  <dc:subject>Guide for Creating Powerpoint Presentations</dc:subject>
  <dc:title>DSCロケーション部会　報告</dc:title>
</cp:coreProperties>
</file>