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-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報告内容ですが、以下のような感じで。。。。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システム部会の活動報告をいたします。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本日、部会幹事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詫摩さん、パナソニックの窪田さんが欠席しております。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代わって、部会事務局を担当しております、慶応大学の鎌田が報告いたします。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システム部会で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に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の会合を開催しました。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「デジタルサイネージとモバイル端末連携」に関する提言をまとめるべく検討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進めております。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今回の部会では、まとめ資料のたたき台をベースに内容のレビューを行って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おります。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この資料につきまして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月末の完成を目指し、レビューを重ねて行く予定と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っております。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次回の第３２回、システム部会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より シスコシステムズさんの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会議室をお借りして開催の予定です。」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内容は適宜、継ぎ足していただいてかまいません。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以上、よろしくお願い申し上げます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報告内容ですが、以下のような感じで。。。。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システム部会の活動報告をいたします。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本日、部会幹事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詫摩さん、パナソニックの窪田さんが欠席しております。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代わって、部会事務局を担当しております、慶応大学の鎌田が報告いたします。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システム部会で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に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の会合を開催しました。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「デジタルサイネージとモバイル端末連携」に関する提言をまとめるべく検討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進めております。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今回の部会では、まとめ資料のたたき台をベースに内容のレビューを行って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おります。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この資料につきまして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月末の完成を目指し、レビューを重ねて行く予定と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っております。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次回の第３２回、システム部会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より シスコシステムズさんの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会議室をお借りして開催の予定です。」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 内容は適宜、継ぎ足していただいてかまいません。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以上、よろしくお願い申し上げます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96DC-7663-4882-8197-227905F5D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76B4-FA31-4A63-AE4D-83F2B8720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8263-3894-435F-9249-9E16480A1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556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9988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556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9988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CBBB-5D24-4D9C-A362-E560263FB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7C74-C290-4BCD-8D48-16B22175A3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8C31-2FD3-45A9-BC3F-F05F354E7B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D54B-591A-4CFA-B6F3-91A07E72E8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1250-4DCC-42C8-AE9F-605924387D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C1F3-F5FA-4E49-95F6-21D1F432FA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600" cy="10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9DAB-8DEE-4323-BB7E-2A751F8EBE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15B1-4573-4D64-8AA3-DB62BE566B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4EB7-054D-4CF4-B2BA-203532952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3358-F59D-48FD-BFA2-999F8B0816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6E7F-4F97-4787-B483-78191BDF3C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A578-6660-4896-93C8-101FB722CC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CE41F-A08C-40F1-A971-A4FE663B2F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556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9988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60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556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9988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B112-0B61-4F4E-8B07-7C0445E143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A6F-F0AE-40E7-BE7B-4325060987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1B7-047B-40C5-A278-446C8A6E96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89D-4DC0-4974-83B2-8ED271A383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5CA-90D1-4E9B-A35F-4DD0A44CB8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B46-729B-4380-8CD9-B655B9804C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232B-62F3-4164-A4FE-218CCDF34B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600" cy="10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7F5-0E3C-4973-B481-8ACBCD9749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1CB-557E-4EDE-A96D-0798A6FC0C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F0E-4761-4482-8251-902758379B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A88-FD79-40D8-9EB6-E3E4808C2C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C2A-70F8-4D3A-8EB1-B5DE007095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820-D247-48DA-AE9A-077841C226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4286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52200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772-C855-4EA2-9975-892088462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7ECB-79A5-45DD-AA37-5FE995C80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3688-3209-4284-9709-7290CDD32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600" cy="10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7A33-3E95-4F4B-941F-DC169BF3B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36C8-ECEF-406E-BA84-6A408CA4A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1560" y="52200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07B9-1656-4A20-9D14-933B59764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286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52200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C26E-DE07-4733-AD21-D2E4940A3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645"/>
            </a:gs>
            <a:gs pos="100000">
              <a:srgbClr val="0032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84000"/>
          </a:bodyPr>
          <a:p>
            <a:pPr marL="331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7684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5B1E-F86F-4DD0-A304-0799D5FF9BFD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3124080" y="6245280"/>
            <a:ext cx="29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64CE-9BAE-4197-8FED-E10788880980}" type="slidenum"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a6eef8"/>
              </a:gs>
              <a:gs pos="50000">
                <a:srgbClr val="ffffff"/>
              </a:gs>
              <a:gs pos="100000">
                <a:srgbClr val="a6ee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5056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124080" y="6245280"/>
            <a:ext cx="29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EDC6-C838-4A64-85E4-746E6BCBCEF2}" type="slidenum"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スライド番号プレースホルダ 3"/>
          <p:cNvSpPr/>
          <p:nvPr/>
        </p:nvSpPr>
        <p:spPr>
          <a:xfrm>
            <a:off x="747720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077C-B88F-4C99-90A4-5B1B0B8CCF41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5" name="Freeform 2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Freeform 4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"/>
          <p:cNvGrpSpPr/>
          <p:nvPr/>
        </p:nvGrpSpPr>
        <p:grpSpPr>
          <a:xfrm>
            <a:off x="-1440" y="6033960"/>
            <a:ext cx="7844400" cy="851040"/>
            <a:chOff x="-1440" y="6033960"/>
            <a:chExt cx="7844400" cy="851040"/>
          </a:xfrm>
        </p:grpSpPr>
        <p:sp>
          <p:nvSpPr>
            <p:cNvPr id="129" name="Freeform 6"/>
            <p:cNvSpPr/>
            <p:nvPr/>
          </p:nvSpPr>
          <p:spPr>
            <a:xfrm>
              <a:off x="2360520" y="6033960"/>
              <a:ext cx="5142960" cy="8510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7"/>
            <p:cNvGrpSpPr/>
            <p:nvPr/>
          </p:nvGrpSpPr>
          <p:grpSpPr>
            <a:xfrm>
              <a:off x="3944880" y="6033960"/>
              <a:ext cx="3898080" cy="851040"/>
              <a:chOff x="3944880" y="6033960"/>
              <a:chExt cx="3898080" cy="851040"/>
            </a:xfrm>
          </p:grpSpPr>
          <p:sp>
            <p:nvSpPr>
              <p:cNvPr id="131" name="Freeform 8"/>
              <p:cNvSpPr/>
              <p:nvPr/>
            </p:nvSpPr>
            <p:spPr>
              <a:xfrm>
                <a:off x="6265440" y="6045120"/>
                <a:ext cx="1577520" cy="839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480816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1"/>
              <p:cNvSpPr/>
              <p:nvPr/>
            </p:nvSpPr>
            <p:spPr>
              <a:xfrm>
                <a:off x="5757480" y="6151320"/>
                <a:ext cx="245520" cy="1177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2"/>
              <p:cNvSpPr/>
              <p:nvPr/>
            </p:nvSpPr>
            <p:spPr>
              <a:xfrm>
                <a:off x="3944880" y="6140160"/>
                <a:ext cx="66240" cy="128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Freeform 13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8" name="Freeform 15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1120680" y="6118200"/>
              <a:ext cx="9396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47720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4379-E5AE-4B13-B129-AED594AD02CA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03280" y="4076640"/>
            <a:ext cx="640080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1/1/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システム部会 幹事・事務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457200" y="590400"/>
            <a:ext cx="82296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e3e3ff"/>
                </a:solidFill>
                <a:latin typeface="Arial"/>
                <a:ea typeface="ＭＳ Ｐゴシック"/>
              </a:rPr>
              <a:t>デジタルサイネージコンソーシアム</a:t>
            </a:r>
            <a:br>
              <a:rPr sz="3600"/>
            </a:br>
            <a:r>
              <a:rPr b="0" lang="ja-JP" sz="4800" spc="-1" strike="noStrike">
                <a:solidFill>
                  <a:srgbClr val="e3e3ff"/>
                </a:solidFill>
                <a:latin typeface="Arial"/>
                <a:ea typeface="ＭＳ Ｐゴシック"/>
              </a:rPr>
              <a:t>システム部会活動報告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19120" y="-52596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これまでの振り返り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64BB-6C8B-4C26-808A-8FAE58CC846E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52" name="Freeform 6"/>
            <p:cNvSpPr/>
            <p:nvPr/>
          </p:nvSpPr>
          <p:spPr>
            <a:xfrm>
              <a:off x="2362320" y="6019920"/>
              <a:ext cx="5143320" cy="8510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54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1" name="Freeform 15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8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9"/>
            <p:cNvSpPr/>
            <p:nvPr/>
          </p:nvSpPr>
          <p:spPr>
            <a:xfrm>
              <a:off x="1120680" y="6118200"/>
              <a:ext cx="9396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0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19EF-16A4-4503-968B-80C76D6FE702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グループ化 85"/>
          <p:cNvGrpSpPr/>
          <p:nvPr/>
        </p:nvGrpSpPr>
        <p:grpSpPr>
          <a:xfrm>
            <a:off x="1187280" y="1268280"/>
            <a:ext cx="6840720" cy="5040360"/>
            <a:chOff x="1187280" y="1268280"/>
            <a:chExt cx="6840720" cy="5040360"/>
          </a:xfrm>
        </p:grpSpPr>
        <p:grpSp>
          <p:nvGrpSpPr>
            <p:cNvPr id="171" name="グループ化 79"/>
            <p:cNvGrpSpPr/>
            <p:nvPr/>
          </p:nvGrpSpPr>
          <p:grpSpPr>
            <a:xfrm>
              <a:off x="1187280" y="1268280"/>
              <a:ext cx="3024360" cy="2448000"/>
              <a:chOff x="1187280" y="1268280"/>
              <a:chExt cx="3024360" cy="2448000"/>
            </a:xfrm>
          </p:grpSpPr>
          <p:sp>
            <p:nvSpPr>
              <p:cNvPr id="172" name="角丸四角形 80"/>
              <p:cNvSpPr/>
              <p:nvPr/>
            </p:nvSpPr>
            <p:spPr>
              <a:xfrm>
                <a:off x="1187280" y="1712520"/>
                <a:ext cx="3024360" cy="2003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</a:rPr>
                  <a:t>・クーポ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</a:rPr>
                  <a:t>・</a:t>
                </a:r>
                <a:r>
                  <a:rPr b="1" lang="ja-JP" sz="1500" spc="-1" strike="noStrike">
                    <a:solidFill>
                      <a:srgbClr val="000000"/>
                    </a:solidFill>
                    <a:latin typeface="Arial"/>
                  </a:rPr>
                  <a:t>デジタルコンテンツ自販機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</a:rPr>
                  <a:t>・交通情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</a:rPr>
                  <a:t>・災害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t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角丸四角形 81"/>
              <p:cNvSpPr/>
              <p:nvPr/>
            </p:nvSpPr>
            <p:spPr>
              <a:xfrm>
                <a:off x="1495080" y="1268280"/>
                <a:ext cx="2408400" cy="668160"/>
              </a:xfrm>
              <a:prstGeom prst="roundRect">
                <a:avLst>
                  <a:gd name="adj" fmla="val 16667"/>
                </a:avLst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tep1 </a:t>
                </a:r>
                <a:r>
                  <a:rPr b="0" lang="ja-JP" sz="1800" spc="-1" strike="noStrike">
                    <a:solidFill>
                      <a:srgbClr val="ffffff"/>
                    </a:solidFill>
                    <a:latin typeface="Arial"/>
                  </a:rPr>
                  <a:t>シーンの整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グループ化 82"/>
            <p:cNvGrpSpPr/>
            <p:nvPr/>
          </p:nvGrpSpPr>
          <p:grpSpPr>
            <a:xfrm>
              <a:off x="5003640" y="1268280"/>
              <a:ext cx="3024360" cy="2448000"/>
              <a:chOff x="5003640" y="1268280"/>
              <a:chExt cx="3024360" cy="2448000"/>
            </a:xfrm>
          </p:grpSpPr>
          <p:sp>
            <p:nvSpPr>
              <p:cNvPr id="175" name="角丸四角形 83"/>
              <p:cNvSpPr/>
              <p:nvPr/>
            </p:nvSpPr>
            <p:spPr>
              <a:xfrm>
                <a:off x="5003640" y="1712520"/>
                <a:ext cx="3024360" cy="2003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</a:rPr>
                  <a:t>・画像認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</a:rPr>
                  <a:t>・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F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</a:rPr>
                  <a:t>・スピーカ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t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角丸四角形 84"/>
              <p:cNvSpPr/>
              <p:nvPr/>
            </p:nvSpPr>
            <p:spPr>
              <a:xfrm>
                <a:off x="5311440" y="1268280"/>
                <a:ext cx="2408400" cy="668160"/>
              </a:xfrm>
              <a:prstGeom prst="roundRect">
                <a:avLst>
                  <a:gd name="adj" fmla="val 16667"/>
                </a:avLst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tep2 </a:t>
                </a:r>
                <a:r>
                  <a:rPr b="0" lang="ja-JP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ja-JP" sz="1800" spc="-1" strike="noStrike">
                    <a:solidFill>
                      <a:srgbClr val="ffffff"/>
                    </a:solidFill>
                    <a:latin typeface="Arial"/>
                  </a:rPr>
                  <a:t>技術の整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グループ化 76"/>
            <p:cNvGrpSpPr/>
            <p:nvPr/>
          </p:nvGrpSpPr>
          <p:grpSpPr>
            <a:xfrm>
              <a:off x="2987280" y="3860640"/>
              <a:ext cx="3024360" cy="2448000"/>
              <a:chOff x="2987280" y="3860640"/>
              <a:chExt cx="3024360" cy="2448000"/>
            </a:xfrm>
          </p:grpSpPr>
          <p:sp>
            <p:nvSpPr>
              <p:cNvPr id="178" name="角丸四角形 77"/>
              <p:cNvSpPr/>
              <p:nvPr/>
            </p:nvSpPr>
            <p:spPr>
              <a:xfrm>
                <a:off x="2987280" y="4304880"/>
                <a:ext cx="3024360" cy="2003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</a:rPr>
                  <a:t>・データの場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</a:rPr>
                  <a:t>→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</a:rPr>
                  <a:t>赤外線通信、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C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Arial"/>
                  </a:rPr>
                  <a:t>カード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iFi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t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角丸四角形 78"/>
              <p:cNvSpPr/>
              <p:nvPr/>
            </p:nvSpPr>
            <p:spPr>
              <a:xfrm>
                <a:off x="3295080" y="3860640"/>
                <a:ext cx="2408400" cy="668160"/>
              </a:xfrm>
              <a:prstGeom prst="roundRect">
                <a:avLst>
                  <a:gd name="adj" fmla="val 16667"/>
                </a:avLst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tep3 </a:t>
                </a:r>
                <a:r>
                  <a:rPr b="0" lang="ja-JP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ja-JP" sz="1600" spc="-1" strike="noStrike">
                    <a:solidFill>
                      <a:srgbClr val="ffffff"/>
                    </a:solidFill>
                    <a:latin typeface="Arial"/>
                  </a:rPr>
                  <a:t>インターフェー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6A56-D744-44AD-B423-2128EA643224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4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3" name="Freeform 6"/>
            <p:cNvSpPr/>
            <p:nvPr/>
          </p:nvSpPr>
          <p:spPr>
            <a:xfrm>
              <a:off x="2362320" y="6019920"/>
              <a:ext cx="5143320" cy="8510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5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2" name="Freeform 15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6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7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"/>
            <p:cNvSpPr/>
            <p:nvPr/>
          </p:nvSpPr>
          <p:spPr>
            <a:xfrm>
              <a:off x="1120680" y="6118200"/>
              <a:ext cx="9396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0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B433-3115-46E8-BE52-131B18502DC1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301680" y="357120"/>
          <a:ext cx="3984480" cy="53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357120"/>
                    <a:ext cx="3984480" cy="53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86200" y="372960"/>
          <a:ext cx="3992760" cy="5413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372960"/>
                    <a:ext cx="399276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60372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今後の方針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C7B9-FE99-4179-8A87-5DB5F372D151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4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9" name="Freeform 6"/>
            <p:cNvSpPr/>
            <p:nvPr/>
          </p:nvSpPr>
          <p:spPr>
            <a:xfrm>
              <a:off x="2362320" y="6019920"/>
              <a:ext cx="5143320" cy="8510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1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8" name="Freeform 15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6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1120680" y="6118200"/>
              <a:ext cx="9396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727F-72A9-46A6-BA51-3BFEEFAD14CB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コンテンツ プレースホルダ 2"/>
          <p:cNvSpPr/>
          <p:nvPr/>
        </p:nvSpPr>
        <p:spPr>
          <a:xfrm>
            <a:off x="349200" y="620640"/>
            <a:ext cx="86868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１） デジタルサイネージとモバイル端末連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　　に関する提言書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月末に完成させ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２） まとめ資料のたたき台をもとに、タイトルも含めた内容のレビュ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D371-AB51-461C-81F5-49165D08AFAB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4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31" name="Freeform 6"/>
            <p:cNvSpPr/>
            <p:nvPr/>
          </p:nvSpPr>
          <p:spPr>
            <a:xfrm>
              <a:off x="2362320" y="6019920"/>
              <a:ext cx="5143320" cy="8510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33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0" name="Freeform 15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>
              <a:off x="1120680" y="6118200"/>
              <a:ext cx="9396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C8A9-B645-4021-AAD5-AEA037882181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コンテンツ プレースホルダ 2"/>
          <p:cNvSpPr/>
          <p:nvPr/>
        </p:nvSpPr>
        <p:spPr>
          <a:xfrm>
            <a:off x="457200" y="1676520"/>
            <a:ext cx="8218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今後の予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268360" y="2925720"/>
            <a:ext cx="4896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レビュ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268360" y="3718080"/>
            <a:ext cx="4896000" cy="647640"/>
          </a:xfrm>
          <a:prstGeom prst="rect">
            <a:avLst/>
          </a:prstGeom>
          <a:solidFill>
            <a:srgbClr val="b3e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3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レビュ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268360" y="4510080"/>
            <a:ext cx="4896000" cy="647640"/>
          </a:xfrm>
          <a:prstGeom prst="rect">
            <a:avLst/>
          </a:prstGeom>
          <a:solidFill>
            <a:srgbClr val="b3e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4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ドキュメントの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7361280" y="2494080"/>
            <a:ext cx="288720" cy="863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7710480" y="2492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幹事・事務局で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268360" y="1341360"/>
            <a:ext cx="4896000" cy="647640"/>
          </a:xfrm>
          <a:prstGeom prst="rect">
            <a:avLst/>
          </a:prstGeom>
          <a:solidFill>
            <a:srgbClr val="b3e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インターフェイスの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2268360" y="2133720"/>
            <a:ext cx="4896000" cy="647640"/>
          </a:xfrm>
          <a:prstGeom prst="rect">
            <a:avLst/>
          </a:prstGeom>
          <a:solidFill>
            <a:srgbClr val="add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ドキュメント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4:43Z</dcterms:created>
  <dc:creator>M.Kubota</dc:creator>
  <dc:description/>
  <dc:language>en-US</dc:language>
  <cp:lastModifiedBy>DSC</cp:lastModifiedBy>
  <dcterms:modified xsi:type="dcterms:W3CDTF">2011-01-12T06:56:26Z</dcterms:modified>
  <cp:revision>192</cp:revision>
  <dc:subject/>
  <dc:title>DSCシステム部会</dc:title>
</cp:coreProperties>
</file>