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669A-1160-4541-8E6C-86C4F4B65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5147-4625-4B23-8186-5E9D080F9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F13C-A609-4F3C-89E1-52BB1514F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6D91-6BF5-412E-9502-D5FDF51D0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EE75-CCAE-4FED-8B14-0E67F73E2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BD45-48FF-4327-88C5-7C304F89C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5ECF-A0F7-41DD-8102-F7C8F19A9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47A0-3AE4-42F6-95C6-ACC8F1F40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AA17-03C3-4F10-BA7D-67BBF6F0B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A5AD-3707-4810-9C98-14458F3B5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3CC8-BC12-4D08-B2FE-9CA703EEC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C900-4CDC-4982-B011-CF8458667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DDF3-50DA-428E-838A-10EEF4B02D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2E50-EFC4-4EFC-B28C-454750B1CA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378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ＭＳ Ｐゴシック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2011.1.12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国際標準戦略部会</a:t>
            </a: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9C41-DD29-4176-93BF-03F73093F9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国際標準戦略部会　第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回開催（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010.12.1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803160"/>
            <a:ext cx="850716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回部会の検討内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１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の進め方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についての議論　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仕様検討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設置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参加企業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三菱電機、ネクストウエーブ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MR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NTT-I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ゴール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配信サーバ～表示端末間標準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F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ドラフト検討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標準化情報収集・発信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設置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参加企業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シスコシステムズ、共同通信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NTT-I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MRI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ゴール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海外の標準化事例まとめ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ドラフトの海外発信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２．トピックス（総務省の動きなど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１）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ユーザーズフォーラム」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回会合開催（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10.12.2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⇒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記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G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同フォーラムの連携・協調を議論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佐々木　守彦</cp:lastModifiedBy>
  <dcterms:modified xsi:type="dcterms:W3CDTF">2011-01-12T02:42:36Z</dcterms:modified>
  <cp:revision>49</cp:revision>
  <dc:subject/>
  <dc:title>２.目的</dc:title>
</cp:coreProperties>
</file>