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5322-7328-4450-9788-63DA1E052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7154-20E5-4FD4-B032-3CED40791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A1BE-24C8-4C69-AF3D-1BDCF1EBC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E0E7-25C7-4959-AFF4-0B7D30EA7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C8EB-314E-439D-8478-06C305C4E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0FA5-9FFF-4834-8259-B696B4591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969D-5364-404A-B551-6AF86D7F3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3931-5DAA-4D41-A292-6A068478C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1B64-7992-404F-91CB-C9A4F4B9E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4965-1E4E-403A-A1CC-1C8A25E09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1B90-484A-4F08-B942-EDBC22F72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9E09-FC1E-41F5-AA07-D72F4814E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78F3-5766-447D-B556-91EEEB38AA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0841-BDC1-49B0-9059-B640FDEE6C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378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ＭＳ Ｐゴシック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</a:rPr>
              <a:t>2010.12.8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国際標準戦略部会</a:t>
            </a: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21C-B029-430F-B408-7B61061A4A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408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国際標準戦略部会　第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回開催（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2010.11.29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803160"/>
            <a:ext cx="850716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回部会の検討内容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１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ケーススタディ（勉強会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①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サービス事例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PDC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殿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２）総務省殿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検討の経緯と今後についてのご説明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３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の進め方についての議論　（次ページ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仕様検討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設置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情報収集・発信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設置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２．トピックス（総務省の動きなど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１）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ユーザーズフォーラム」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回会合開催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10.11.3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２）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ワークショップ（仮称）」来年３月開催予定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7B4A-F687-4AE4-ABFB-93F352E1BC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408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国際標準戦略部会　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（ワーキング・グループ）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803160"/>
            <a:ext cx="850716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３．国際標準戦略部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10.1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より立上げ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仕様検討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目的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配信サーバと端末間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F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等の標準仕様検討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ンバー（現時点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・三菱電機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・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NTT-I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情報収集・発信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目的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国際標準化動向の情報収集と日本の取組の海外発信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ンバー（現時点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・シスコシステムズ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・共同通信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・三菱総合研究所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佐々木　守彦</cp:lastModifiedBy>
  <dcterms:modified xsi:type="dcterms:W3CDTF">2010-12-07T08:51:27Z</dcterms:modified>
  <cp:revision>46</cp:revision>
  <dc:subject/>
  <dc:title>２.目的</dc:title>
</cp:coreProperties>
</file>