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帯電話のスピーカから音を出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546E-17AF-4D0F-90C7-D2C7982B4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5133-877C-40B2-A739-E6B728C29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3ABE-F180-4DEA-9026-FFFEA52E1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0A6A-8FDF-41E2-ABEA-0FE113CF3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5AEA-805E-450C-ADAE-BB364E694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06E6-6ED6-4B04-B807-4C2BAF1F6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88F5-E485-4011-A049-2F47C4981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5487-60DB-43C0-A715-6B9F291FE5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9500-6F80-4EA4-AA12-4C8EF8C6FA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3BD6-2E46-4B6F-98EC-3227A940A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8E99-5E41-4DB3-AA45-D500CD2F6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0066-EAF0-4756-AA38-77DBCBD24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FB58-CB1C-4079-9541-FC2E8EDFDC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39C7-6571-4C5E-9594-5BC4776451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0B8B-3D00-48E1-A27B-7BF41A44F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EB40-C85D-4B86-A1EA-D730F617FB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2BCC-5FFB-45C4-8ADF-186C499ABC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A4D-20AE-4F4E-82E2-BD214A6B37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A58-61B3-4467-ACEF-D7C9E7AE5F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924-8AE3-4003-A7F6-CD96A00228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48C-4CA0-4717-895B-5F5D986BA1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8B7-7767-4B9A-8E2B-B31E95C0B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7094-96C9-4B44-8C32-70B4A1F692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E16-3E49-4693-A8E6-6543AAE609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C39-9321-49ED-8D19-08678EA1A4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EAC-5C29-4599-8C8C-19485124EC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252-3C0F-4F0E-ABDB-0CB53ECC99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790-CB26-40E9-8D4F-C0CF2FA15D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D12-FC30-4342-B59B-387C4EE114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704-6795-43DF-8F00-82D6E6E37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44F4-2BBB-4117-A22C-53BF7B203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5878-540F-4678-B4A2-B647B547C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4FFA-D677-442A-B69B-C23BF1F94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D81C-2375-47CF-A13B-0B7AA66F9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5DC9-E2A7-4AF1-A597-9B62405BF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4F99-C84C-4315-B4CE-B8FD64266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4000"/>
          </a:bodyPr>
          <a:p>
            <a:pPr marL="331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E235-32BB-4E42-BCC2-C10BD04081F8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9866-35C5-4EDB-9192-96384F9A61EB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a6eef8"/>
              </a:gs>
              <a:gs pos="50000">
                <a:srgbClr val="ffffff"/>
              </a:gs>
              <a:gs pos="100000">
                <a:srgbClr val="a6ee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9166-565B-4C94-B531-4C18886D3596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スライド番号プレースホルダ 3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6D5-F3DC-4EF6-80EF-68E71204E50D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5" name="Freeform 2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7280 h 487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129" name="Freeform 6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7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131" name="Freeform 8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821" y="15230"/>
                    </a:moveTo>
                    <a:lnTo>
                      <a:pt x="10757" y="15108"/>
                    </a:lnTo>
                    <a:lnTo>
                      <a:pt x="6085" y="10167"/>
                    </a:lnTo>
                    <a:lnTo>
                      <a:pt x="2760" y="2695"/>
                    </a:lnTo>
                    <a:lnTo>
                      <a:pt x="0" y="0"/>
                    </a:lnTo>
                    <a:lnTo>
                      <a:pt x="478" y="1062"/>
                    </a:lnTo>
                    <a:lnTo>
                      <a:pt x="0" y="2654"/>
                    </a:lnTo>
                    <a:lnTo>
                      <a:pt x="652" y="4859"/>
                    </a:lnTo>
                    <a:lnTo>
                      <a:pt x="1630" y="9922"/>
                    </a:lnTo>
                    <a:lnTo>
                      <a:pt x="978" y="17231"/>
                    </a:lnTo>
                    <a:lnTo>
                      <a:pt x="4346" y="13434"/>
                    </a:lnTo>
                    <a:lnTo>
                      <a:pt x="12864" y="21518"/>
                    </a:lnTo>
                    <a:lnTo>
                      <a:pt x="21600" y="21600"/>
                    </a:lnTo>
                    <a:lnTo>
                      <a:pt x="17993" y="19313"/>
                    </a:lnTo>
                    <a:lnTo>
                      <a:pt x="13821" y="15230"/>
                    </a:lnTo>
                    <a:close/>
                    <a:moveTo>
                      <a:pt x="13821" y="1523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1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Freeform 13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9A5F-C9D3-49DD-BEE5-E2D56E46478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03280" y="4076640"/>
            <a:ext cx="640080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/12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システム部会 幹事・事務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457200" y="590400"/>
            <a:ext cx="82296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3e3ff"/>
                </a:solidFill>
                <a:latin typeface="Arial"/>
              </a:rPr>
              <a:t>デジタルサイネージコンソーシアム</a:t>
            </a:r>
            <a:br>
              <a:rPr sz="3600"/>
            </a:b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システム部会活動報告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角丸四角形 63"/>
          <p:cNvSpPr/>
          <p:nvPr/>
        </p:nvSpPr>
        <p:spPr>
          <a:xfrm>
            <a:off x="539640" y="5013360"/>
            <a:ext cx="273708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前回の振り返り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82FB-C437-45AB-9493-812259975A0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3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2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F6D-8881-4852-9A02-98B4E3D4B49A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テキスト ボックス 89"/>
          <p:cNvSpPr/>
          <p:nvPr/>
        </p:nvSpPr>
        <p:spPr>
          <a:xfrm>
            <a:off x="539640" y="1332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1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シーンの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シーン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90"/>
          <p:cNvSpPr/>
          <p:nvPr/>
        </p:nvSpPr>
        <p:spPr>
          <a:xfrm>
            <a:off x="611280" y="3357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シーンの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技術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91"/>
          <p:cNvSpPr/>
          <p:nvPr/>
        </p:nvSpPr>
        <p:spPr>
          <a:xfrm>
            <a:off x="46836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3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シーンの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インターフェイス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グループ化 30" descr=""/>
          <p:cNvPicPr/>
          <p:nvPr/>
        </p:nvPicPr>
        <p:blipFill>
          <a:blip r:embed="rId1"/>
          <a:stretch/>
        </p:blipFill>
        <p:spPr>
          <a:xfrm>
            <a:off x="3103560" y="1163520"/>
            <a:ext cx="6149880" cy="1500480"/>
          </a:xfrm>
          <a:prstGeom prst="rect">
            <a:avLst/>
          </a:prstGeom>
          <a:ln w="0">
            <a:noFill/>
          </a:ln>
        </p:spPr>
      </p:pic>
      <p:pic>
        <p:nvPicPr>
          <p:cNvPr id="175" name="グループ化 54" descr=""/>
          <p:cNvPicPr/>
          <p:nvPr/>
        </p:nvPicPr>
        <p:blipFill>
          <a:blip r:embed="rId2"/>
          <a:stretch/>
        </p:blipFill>
        <p:spPr>
          <a:xfrm>
            <a:off x="3486240" y="3029040"/>
            <a:ext cx="4925880" cy="1450800"/>
          </a:xfrm>
          <a:prstGeom prst="rect">
            <a:avLst/>
          </a:prstGeom>
          <a:ln w="0">
            <a:noFill/>
          </a:ln>
        </p:spPr>
      </p:pic>
      <p:pic>
        <p:nvPicPr>
          <p:cNvPr id="176" name="グループ化 72" descr=""/>
          <p:cNvPicPr/>
          <p:nvPr/>
        </p:nvPicPr>
        <p:blipFill>
          <a:blip r:embed="rId3"/>
          <a:stretch/>
        </p:blipFill>
        <p:spPr>
          <a:xfrm>
            <a:off x="4406760" y="5114880"/>
            <a:ext cx="269568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下矢印 126"/>
          <p:cNvSpPr/>
          <p:nvPr/>
        </p:nvSpPr>
        <p:spPr>
          <a:xfrm>
            <a:off x="1619280" y="2276640"/>
            <a:ext cx="57636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下矢印 127"/>
          <p:cNvSpPr/>
          <p:nvPr/>
        </p:nvSpPr>
        <p:spPr>
          <a:xfrm>
            <a:off x="1619280" y="4292640"/>
            <a:ext cx="57636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4581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日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0000004768372">
                                      <p:cBhvr additive="repl">
                                        <p:cTn id="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スライド番号プレースホルダ 3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0EA4-B39C-444C-A2A9-565B33EB7679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角丸四角形 4"/>
          <p:cNvSpPr/>
          <p:nvPr/>
        </p:nvSpPr>
        <p:spPr>
          <a:xfrm>
            <a:off x="1979640" y="1052640"/>
            <a:ext cx="5977080" cy="5329080"/>
          </a:xfrm>
          <a:prstGeom prst="roundRect">
            <a:avLst>
              <a:gd name="adj" fmla="val 7417"/>
            </a:avLst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図 7" descr="070713-3.gif"/>
          <p:cNvPicPr/>
          <p:nvPr/>
        </p:nvPicPr>
        <p:blipFill>
          <a:blip r:embed="rId1"/>
          <a:stretch/>
        </p:blipFill>
        <p:spPr>
          <a:xfrm>
            <a:off x="7020000" y="1341360"/>
            <a:ext cx="79668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図 8" descr="070713-3.gif"/>
          <p:cNvPicPr/>
          <p:nvPr/>
        </p:nvPicPr>
        <p:blipFill>
          <a:blip r:embed="rId2"/>
          <a:stretch/>
        </p:blipFill>
        <p:spPr>
          <a:xfrm>
            <a:off x="7020000" y="2781360"/>
            <a:ext cx="814320" cy="1104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2577960" y="-5968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e3e3ff"/>
                </a:solidFill>
                <a:latin typeface="Arial"/>
              </a:rPr>
              <a:t>　　　　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【</a:t>
            </a:r>
            <a:r>
              <a:rPr b="0" lang="ja-JP" sz="4000" spc="-1" strike="noStrike">
                <a:solidFill>
                  <a:srgbClr val="e3e3ff"/>
                </a:solidFill>
                <a:latin typeface="Arial"/>
              </a:rPr>
              <a:t>出力：スピーカ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85" name="グループ化 11"/>
          <p:cNvGrpSpPr/>
          <p:nvPr/>
        </p:nvGrpSpPr>
        <p:grpSpPr>
          <a:xfrm>
            <a:off x="179280" y="4292640"/>
            <a:ext cx="2376720" cy="2232000"/>
            <a:chOff x="179280" y="4292640"/>
            <a:chExt cx="2376720" cy="2232000"/>
          </a:xfrm>
        </p:grpSpPr>
        <p:sp>
          <p:nvSpPr>
            <p:cNvPr id="186" name="角丸四角形 9"/>
            <p:cNvSpPr/>
            <p:nvPr/>
          </p:nvSpPr>
          <p:spPr>
            <a:xfrm>
              <a:off x="179280" y="4292640"/>
              <a:ext cx="2376720" cy="12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ディスプレイの前に誰が居るの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)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大人、子供・・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角丸四角形 10"/>
            <p:cNvSpPr/>
            <p:nvPr/>
          </p:nvSpPr>
          <p:spPr>
            <a:xfrm>
              <a:off x="179280" y="5516640"/>
              <a:ext cx="237672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出力先は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角丸四角形 7"/>
          <p:cNvSpPr/>
          <p:nvPr/>
        </p:nvSpPr>
        <p:spPr>
          <a:xfrm>
            <a:off x="318960" y="1268280"/>
            <a:ext cx="13273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ＰＣ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角丸四角形 8"/>
          <p:cNvSpPr/>
          <p:nvPr/>
        </p:nvSpPr>
        <p:spPr>
          <a:xfrm>
            <a:off x="187200" y="2708280"/>
            <a:ext cx="15987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テキス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角丸四角形 12"/>
          <p:cNvSpPr/>
          <p:nvPr/>
        </p:nvSpPr>
        <p:spPr>
          <a:xfrm>
            <a:off x="2562120" y="2708280"/>
            <a:ext cx="131940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音声合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角丸四角形 13"/>
          <p:cNvSpPr/>
          <p:nvPr/>
        </p:nvSpPr>
        <p:spPr>
          <a:xfrm>
            <a:off x="4370400" y="1700280"/>
            <a:ext cx="768240" cy="1944720"/>
          </a:xfrm>
          <a:custGeom>
            <a:avLst/>
            <a:gdLst>
              <a:gd name="textAreaLeft" fmla="*/ 37440 w 768240"/>
              <a:gd name="textAreaRight" fmla="*/ 730800 w 768240"/>
              <a:gd name="textAreaTop" fmla="*/ 37440 h 1944720"/>
              <a:gd name="textAreaBottom" fmla="*/ 1907280 h 1944720"/>
            </a:gdLst>
            <a:ahLst/>
            <a:rect l="textAreaLeft" t="textAreaTop" r="textAreaRight" b="textAreaBottom"/>
            <a:pathLst>
              <a:path w="21600" h="54663">
                <a:moveTo>
                  <a:pt x="3600" y="0"/>
                </a:moveTo>
                <a:arcTo wR="3600" hR="3600" stAng="16200000" swAng="-5400000"/>
                <a:lnTo>
                  <a:pt x="0" y="51063"/>
                </a:lnTo>
                <a:arcTo wR="3600" hR="3600" stAng="10800000" swAng="-5400000"/>
                <a:lnTo>
                  <a:pt x="18000" y="54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出力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角丸四角形 14"/>
          <p:cNvSpPr/>
          <p:nvPr/>
        </p:nvSpPr>
        <p:spPr>
          <a:xfrm>
            <a:off x="5697360" y="1700280"/>
            <a:ext cx="768600" cy="1944720"/>
          </a:xfrm>
          <a:custGeom>
            <a:avLst/>
            <a:gdLst>
              <a:gd name="textAreaLeft" fmla="*/ 37440 w 768600"/>
              <a:gd name="textAreaRight" fmla="*/ 731160 w 768600"/>
              <a:gd name="textAreaTop" fmla="*/ 37440 h 1944720"/>
              <a:gd name="textAreaBottom" fmla="*/ 1907280 h 1944720"/>
            </a:gdLst>
            <a:ahLst/>
            <a:rect l="textAreaLeft" t="textAreaTop" r="textAreaRight" b="textAreaBottom"/>
            <a:pathLst>
              <a:path w="21600" h="54637">
                <a:moveTo>
                  <a:pt x="3600" y="0"/>
                </a:moveTo>
                <a:arcTo wR="3600" hR="3600" stAng="16200000" swAng="-5400000"/>
                <a:lnTo>
                  <a:pt x="0" y="51037"/>
                </a:lnTo>
                <a:arcTo wR="3600" hR="3600" stAng="10800000" swAng="-5400000"/>
                <a:lnTo>
                  <a:pt x="18000" y="54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ＡＭ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線矢印コネクタ 16"/>
          <p:cNvCxnSpPr>
            <a:stCxn id="188" idx="3"/>
          </p:cNvCxnSpPr>
          <p:nvPr/>
        </p:nvCxnSpPr>
        <p:spPr>
          <a:xfrm>
            <a:off x="1645920" y="1844280"/>
            <a:ext cx="2655000" cy="252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194" name="直線矢印コネクタ 21"/>
          <p:cNvCxnSpPr/>
          <p:nvPr/>
        </p:nvCxnSpPr>
        <p:spPr>
          <a:xfrm>
            <a:off x="5208120" y="1844280"/>
            <a:ext cx="559800" cy="252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195" name="直線矢印コネクタ 24"/>
          <p:cNvCxnSpPr>
            <a:endCxn id="190" idx="1"/>
          </p:cNvCxnSpPr>
          <p:nvPr/>
        </p:nvCxnSpPr>
        <p:spPr>
          <a:xfrm>
            <a:off x="1785960" y="3249720"/>
            <a:ext cx="77688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196" name="直線矢印コネクタ 30"/>
          <p:cNvCxnSpPr/>
          <p:nvPr/>
        </p:nvCxnSpPr>
        <p:spPr>
          <a:xfrm>
            <a:off x="3881520" y="3284640"/>
            <a:ext cx="55908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197" name="直線矢印コネクタ 32"/>
          <p:cNvCxnSpPr/>
          <p:nvPr/>
        </p:nvCxnSpPr>
        <p:spPr>
          <a:xfrm>
            <a:off x="5208120" y="3284640"/>
            <a:ext cx="55980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198" name="直線矢印コネクタ 33"/>
          <p:cNvCxnSpPr/>
          <p:nvPr/>
        </p:nvCxnSpPr>
        <p:spPr>
          <a:xfrm>
            <a:off x="6605640" y="3284640"/>
            <a:ext cx="55908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199" name="直線矢印コネクタ 34"/>
          <p:cNvCxnSpPr/>
          <p:nvPr/>
        </p:nvCxnSpPr>
        <p:spPr>
          <a:xfrm>
            <a:off x="6605640" y="1916280"/>
            <a:ext cx="55908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200" name="図形 36"/>
          <p:cNvCxnSpPr>
            <a:endCxn id="191" idx="2"/>
          </p:cNvCxnSpPr>
          <p:nvPr/>
        </p:nvCxnSpPr>
        <p:spPr>
          <a:xfrm flipV="1">
            <a:off x="2626920" y="3644280"/>
            <a:ext cx="2127960" cy="1369080"/>
          </a:xfrm>
          <a:prstGeom prst="bentConnector2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pic>
        <p:nvPicPr>
          <p:cNvPr id="201" name="図 6" descr="maki68.gif"/>
          <p:cNvPicPr/>
          <p:nvPr/>
        </p:nvPicPr>
        <p:blipFill>
          <a:blip r:embed="rId3"/>
          <a:stretch/>
        </p:blipFill>
        <p:spPr>
          <a:xfrm>
            <a:off x="7846920" y="4613400"/>
            <a:ext cx="685800" cy="1768320"/>
          </a:xfrm>
          <a:prstGeom prst="rect">
            <a:avLst/>
          </a:prstGeom>
          <a:ln w="0">
            <a:noFill/>
          </a:ln>
        </p:spPr>
      </p:pic>
      <p:grpSp>
        <p:nvGrpSpPr>
          <p:cNvPr id="202" name="グループ化 41"/>
          <p:cNvGrpSpPr/>
          <p:nvPr/>
        </p:nvGrpSpPr>
        <p:grpSpPr>
          <a:xfrm>
            <a:off x="2987640" y="260280"/>
            <a:ext cx="4392720" cy="5472360"/>
            <a:chOff x="2987640" y="260280"/>
            <a:chExt cx="4392720" cy="5472360"/>
          </a:xfrm>
        </p:grpSpPr>
        <p:sp>
          <p:nvSpPr>
            <p:cNvPr id="203" name="円形吹き出し 39"/>
            <p:cNvSpPr/>
            <p:nvPr/>
          </p:nvSpPr>
          <p:spPr>
            <a:xfrm>
              <a:off x="4211640" y="260280"/>
              <a:ext cx="3168720" cy="936720"/>
            </a:xfrm>
            <a:prstGeom prst="wedgeEllipseCallout">
              <a:avLst>
                <a:gd name="adj1" fmla="val -33185"/>
                <a:gd name="adj2" fmla="val 98555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マルチチャンネ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円形吹き出し 40"/>
            <p:cNvSpPr/>
            <p:nvPr/>
          </p:nvSpPr>
          <p:spPr>
            <a:xfrm>
              <a:off x="2987640" y="4795920"/>
              <a:ext cx="3168720" cy="936720"/>
            </a:xfrm>
            <a:prstGeom prst="wedgeEllipseCallout">
              <a:avLst>
                <a:gd name="adj1" fmla="val 11101"/>
                <a:gd name="adj2" fmla="val -170912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どのスピカー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音を出力する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角丸四角形 42"/>
          <p:cNvSpPr/>
          <p:nvPr/>
        </p:nvSpPr>
        <p:spPr>
          <a:xfrm>
            <a:off x="8172360" y="1052640"/>
            <a:ext cx="720720" cy="136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8360"/>
              <a:gd name="textAreaBottom" fmla="*/ 1333440 h 1368360"/>
            </a:gdLst>
            <a:ahLst/>
            <a:rect l="textAreaLeft" t="textAreaTop" r="textAreaRight" b="textAreaBottom"/>
            <a:pathLst>
              <a:path w="21600" h="41000">
                <a:moveTo>
                  <a:pt x="3600" y="0"/>
                </a:moveTo>
                <a:arcTo wR="3600" hR="3600" stAng="16200000" swAng="-5400000"/>
                <a:lnTo>
                  <a:pt x="0" y="37400"/>
                </a:lnTo>
                <a:arcTo wR="3600" hR="3600" stAng="10800000" swAng="-5400000"/>
                <a:lnTo>
                  <a:pt x="18000" y="41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大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角丸四角形 43"/>
          <p:cNvSpPr/>
          <p:nvPr/>
        </p:nvSpPr>
        <p:spPr>
          <a:xfrm>
            <a:off x="8172360" y="2708280"/>
            <a:ext cx="720720" cy="136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8360"/>
              <a:gd name="textAreaBottom" fmla="*/ 1333440 h 1368360"/>
            </a:gdLst>
            <a:ahLst/>
            <a:rect l="textAreaLeft" t="textAreaTop" r="textAreaRight" b="textAreaBottom"/>
            <a:pathLst>
              <a:path w="21600" h="41000">
                <a:moveTo>
                  <a:pt x="3600" y="0"/>
                </a:moveTo>
                <a:arcTo wR="3600" hR="3600" stAng="16200000" swAng="-5400000"/>
                <a:lnTo>
                  <a:pt x="0" y="37400"/>
                </a:lnTo>
                <a:arcTo wR="3600" hR="3600" stAng="10800000" swAng="-5400000"/>
                <a:lnTo>
                  <a:pt x="18000" y="41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子供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線矢印コネクタ 45"/>
          <p:cNvCxnSpPr/>
          <p:nvPr/>
        </p:nvCxnSpPr>
        <p:spPr>
          <a:xfrm>
            <a:off x="7740720" y="1557360"/>
            <a:ext cx="50400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cxnSp>
        <p:nvCxnSpPr>
          <p:cNvPr id="208" name="直線矢印コネクタ 50"/>
          <p:cNvCxnSpPr/>
          <p:nvPr/>
        </p:nvCxnSpPr>
        <p:spPr>
          <a:xfrm>
            <a:off x="7740720" y="3284640"/>
            <a:ext cx="504000" cy="2160"/>
          </a:xfrm>
          <a:prstGeom prst="straightConnector1">
            <a:avLst/>
          </a:prstGeom>
          <a:ln w="57240">
            <a:solidFill>
              <a:srgbClr val="adcaff"/>
            </a:solidFill>
            <a:miter/>
            <a:tailEnd len="med" type="arrow" w="med"/>
          </a:ln>
        </p:spPr>
      </p:cxnSp>
      <p:sp>
        <p:nvSpPr>
          <p:cNvPr id="209" name="角丸四角形 51"/>
          <p:cNvSpPr/>
          <p:nvPr/>
        </p:nvSpPr>
        <p:spPr>
          <a:xfrm>
            <a:off x="6659640" y="4869000"/>
            <a:ext cx="865080" cy="1152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1152360"/>
              <a:gd name="textAreaBottom" fmla="*/ 1110240 h 1152360"/>
            </a:gdLst>
            <a:ahLst/>
            <a:rect l="textAreaLeft" t="textAreaTop" r="textAreaRight" b="textAreaBottom"/>
            <a:pathLst>
              <a:path w="21600" h="28770">
                <a:moveTo>
                  <a:pt x="3600" y="0"/>
                </a:moveTo>
                <a:arcTo wR="3600" hR="3600" stAng="16200000" swAng="-5400000"/>
                <a:lnTo>
                  <a:pt x="0" y="25170"/>
                </a:lnTo>
                <a:arcTo wR="3600" hR="3600" stAng="10800000" swAng="-5400000"/>
                <a:lnTo>
                  <a:pt x="18000" y="28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53"/>
          <p:cNvCxnSpPr/>
          <p:nvPr/>
        </p:nvCxnSpPr>
        <p:spPr>
          <a:xfrm>
            <a:off x="5292720" y="3644640"/>
            <a:ext cx="1296000" cy="1585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11" name="直線矢印コネクタ 55"/>
          <p:cNvCxnSpPr/>
          <p:nvPr/>
        </p:nvCxnSpPr>
        <p:spPr>
          <a:xfrm>
            <a:off x="7451640" y="5084280"/>
            <a:ext cx="650160" cy="25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検討結果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0E44-5225-4F2E-8D40-19554848D33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6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8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5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B5D7-6DBD-41B6-B1A8-A4581BEBD08A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図 64" descr="PB180070.JPG"/>
          <p:cNvPicPr/>
          <p:nvPr/>
        </p:nvPicPr>
        <p:blipFill>
          <a:blip r:embed="rId1"/>
          <a:stretch/>
        </p:blipFill>
        <p:spPr>
          <a:xfrm>
            <a:off x="1590840" y="1192320"/>
            <a:ext cx="5962320" cy="44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3480" y="-60372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検討結果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8D1-1549-4408-8519-92D0A0B9F9F7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9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41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8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B20-014F-4D6D-928B-FC132C4843B7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コンテンツ プレースホルダ 2"/>
          <p:cNvSpPr/>
          <p:nvPr/>
        </p:nvSpPr>
        <p:spPr>
          <a:xfrm>
            <a:off x="709560" y="112536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１．画像認識（入力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カメラの大きさ、認識、エンジンのコスト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パワーが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２．データ（出力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必要な情報量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MB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とする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Mbp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以上の高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な通信機能を持ったインターフェースが必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角丸四角形 26" descr=""/>
          <p:cNvPicPr/>
          <p:nvPr/>
        </p:nvPicPr>
        <p:blipFill>
          <a:blip r:embed="rId1"/>
          <a:stretch/>
        </p:blipFill>
        <p:spPr>
          <a:xfrm>
            <a:off x="311040" y="987480"/>
            <a:ext cx="24019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3480" y="-60372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検討結果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D9BA-EB97-494C-B4AB-79B4543901EE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3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5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B47-C275-4713-9D75-F263C22C3064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コンテンツ プレースホルダ 2"/>
          <p:cNvSpPr/>
          <p:nvPr/>
        </p:nvSpPr>
        <p:spPr>
          <a:xfrm>
            <a:off x="468360" y="112536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１．言語認識（入力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指向性のマイクを使用し、カメラをつけること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よって、話している人の場所を認識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２．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F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luetooth,WiFi,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フェリカの方が携帯電話とデジタ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サイネージの距離がわかり、導線の把握に使える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角丸四角形 27" descr=""/>
          <p:cNvPicPr/>
          <p:nvPr/>
        </p:nvPicPr>
        <p:blipFill>
          <a:blip r:embed="rId1"/>
          <a:stretch/>
        </p:blipFill>
        <p:spPr>
          <a:xfrm>
            <a:off x="384120" y="987480"/>
            <a:ext cx="241956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A2D8-8857-4713-8758-F1586A863CF4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今後の予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268360" y="292572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ビュ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68360" y="371808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ビュ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268360" y="451008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ドキュメントの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7361280" y="2494080"/>
            <a:ext cx="288720" cy="863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7710480" y="2492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幹事・事務局で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1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3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268360" y="134136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インターフェイス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2268360" y="2133720"/>
            <a:ext cx="4896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ドキュメン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15772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66"/>
                </a:solidFill>
                <a:latin typeface="Arial"/>
              </a:rPr>
              <a:t>第３１回　システム部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ja-JP" sz="32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ja-JP" sz="3200" spc="-1" strike="noStrike">
                <a:solidFill>
                  <a:srgbClr val="ff0066"/>
                </a:solidFill>
                <a:latin typeface="Arial"/>
              </a:rPr>
              <a:t>日開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66"/>
                </a:solidFill>
                <a:latin typeface="Arial"/>
              </a:rPr>
              <a:t>（明日で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4:43Z</dcterms:created>
  <dc:creator>M.Kubota</dc:creator>
  <dc:description/>
  <dc:language>en-US</dc:language>
  <cp:lastModifiedBy>M.Kubota</cp:lastModifiedBy>
  <dcterms:modified xsi:type="dcterms:W3CDTF">2010-12-06T05:09:02Z</dcterms:modified>
  <cp:revision>173</cp:revision>
  <dc:subject/>
  <dc:title>DSCシステム部会</dc:title>
</cp:coreProperties>
</file>