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アル店舗＞</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入力</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ＲＦＩＤが商品についていれば、（携帯を）かざして、バッと商品の色とかがわかるのでいいのでは？</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色々な人に使ってもらうために、言語識別があってもいい</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出力</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紙は、洋服の姿を映す、ウィンドウショッピングを使った時のリスティングで使えるのでは？</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ーポンゲート＞</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場所、ユーザ、時間を限定してクーポンをだすことが重要なのでは？</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ーブルサイネージ＞</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何を食べたといったライフログの記録</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イネージ側で過去のメニューを表示させ、こんな食事はどうですかのリコメンド</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こでゲームをす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口コミを投入す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指標部会で実験している渋谷のダイナーでツイッターのメッセージを出しており、</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気にしている人はいるみたい。</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グループは、入力部分の言語認識、ＲＦＩ</a:t>
            </a:r>
            <a:r>
              <a:rPr b="0" lang="en-US" sz="1200" spc="-1" strike="noStrike">
                <a:solidFill>
                  <a:srgbClr val="000000"/>
                </a:solidFill>
                <a:latin typeface="Arial"/>
              </a:rPr>
              <a:t>D</a:t>
            </a:r>
            <a:r>
              <a:rPr b="0" lang="ja-JP" sz="1200" spc="-1" strike="noStrike">
                <a:solidFill>
                  <a:srgbClr val="000000"/>
                </a:solidFill>
                <a:latin typeface="Arial"/>
              </a:rPr>
              <a:t>、画像認識の</a:t>
            </a:r>
            <a:r>
              <a:rPr b="0" lang="en-US" sz="1200" spc="-1" strike="noStrike">
                <a:solidFill>
                  <a:srgbClr val="000000"/>
                </a:solidFill>
                <a:latin typeface="Arial"/>
              </a:rPr>
              <a:t>3</a:t>
            </a:r>
            <a:r>
              <a:rPr b="0" lang="ja-JP" sz="1200" spc="-1" strike="noStrike">
                <a:solidFill>
                  <a:srgbClr val="000000"/>
                </a:solidFill>
                <a:latin typeface="Arial"/>
              </a:rPr>
              <a:t>点を主に</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話した。</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言語認識</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言語認識するためにキーワード認識をする機能は最低限必要。</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して、視覚障害者の方に対しては、サイネージの場所を知らせ、</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話しかけてもらえるように音を発する機能が必要。</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FID</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個人の</a:t>
            </a:r>
            <a:r>
              <a:rPr b="0" lang="en-US" sz="1200" spc="-1" strike="noStrike">
                <a:solidFill>
                  <a:srgbClr val="000000"/>
                </a:solidFill>
                <a:latin typeface="Arial"/>
              </a:rPr>
              <a:t>ID</a:t>
            </a:r>
            <a:r>
              <a:rPr b="0" lang="ja-JP" sz="1200" spc="-1" strike="noStrike">
                <a:solidFill>
                  <a:srgbClr val="000000"/>
                </a:solidFill>
                <a:latin typeface="Arial"/>
              </a:rPr>
              <a:t>情報の読み取りは必要。なぜなら、国籍等の情報がわかれば多言語認識</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役立ったりするので。要求機能は以下</a:t>
            </a:r>
            <a:r>
              <a:rPr b="0" lang="en-US" sz="1200" spc="-1" strike="noStrike">
                <a:solidFill>
                  <a:srgbClr val="000000"/>
                </a:solidFill>
                <a:latin typeface="Arial"/>
              </a:rPr>
              <a:t>2</a:t>
            </a:r>
            <a:r>
              <a:rPr b="0" lang="ja-JP" sz="1200" spc="-1" strike="noStrike">
                <a:solidFill>
                  <a:srgbClr val="000000"/>
                </a:solidFill>
                <a:latin typeface="Arial"/>
              </a:rPr>
              <a:t>点。</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en-US" sz="1200" spc="-1" strike="noStrike">
                <a:solidFill>
                  <a:srgbClr val="000000"/>
                </a:solidFill>
                <a:latin typeface="Arial"/>
              </a:rPr>
              <a:t>ID</a:t>
            </a:r>
            <a:r>
              <a:rPr b="0" lang="ja-JP" sz="1200" spc="-1" strike="noStrike">
                <a:solidFill>
                  <a:srgbClr val="000000"/>
                </a:solidFill>
                <a:latin typeface="Arial"/>
              </a:rPr>
              <a:t>情報の読み取り方は、対話式の認証</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あなたの年齢を</a:t>
            </a:r>
            <a:r>
              <a:rPr b="0" lang="en-US" sz="1200" spc="-1" strike="noStrike">
                <a:solidFill>
                  <a:srgbClr val="000000"/>
                </a:solidFill>
                <a:latin typeface="Arial"/>
              </a:rPr>
              <a:t>A</a:t>
            </a:r>
            <a:r>
              <a:rPr b="0" lang="ja-JP" sz="1200" spc="-1" strike="noStrike">
                <a:solidFill>
                  <a:srgbClr val="000000"/>
                </a:solidFill>
                <a:latin typeface="Arial"/>
              </a:rPr>
              <a:t>店に公開してもよろしいですか？→はい</a:t>
            </a:r>
            <a:r>
              <a:rPr b="0" lang="en-US" sz="1200" spc="-1" strike="noStrike">
                <a:solidFill>
                  <a:srgbClr val="000000"/>
                </a:solidFill>
                <a:latin typeface="Arial"/>
              </a:rPr>
              <a:t>or</a:t>
            </a:r>
            <a:r>
              <a:rPr b="0" lang="ja-JP" sz="1200" spc="-1" strike="noStrike">
                <a:solidFill>
                  <a:srgbClr val="000000"/>
                </a:solidFill>
                <a:latin typeface="Arial"/>
              </a:rPr>
              <a:t>いいえ</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多様な入力デバイスを具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ID</a:t>
            </a:r>
            <a:r>
              <a:rPr b="0" lang="ja-JP" sz="1200" spc="-1" strike="noStrike">
                <a:solidFill>
                  <a:srgbClr val="000000"/>
                </a:solidFill>
                <a:latin typeface="Arial"/>
              </a:rPr>
              <a:t>だけでは信号が弱い場合もあるので、</a:t>
            </a:r>
            <a:r>
              <a:rPr b="0" lang="en-US" sz="1200" spc="-1" strike="noStrike">
                <a:solidFill>
                  <a:srgbClr val="000000"/>
                </a:solidFill>
                <a:latin typeface="Arial"/>
              </a:rPr>
              <a:t>bluetooth</a:t>
            </a:r>
            <a:r>
              <a:rPr b="0" lang="ja-JP" sz="1200" spc="-1" strike="noStrike">
                <a:solidFill>
                  <a:srgbClr val="000000"/>
                </a:solidFill>
                <a:latin typeface="Arial"/>
              </a:rPr>
              <a:t>、</a:t>
            </a:r>
            <a:r>
              <a:rPr b="0" lang="en-US" sz="1200" spc="-1" strike="noStrike">
                <a:solidFill>
                  <a:srgbClr val="000000"/>
                </a:solidFill>
                <a:latin typeface="Arial"/>
              </a:rPr>
              <a:t>WiFi</a:t>
            </a:r>
            <a:r>
              <a:rPr b="0" lang="ja-JP" sz="1200" spc="-1" strike="noStrike">
                <a:solidFill>
                  <a:srgbClr val="000000"/>
                </a:solidFill>
                <a:latin typeface="Arial"/>
              </a:rPr>
              <a:t>等も</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して、必ず、個人情報に関するセキュリティガイドラインは必要。</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画像認識</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ノを認識する場合</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人の表情でサイネージを見ている、見ていないの判別ができる。杖を認識す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ジェスチャーを認識する場合</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水を飲んでいる等の認識ができる等。</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グループは出力部分のスピーカ、データに関し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議論。</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スピーカ</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ニバーサルデザインの観点も踏まえ、議論。</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定のトリガーに応じて必要な人に音声を届け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目の見えない人にはプッシュ型でサイネージの場所、</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好きな情報を配信できる機能を要求。</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データ</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初めて訪れた場所で情報が欲しい場合</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土地の名所等の情報を配信してくれるようにカスタマイズしてくれる機能が欲しい。</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わかっている場所だが、瞬時に欲しい情報がある場合</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イレのマップ、喫煙所等が案内板のサイネージに行くとすぐ見れるような機能が欲しい。</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D1FAA-8578-4033-BD14-3426216DD8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5" name="PlaceHolder 2"/>
          <p:cNvSpPr>
            <a:spLocks noGrp="1"/>
          </p:cNvSpPr>
          <p:nvPr>
            <p:ph/>
          </p:nvPr>
        </p:nvSpPr>
        <p:spPr>
          <a:xfrm>
            <a:off x="1371600" y="3428640"/>
            <a:ext cx="640080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1371600" y="5220000"/>
            <a:ext cx="640080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7F49D1F-674C-4D18-98E9-C23BF770DA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8" name="PlaceHolder 2"/>
          <p:cNvSpPr>
            <a:spLocks noGrp="1"/>
          </p:cNvSpPr>
          <p:nvPr>
            <p:ph/>
          </p:nvPr>
        </p:nvSpPr>
        <p:spPr>
          <a:xfrm>
            <a:off x="137160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5156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137160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5156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023542BC-F735-4932-AC2E-5C924677F4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3" name="PlaceHolder 2"/>
          <p:cNvSpPr>
            <a:spLocks noGrp="1"/>
          </p:cNvSpPr>
          <p:nvPr>
            <p:ph/>
          </p:nvPr>
        </p:nvSpPr>
        <p:spPr>
          <a:xfrm>
            <a:off x="1371600" y="342864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535560" y="342864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699880" y="342864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1371600" y="522000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535560" y="522000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699880" y="522000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371EBFE7-FA0D-4F29-9ABC-B4CEED638D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F87275-7271-46AA-8CB0-7F2A37A4D9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4" name="PlaceHolder 2"/>
          <p:cNvSpPr>
            <a:spLocks noGrp="1"/>
          </p:cNvSpPr>
          <p:nvPr>
            <p:ph type="subTitle"/>
          </p:nvPr>
        </p:nvSpPr>
        <p:spPr>
          <a:xfrm>
            <a:off x="1371600" y="3428640"/>
            <a:ext cx="64008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AD27C108-E798-4810-B96C-0493000BA5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6" name="PlaceHolder 2"/>
          <p:cNvSpPr>
            <a:spLocks noGrp="1"/>
          </p:cNvSpPr>
          <p:nvPr>
            <p:ph/>
          </p:nvPr>
        </p:nvSpPr>
        <p:spPr>
          <a:xfrm>
            <a:off x="1371600" y="3428640"/>
            <a:ext cx="640080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5851211-C510-4249-9DA6-65CF6C006E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8" name="PlaceHolder 2"/>
          <p:cNvSpPr>
            <a:spLocks noGrp="1"/>
          </p:cNvSpPr>
          <p:nvPr>
            <p:ph/>
          </p:nvPr>
        </p:nvSpPr>
        <p:spPr>
          <a:xfrm>
            <a:off x="137160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5156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03992D9-C2DA-4BC3-8313-EB462D3712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sldNum" idx="2"/>
          </p:nvPr>
        </p:nvSpPr>
        <p:spPr/>
        <p:txBody>
          <a:bodyPr/>
          <a:p>
            <a:fld id="{C6D39182-0512-4903-9D96-89C4428D57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1203480"/>
            <a:ext cx="8229600" cy="10317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29A5EBE5-9279-4C84-9956-86A015DF44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3" name="PlaceHolder 2"/>
          <p:cNvSpPr>
            <a:spLocks noGrp="1"/>
          </p:cNvSpPr>
          <p:nvPr>
            <p:ph/>
          </p:nvPr>
        </p:nvSpPr>
        <p:spPr>
          <a:xfrm>
            <a:off x="137160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5156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37160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2087A21-3166-4130-BDF3-A7455B3A4B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 name="PlaceHolder 2"/>
          <p:cNvSpPr>
            <a:spLocks noGrp="1"/>
          </p:cNvSpPr>
          <p:nvPr>
            <p:ph type="subTitle"/>
          </p:nvPr>
        </p:nvSpPr>
        <p:spPr>
          <a:xfrm>
            <a:off x="1371600" y="3428640"/>
            <a:ext cx="64008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A2AE5D4D-D2E3-47E6-A203-032783FDF3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7" name="PlaceHolder 2"/>
          <p:cNvSpPr>
            <a:spLocks noGrp="1"/>
          </p:cNvSpPr>
          <p:nvPr>
            <p:ph/>
          </p:nvPr>
        </p:nvSpPr>
        <p:spPr>
          <a:xfrm>
            <a:off x="137160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5156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65156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9B48FF6-D63D-4336-BFCC-8CE9C30A5B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61" name="PlaceHolder 2"/>
          <p:cNvSpPr>
            <a:spLocks noGrp="1"/>
          </p:cNvSpPr>
          <p:nvPr>
            <p:ph/>
          </p:nvPr>
        </p:nvSpPr>
        <p:spPr>
          <a:xfrm>
            <a:off x="137160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5156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1371600" y="5220000"/>
            <a:ext cx="640080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B8F2F476-8059-4A84-BE9F-AE247A27D8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65" name="PlaceHolder 2"/>
          <p:cNvSpPr>
            <a:spLocks noGrp="1"/>
          </p:cNvSpPr>
          <p:nvPr>
            <p:ph/>
          </p:nvPr>
        </p:nvSpPr>
        <p:spPr>
          <a:xfrm>
            <a:off x="1371600" y="3428640"/>
            <a:ext cx="640080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1371600" y="5220000"/>
            <a:ext cx="640080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A17E147-08F4-4B21-8C62-412A3FD4A7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68" name="PlaceHolder 2"/>
          <p:cNvSpPr>
            <a:spLocks noGrp="1"/>
          </p:cNvSpPr>
          <p:nvPr>
            <p:ph/>
          </p:nvPr>
        </p:nvSpPr>
        <p:spPr>
          <a:xfrm>
            <a:off x="137160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65156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426639D2-1181-49F3-9A4D-6B6C47A94C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73" name="PlaceHolder 2"/>
          <p:cNvSpPr>
            <a:spLocks noGrp="1"/>
          </p:cNvSpPr>
          <p:nvPr>
            <p:ph/>
          </p:nvPr>
        </p:nvSpPr>
        <p:spPr>
          <a:xfrm>
            <a:off x="1371600" y="342864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3535560" y="342864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5699880" y="342864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1371600" y="522000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6"/>
          <p:cNvSpPr>
            <a:spLocks noGrp="1"/>
          </p:cNvSpPr>
          <p:nvPr>
            <p:ph/>
          </p:nvPr>
        </p:nvSpPr>
        <p:spPr>
          <a:xfrm>
            <a:off x="3535560" y="522000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7"/>
          <p:cNvSpPr>
            <a:spLocks noGrp="1"/>
          </p:cNvSpPr>
          <p:nvPr>
            <p:ph/>
          </p:nvPr>
        </p:nvSpPr>
        <p:spPr>
          <a:xfrm>
            <a:off x="5699880" y="522000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42372F8B-27ED-44A1-9ECB-7B7FEEC7D20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E0536EA-C1B9-414A-ABDB-4E7A49704A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5" name="PlaceHolder 2"/>
          <p:cNvSpPr>
            <a:spLocks noGrp="1"/>
          </p:cNvSpPr>
          <p:nvPr>
            <p:ph type="subTitle"/>
          </p:nvPr>
        </p:nvSpPr>
        <p:spPr>
          <a:xfrm>
            <a:off x="1371600" y="3428640"/>
            <a:ext cx="64008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64151B1-4BB2-48B3-87A8-E60611B5E6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7" name="PlaceHolder 2"/>
          <p:cNvSpPr>
            <a:spLocks noGrp="1"/>
          </p:cNvSpPr>
          <p:nvPr>
            <p:ph/>
          </p:nvPr>
        </p:nvSpPr>
        <p:spPr>
          <a:xfrm>
            <a:off x="1371600" y="3428640"/>
            <a:ext cx="640080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8354F22-F62B-449B-AF4D-A44EF5F531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9" name="PlaceHolder 2"/>
          <p:cNvSpPr>
            <a:spLocks noGrp="1"/>
          </p:cNvSpPr>
          <p:nvPr>
            <p:ph/>
          </p:nvPr>
        </p:nvSpPr>
        <p:spPr>
          <a:xfrm>
            <a:off x="137160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5156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4AF9B91E-1B3B-4EED-8EDD-79BD8A16930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sldNum" idx="3"/>
          </p:nvPr>
        </p:nvSpPr>
        <p:spPr/>
        <p:txBody>
          <a:bodyPr/>
          <a:p>
            <a:fld id="{2016DCDB-D599-4469-B54E-DA1DCCB124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6" name="PlaceHolder 2"/>
          <p:cNvSpPr>
            <a:spLocks noGrp="1"/>
          </p:cNvSpPr>
          <p:nvPr>
            <p:ph/>
          </p:nvPr>
        </p:nvSpPr>
        <p:spPr>
          <a:xfrm>
            <a:off x="1371600" y="3428640"/>
            <a:ext cx="640080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FF7AF4C-4206-4DF7-88A5-8255E1FD16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1203480"/>
            <a:ext cx="8229600" cy="10317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9422310-AEBE-4581-88EA-20E9D785FE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4" name="PlaceHolder 2"/>
          <p:cNvSpPr>
            <a:spLocks noGrp="1"/>
          </p:cNvSpPr>
          <p:nvPr>
            <p:ph/>
          </p:nvPr>
        </p:nvSpPr>
        <p:spPr>
          <a:xfrm>
            <a:off x="137160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5156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137160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11313E38-94D0-4ADB-8982-04BBBFC492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8" name="PlaceHolder 2"/>
          <p:cNvSpPr>
            <a:spLocks noGrp="1"/>
          </p:cNvSpPr>
          <p:nvPr>
            <p:ph/>
          </p:nvPr>
        </p:nvSpPr>
        <p:spPr>
          <a:xfrm>
            <a:off x="137160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5156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5156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2037E3C6-6566-4F6F-9D7D-9297A5C085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2" name="PlaceHolder 2"/>
          <p:cNvSpPr>
            <a:spLocks noGrp="1"/>
          </p:cNvSpPr>
          <p:nvPr>
            <p:ph/>
          </p:nvPr>
        </p:nvSpPr>
        <p:spPr>
          <a:xfrm>
            <a:off x="137160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5156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1371600" y="5220000"/>
            <a:ext cx="640080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381AAC25-CE3F-4542-AD48-6ED5B2BFA4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6" name="PlaceHolder 2"/>
          <p:cNvSpPr>
            <a:spLocks noGrp="1"/>
          </p:cNvSpPr>
          <p:nvPr>
            <p:ph/>
          </p:nvPr>
        </p:nvSpPr>
        <p:spPr>
          <a:xfrm>
            <a:off x="1371600" y="3428640"/>
            <a:ext cx="640080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1371600" y="5220000"/>
            <a:ext cx="640080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22447E1E-16AD-4021-BBCE-193261E35B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9" name="PlaceHolder 2"/>
          <p:cNvSpPr>
            <a:spLocks noGrp="1"/>
          </p:cNvSpPr>
          <p:nvPr>
            <p:ph/>
          </p:nvPr>
        </p:nvSpPr>
        <p:spPr>
          <a:xfrm>
            <a:off x="137160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5156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137160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5156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3"/>
          </p:nvPr>
        </p:nvSpPr>
        <p:spPr/>
        <p:txBody>
          <a:bodyPr/>
          <a:p>
            <a:fld id="{A24715F9-F208-4245-A77D-D87B993A8B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4" name="PlaceHolder 2"/>
          <p:cNvSpPr>
            <a:spLocks noGrp="1"/>
          </p:cNvSpPr>
          <p:nvPr>
            <p:ph/>
          </p:nvPr>
        </p:nvSpPr>
        <p:spPr>
          <a:xfrm>
            <a:off x="1371600" y="342864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535560" y="342864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5699880" y="342864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1371600" y="522000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535560" y="522000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5699880" y="5220000"/>
            <a:ext cx="206064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3"/>
          </p:nvPr>
        </p:nvSpPr>
        <p:spPr/>
        <p:txBody>
          <a:bodyPr/>
          <a:p>
            <a:fld id="{0F173CE4-B546-4CFF-9BDA-B58439A0E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 name="PlaceHolder 2"/>
          <p:cNvSpPr>
            <a:spLocks noGrp="1"/>
          </p:cNvSpPr>
          <p:nvPr>
            <p:ph/>
          </p:nvPr>
        </p:nvSpPr>
        <p:spPr>
          <a:xfrm>
            <a:off x="137160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5156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5DAF2097-1DCB-4DF2-8E84-0D3A313454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sldNum" idx="1"/>
          </p:nvPr>
        </p:nvSpPr>
        <p:spPr/>
        <p:txBody>
          <a:bodyPr/>
          <a:p>
            <a:fld id="{8561F8FC-B89F-4579-9C52-494E1BBCFB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203480"/>
            <a:ext cx="8229600" cy="10317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EB6D8302-6D65-4D7F-8B0D-C016BC537D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3" name="PlaceHolder 2"/>
          <p:cNvSpPr>
            <a:spLocks noGrp="1"/>
          </p:cNvSpPr>
          <p:nvPr>
            <p:ph/>
          </p:nvPr>
        </p:nvSpPr>
        <p:spPr>
          <a:xfrm>
            <a:off x="137160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5156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137160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BE06A2B-A3C1-496E-BAAE-C68166ADAA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7" name="PlaceHolder 2"/>
          <p:cNvSpPr>
            <a:spLocks noGrp="1"/>
          </p:cNvSpPr>
          <p:nvPr>
            <p:ph/>
          </p:nvPr>
        </p:nvSpPr>
        <p:spPr>
          <a:xfrm>
            <a:off x="1371600" y="3428640"/>
            <a:ext cx="3123360" cy="342900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5156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51560" y="522000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83042C1-2420-4C11-BEAB-CB7AFF3164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1" name="PlaceHolder 2"/>
          <p:cNvSpPr>
            <a:spLocks noGrp="1"/>
          </p:cNvSpPr>
          <p:nvPr>
            <p:ph/>
          </p:nvPr>
        </p:nvSpPr>
        <p:spPr>
          <a:xfrm>
            <a:off x="137160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51560" y="3428640"/>
            <a:ext cx="312336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1371600" y="5220000"/>
            <a:ext cx="6400800" cy="1635480"/>
          </a:xfrm>
          <a:prstGeom prst="rect">
            <a:avLst/>
          </a:prstGeom>
          <a:noFill/>
          <a:ln w="0">
            <a:noFill/>
          </a:ln>
        </p:spPr>
        <p:txBody>
          <a:bodyPr lIns="50760" rIns="9000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50FFE6A2-D772-49F9-A3BB-0102F90ECD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45"/>
            </a:gs>
            <a:gs pos="100000">
              <a:srgbClr val="0032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 name="PlaceHolder 2"/>
          <p:cNvSpPr>
            <a:spLocks noGrp="1"/>
          </p:cNvSpPr>
          <p:nvPr>
            <p:ph type="body"/>
          </p:nvPr>
        </p:nvSpPr>
        <p:spPr>
          <a:xfrm>
            <a:off x="1371600" y="3428640"/>
            <a:ext cx="6400800" cy="3429000"/>
          </a:xfrm>
          <a:prstGeom prst="rect">
            <a:avLst/>
          </a:prstGeom>
          <a:noFill/>
          <a:ln w="0">
            <a:noFill/>
          </a:ln>
        </p:spPr>
        <p:txBody>
          <a:bodyPr lIns="50760" rIns="90000" tIns="50760" bIns="50760" anchor="t">
            <a:normAutofit fontScale="84000"/>
          </a:bodyPr>
          <a:p>
            <a:pPr marL="331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476840" y="6426360"/>
            <a:ext cx="28404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6A13-5244-46D0-B607-68EA1099EF1F}"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844280"/>
            <a:ext cx="7772400" cy="204156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1371600" y="3885840"/>
            <a:ext cx="6400800" cy="2971800"/>
          </a:xfrm>
          <a:prstGeom prst="rect">
            <a:avLst/>
          </a:prstGeom>
          <a:noFill/>
          <a:ln w="0">
            <a:noFill/>
          </a:ln>
        </p:spPr>
        <p:txBody>
          <a:bodyPr lIns="50760" rIns="90000" tIns="50760" bIns="50760" anchor="t">
            <a:normAutofit fontScale="72000"/>
          </a:bodyPr>
          <a:p>
            <a:pPr marL="2844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Rectangle 3"/>
          <p:cNvSpPr/>
          <p:nvPr/>
        </p:nvSpPr>
        <p:spPr>
          <a:xfrm>
            <a:off x="3124080" y="6245280"/>
            <a:ext cx="2908440" cy="3049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a:t>
            </a:r>
            <a:r>
              <a:rPr b="0" lang="ja-JP" sz="1400" spc="-1" strike="noStrike">
                <a:solidFill>
                  <a:srgbClr val="000000"/>
                </a:solidFill>
                <a:latin typeface="Arial"/>
              </a:rPr>
              <a:t>システム部会</a:t>
            </a:r>
            <a:endParaRPr b="0" lang="en-US" sz="1400" spc="-1" strike="noStrike">
              <a:solidFill>
                <a:srgbClr val="000000"/>
              </a:solidFill>
              <a:latin typeface="Arial"/>
            </a:endParaRPr>
          </a:p>
        </p:txBody>
      </p:sp>
      <p:sp>
        <p:nvSpPr>
          <p:cNvPr id="42"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B532-1F0A-43B9-A076-9AEED4966BB5}" type="slidenum">
              <a:rPr b="0" lang="ja-JP"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1"/>
          <p:cNvSpPr/>
          <p:nvPr/>
        </p:nvSpPr>
        <p:spPr>
          <a:xfrm>
            <a:off x="0" y="0"/>
            <a:ext cx="9144000" cy="836640"/>
          </a:xfrm>
          <a:prstGeom prst="rect">
            <a:avLst/>
          </a:prstGeom>
          <a:gradFill rotWithShape="0">
            <a:gsLst>
              <a:gs pos="0">
                <a:srgbClr val="a6eef8"/>
              </a:gs>
              <a:gs pos="50000">
                <a:srgbClr val="ffffff"/>
              </a:gs>
              <a:gs pos="100000">
                <a:srgbClr val="a6eef8"/>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68360" y="-27360"/>
            <a:ext cx="8229600" cy="77796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250560" y="1196640"/>
            <a:ext cx="8713800" cy="56610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Rectangle 4"/>
          <p:cNvSpPr/>
          <p:nvPr/>
        </p:nvSpPr>
        <p:spPr>
          <a:xfrm>
            <a:off x="3124080" y="6245280"/>
            <a:ext cx="2908440" cy="3049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a:t>
            </a:r>
            <a:r>
              <a:rPr b="0" lang="ja-JP" sz="1400" spc="-1" strike="noStrike">
                <a:solidFill>
                  <a:srgbClr val="000000"/>
                </a:solidFill>
                <a:latin typeface="Arial"/>
              </a:rPr>
              <a:t>システム部会</a:t>
            </a:r>
            <a:endParaRPr b="0" lang="en-US" sz="1400" spc="-1" strike="noStrike">
              <a:solidFill>
                <a:srgbClr val="000000"/>
              </a:solidFill>
              <a:latin typeface="Arial"/>
            </a:endParaRPr>
          </a:p>
        </p:txBody>
      </p:sp>
      <p:sp>
        <p:nvSpPr>
          <p:cNvPr id="83" name="PlaceHolder 3"/>
          <p:cNvSpPr>
            <a:spLocks noGrp="1"/>
          </p:cNvSpPr>
          <p:nvPr>
            <p:ph type="sldNum" idx="3"/>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5EEB-4386-4C11-AC0D-59282221DE2F}" type="slidenum">
              <a:rPr b="0" lang="ja-JP"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スライド番号プレースホルダ 3"/>
          <p:cNvSpPr/>
          <p:nvPr/>
        </p:nvSpPr>
        <p:spPr>
          <a:xfrm>
            <a:off x="7477200" y="6426360"/>
            <a:ext cx="284040" cy="2793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0377-2BDE-4E7C-AB92-73AA7FBF9571}"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grpSp>
        <p:nvGrpSpPr>
          <p:cNvPr id="124" name="Group 1"/>
          <p:cNvGrpSpPr/>
          <p:nvPr/>
        </p:nvGrpSpPr>
        <p:grpSpPr>
          <a:xfrm>
            <a:off x="-6480" y="20520"/>
            <a:ext cx="9144000" cy="6858000"/>
            <a:chOff x="-6480" y="20520"/>
            <a:chExt cx="9144000" cy="6858000"/>
          </a:xfrm>
        </p:grpSpPr>
        <p:sp>
          <p:nvSpPr>
            <p:cNvPr id="125" name="Freeform 2"/>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21600" h="21600">
                  <a:moveTo>
                    <a:pt x="21600" y="21600"/>
                  </a:moveTo>
                  <a:lnTo>
                    <a:pt x="0" y="21600"/>
                  </a:lnTo>
                  <a:lnTo>
                    <a:pt x="0" y="0"/>
                  </a:lnTo>
                  <a:lnTo>
                    <a:pt x="21600" y="0"/>
                  </a:lnTo>
                  <a:lnTo>
                    <a:pt x="21600" y="21600"/>
                  </a:lnTo>
                  <a:close/>
                  <a:moveTo>
                    <a:pt x="21600" y="21600"/>
                  </a:moveTo>
                </a:path>
              </a:pathLst>
            </a:custGeom>
            <a:gradFill rotWithShape="0">
              <a:gsLst>
                <a:gs pos="0">
                  <a:srgbClr val="003399"/>
                </a:gs>
                <a:gs pos="100000">
                  <a:srgbClr val="33cccc"/>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6" name="Freeform 3"/>
            <p:cNvSpPr/>
            <p:nvPr/>
          </p:nvSpPr>
          <p:spPr>
            <a:xfrm>
              <a:off x="-6480" y="20520"/>
              <a:ext cx="9144000" cy="4876920"/>
            </a:xfrm>
            <a:custGeom>
              <a:avLst/>
              <a:gdLst>
                <a:gd name="textAreaLeft" fmla="*/ 0 w 9144000"/>
                <a:gd name="textAreaRight" fmla="*/ 9144360 w 9144000"/>
                <a:gd name="textAreaTop" fmla="*/ 0 h 4876920"/>
                <a:gd name="textAreaBottom" fmla="*/ 4877280 h 4876920"/>
              </a:gdLst>
              <a:ahLst/>
              <a:rect l="textAreaLeft" t="textAreaTop" r="textAreaRight" b="textAreaBottom"/>
              <a:pathLst>
                <a:path w="21600" h="21600">
                  <a:moveTo>
                    <a:pt x="21600" y="21600"/>
                  </a:moveTo>
                  <a:lnTo>
                    <a:pt x="0" y="21600"/>
                  </a:lnTo>
                  <a:lnTo>
                    <a:pt x="0" y="0"/>
                  </a:lnTo>
                  <a:lnTo>
                    <a:pt x="21600" y="0"/>
                  </a:lnTo>
                  <a:lnTo>
                    <a:pt x="21600" y="21600"/>
                  </a:lnTo>
                  <a:close/>
                  <a:moveTo>
                    <a:pt x="21600" y="21600"/>
                  </a:moveTo>
                </a:path>
              </a:pathLst>
            </a:custGeom>
            <a:gradFill rotWithShape="0">
              <a:gsLst>
                <a:gs pos="0">
                  <a:srgbClr val="001746"/>
                </a:gs>
                <a:gs pos="100000">
                  <a:srgbClr val="003399"/>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27" name="Freeform 4"/>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21600" h="21600">
                <a:moveTo>
                  <a:pt x="21600" y="21600"/>
                </a:moveTo>
                <a:lnTo>
                  <a:pt x="0" y="21600"/>
                </a:lnTo>
                <a:lnTo>
                  <a:pt x="0" y="0"/>
                </a:lnTo>
                <a:lnTo>
                  <a:pt x="21600" y="0"/>
                </a:lnTo>
                <a:lnTo>
                  <a:pt x="21600" y="21600"/>
                </a:lnTo>
                <a:close/>
                <a:moveTo>
                  <a:pt x="21600" y="21600"/>
                </a:moveTo>
              </a:path>
            </a:pathLst>
          </a:custGeom>
          <a:gradFill rotWithShape="0">
            <a:gsLst>
              <a:gs pos="0">
                <a:srgbClr val="003399"/>
              </a:gs>
              <a:gs pos="100000">
                <a:srgbClr val="00ffcc"/>
              </a:gs>
            </a:gsLst>
            <a:lin ang="189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128" name="Group 5"/>
          <p:cNvGrpSpPr/>
          <p:nvPr/>
        </p:nvGrpSpPr>
        <p:grpSpPr>
          <a:xfrm>
            <a:off x="-1440" y="6033960"/>
            <a:ext cx="7844400" cy="851040"/>
            <a:chOff x="-1440" y="6033960"/>
            <a:chExt cx="7844400" cy="851040"/>
          </a:xfrm>
        </p:grpSpPr>
        <p:sp>
          <p:nvSpPr>
            <p:cNvPr id="129" name="Freeform 6"/>
            <p:cNvSpPr/>
            <p:nvPr/>
          </p:nvSpPr>
          <p:spPr>
            <a:xfrm>
              <a:off x="2360520" y="6033960"/>
              <a:ext cx="5142960" cy="851040"/>
            </a:xfrm>
            <a:custGeom>
              <a:avLst/>
              <a:gdLst>
                <a:gd name="textAreaLeft" fmla="*/ 0 w 5142960"/>
                <a:gd name="textAreaRight" fmla="*/ 5143320 w 5142960"/>
                <a:gd name="textAreaTop" fmla="*/ 0 h 851040"/>
                <a:gd name="textAreaBottom" fmla="*/ 851400 h 851040"/>
              </a:gdLst>
              <a:ahLst/>
              <a:rect l="textAreaLeft" t="textAreaTop" r="textAreaRight" b="textAreaBottom"/>
              <a:pathLst>
                <a:path w="21600" h="21600">
                  <a:moveTo>
                    <a:pt x="20880" y="18900"/>
                  </a:moveTo>
                  <a:lnTo>
                    <a:pt x="19967" y="15918"/>
                  </a:lnTo>
                  <a:lnTo>
                    <a:pt x="19407" y="15112"/>
                  </a:lnTo>
                  <a:lnTo>
                    <a:pt x="17853" y="9188"/>
                  </a:lnTo>
                  <a:lnTo>
                    <a:pt x="17020" y="2982"/>
                  </a:lnTo>
                  <a:lnTo>
                    <a:pt x="16380" y="282"/>
                  </a:lnTo>
                  <a:lnTo>
                    <a:pt x="16020" y="1894"/>
                  </a:lnTo>
                  <a:lnTo>
                    <a:pt x="15260" y="2982"/>
                  </a:lnTo>
                  <a:lnTo>
                    <a:pt x="14227" y="2982"/>
                  </a:lnTo>
                  <a:lnTo>
                    <a:pt x="13627" y="5158"/>
                  </a:lnTo>
                  <a:lnTo>
                    <a:pt x="11833" y="8946"/>
                  </a:lnTo>
                  <a:lnTo>
                    <a:pt x="10680" y="7294"/>
                  </a:lnTo>
                  <a:lnTo>
                    <a:pt x="10400" y="4070"/>
                  </a:lnTo>
                  <a:lnTo>
                    <a:pt x="10280" y="3506"/>
                  </a:lnTo>
                  <a:lnTo>
                    <a:pt x="9640" y="2418"/>
                  </a:lnTo>
                  <a:lnTo>
                    <a:pt x="9167" y="2982"/>
                  </a:lnTo>
                  <a:lnTo>
                    <a:pt x="8727" y="3506"/>
                  </a:lnTo>
                  <a:lnTo>
                    <a:pt x="8287" y="524"/>
                  </a:lnTo>
                  <a:lnTo>
                    <a:pt x="8167" y="0"/>
                  </a:lnTo>
                  <a:lnTo>
                    <a:pt x="7927" y="0"/>
                  </a:lnTo>
                  <a:lnTo>
                    <a:pt x="7373" y="1370"/>
                  </a:lnTo>
                  <a:lnTo>
                    <a:pt x="7293" y="1612"/>
                  </a:lnTo>
                  <a:lnTo>
                    <a:pt x="7133" y="2176"/>
                  </a:lnTo>
                  <a:lnTo>
                    <a:pt x="6893" y="2982"/>
                  </a:lnTo>
                  <a:lnTo>
                    <a:pt x="6693" y="2982"/>
                  </a:lnTo>
                  <a:lnTo>
                    <a:pt x="6573" y="2982"/>
                  </a:lnTo>
                  <a:lnTo>
                    <a:pt x="6373" y="3264"/>
                  </a:lnTo>
                  <a:lnTo>
                    <a:pt x="6133" y="3788"/>
                  </a:lnTo>
                  <a:lnTo>
                    <a:pt x="5893" y="4312"/>
                  </a:lnTo>
                  <a:lnTo>
                    <a:pt x="5620" y="5158"/>
                  </a:lnTo>
                  <a:lnTo>
                    <a:pt x="5420" y="5682"/>
                  </a:lnTo>
                  <a:lnTo>
                    <a:pt x="5260" y="5964"/>
                  </a:lnTo>
                  <a:lnTo>
                    <a:pt x="5220" y="6206"/>
                  </a:lnTo>
                  <a:lnTo>
                    <a:pt x="3707" y="9188"/>
                  </a:lnTo>
                  <a:lnTo>
                    <a:pt x="2627" y="11848"/>
                  </a:lnTo>
                  <a:lnTo>
                    <a:pt x="713" y="18618"/>
                  </a:lnTo>
                  <a:lnTo>
                    <a:pt x="0" y="21600"/>
                  </a:lnTo>
                  <a:lnTo>
                    <a:pt x="21600" y="21600"/>
                  </a:lnTo>
                  <a:lnTo>
                    <a:pt x="20880" y="18900"/>
                  </a:lnTo>
                  <a:close/>
                  <a:moveTo>
                    <a:pt x="20880" y="18900"/>
                  </a:moveTo>
                </a:path>
              </a:pathLst>
            </a:cu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130" name="Group 7"/>
            <p:cNvGrpSpPr/>
            <p:nvPr/>
          </p:nvGrpSpPr>
          <p:grpSpPr>
            <a:xfrm>
              <a:off x="3944880" y="6033960"/>
              <a:ext cx="3898080" cy="851040"/>
              <a:chOff x="3944880" y="6033960"/>
              <a:chExt cx="3898080" cy="851040"/>
            </a:xfrm>
          </p:grpSpPr>
          <p:sp>
            <p:nvSpPr>
              <p:cNvPr id="131" name="Freeform 8"/>
              <p:cNvSpPr/>
              <p:nvPr/>
            </p:nvSpPr>
            <p:spPr>
              <a:xfrm>
                <a:off x="6265440" y="6045120"/>
                <a:ext cx="1577520" cy="839880"/>
              </a:xfrm>
              <a:custGeom>
                <a:avLst/>
                <a:gdLst>
                  <a:gd name="textAreaLeft" fmla="*/ 0 w 1577520"/>
                  <a:gd name="textAreaRight" fmla="*/ 1577880 w 1577520"/>
                  <a:gd name="textAreaTop" fmla="*/ 0 h 839880"/>
                  <a:gd name="textAreaBottom" fmla="*/ 840240 h 839880"/>
                </a:gdLst>
                <a:ahLst/>
                <a:rect l="textAreaLeft" t="textAreaTop" r="textAreaRight" b="textAreaBottom"/>
                <a:pathLst>
                  <a:path w="21600" h="21600">
                    <a:moveTo>
                      <a:pt x="13821" y="15230"/>
                    </a:moveTo>
                    <a:lnTo>
                      <a:pt x="10757" y="15108"/>
                    </a:lnTo>
                    <a:lnTo>
                      <a:pt x="6085" y="10167"/>
                    </a:lnTo>
                    <a:lnTo>
                      <a:pt x="2760" y="2695"/>
                    </a:lnTo>
                    <a:lnTo>
                      <a:pt x="0" y="0"/>
                    </a:lnTo>
                    <a:lnTo>
                      <a:pt x="478" y="1062"/>
                    </a:lnTo>
                    <a:lnTo>
                      <a:pt x="0" y="2654"/>
                    </a:lnTo>
                    <a:lnTo>
                      <a:pt x="652" y="4859"/>
                    </a:lnTo>
                    <a:lnTo>
                      <a:pt x="1630" y="9922"/>
                    </a:lnTo>
                    <a:lnTo>
                      <a:pt x="978" y="17231"/>
                    </a:lnTo>
                    <a:lnTo>
                      <a:pt x="4346" y="13434"/>
                    </a:lnTo>
                    <a:lnTo>
                      <a:pt x="12864" y="21518"/>
                    </a:lnTo>
                    <a:lnTo>
                      <a:pt x="21600" y="21600"/>
                    </a:lnTo>
                    <a:lnTo>
                      <a:pt x="17993" y="19313"/>
                    </a:lnTo>
                    <a:lnTo>
                      <a:pt x="13821" y="15230"/>
                    </a:lnTo>
                    <a:close/>
                    <a:moveTo>
                      <a:pt x="13821" y="1523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2" name="Freeform 9"/>
              <p:cNvSpPr/>
              <p:nvPr/>
            </p:nvSpPr>
            <p:spPr>
              <a:xfrm>
                <a:off x="4247640" y="6033960"/>
                <a:ext cx="294840" cy="627120"/>
              </a:xfrm>
              <a:custGeom>
                <a:avLst/>
                <a:gdLst>
                  <a:gd name="textAreaLeft" fmla="*/ 0 w 294840"/>
                  <a:gd name="textAreaRight" fmla="*/ 295200 w 294840"/>
                  <a:gd name="textAreaTop" fmla="*/ 0 h 627120"/>
                  <a:gd name="textAreaBottom" fmla="*/ 627480 h 627120"/>
                </a:gdLst>
                <a:ahLst/>
                <a:rect l="textAreaLeft" t="textAreaTop" r="textAreaRight" b="textAreaBottom"/>
                <a:pathLst>
                  <a:path w="21600" h="21600">
                    <a:moveTo>
                      <a:pt x="4181" y="0"/>
                    </a:moveTo>
                    <a:lnTo>
                      <a:pt x="6271" y="1101"/>
                    </a:lnTo>
                    <a:lnTo>
                      <a:pt x="2787" y="1836"/>
                    </a:lnTo>
                    <a:lnTo>
                      <a:pt x="2090" y="4039"/>
                    </a:lnTo>
                    <a:lnTo>
                      <a:pt x="4877" y="6976"/>
                    </a:lnTo>
                    <a:lnTo>
                      <a:pt x="5574" y="9913"/>
                    </a:lnTo>
                    <a:lnTo>
                      <a:pt x="0" y="21600"/>
                    </a:lnTo>
                    <a:lnTo>
                      <a:pt x="6271" y="14257"/>
                    </a:lnTo>
                    <a:lnTo>
                      <a:pt x="9755" y="13217"/>
                    </a:lnTo>
                    <a:lnTo>
                      <a:pt x="14632" y="7710"/>
                    </a:lnTo>
                    <a:lnTo>
                      <a:pt x="16723" y="7343"/>
                    </a:lnTo>
                    <a:lnTo>
                      <a:pt x="16723" y="5507"/>
                    </a:lnTo>
                    <a:lnTo>
                      <a:pt x="21600" y="4039"/>
                    </a:lnTo>
                    <a:lnTo>
                      <a:pt x="18813" y="3671"/>
                    </a:lnTo>
                    <a:lnTo>
                      <a:pt x="4181" y="0"/>
                    </a:lnTo>
                    <a:close/>
                    <a:moveTo>
                      <a:pt x="4181"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3" name="Freeform 10"/>
              <p:cNvSpPr/>
              <p:nvPr/>
            </p:nvSpPr>
            <p:spPr>
              <a:xfrm>
                <a:off x="480816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21600" h="21600">
                    <a:moveTo>
                      <a:pt x="1029" y="0"/>
                    </a:moveTo>
                    <a:lnTo>
                      <a:pt x="686" y="1036"/>
                    </a:lnTo>
                    <a:lnTo>
                      <a:pt x="0" y="3188"/>
                    </a:lnTo>
                    <a:lnTo>
                      <a:pt x="3429" y="9644"/>
                    </a:lnTo>
                    <a:lnTo>
                      <a:pt x="17714" y="21600"/>
                    </a:lnTo>
                    <a:lnTo>
                      <a:pt x="16571" y="11079"/>
                    </a:lnTo>
                    <a:lnTo>
                      <a:pt x="21600" y="6058"/>
                    </a:lnTo>
                    <a:lnTo>
                      <a:pt x="14343" y="7492"/>
                    </a:lnTo>
                    <a:lnTo>
                      <a:pt x="5143" y="4304"/>
                    </a:lnTo>
                    <a:lnTo>
                      <a:pt x="1029" y="0"/>
                    </a:lnTo>
                    <a:close/>
                    <a:moveTo>
                      <a:pt x="1029"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4" name="Freeform 11"/>
              <p:cNvSpPr/>
              <p:nvPr/>
            </p:nvSpPr>
            <p:spPr>
              <a:xfrm>
                <a:off x="5757480" y="6151320"/>
                <a:ext cx="245520" cy="117720"/>
              </a:xfrm>
              <a:custGeom>
                <a:avLst/>
                <a:gdLst>
                  <a:gd name="textAreaLeft" fmla="*/ 0 w 245520"/>
                  <a:gd name="textAreaRight" fmla="*/ 245880 w 245520"/>
                  <a:gd name="textAreaTop" fmla="*/ 0 h 117720"/>
                  <a:gd name="textAreaBottom" fmla="*/ 118080 h 117720"/>
                </a:gdLst>
                <a:ahLst/>
                <a:rect l="textAreaLeft" t="textAreaTop" r="textAreaRight" b="textAreaBottom"/>
                <a:pathLst>
                  <a:path w="21600" h="21600">
                    <a:moveTo>
                      <a:pt x="15886" y="0"/>
                    </a:moveTo>
                    <a:lnTo>
                      <a:pt x="0" y="0"/>
                    </a:lnTo>
                    <a:lnTo>
                      <a:pt x="836" y="1964"/>
                    </a:lnTo>
                    <a:lnTo>
                      <a:pt x="836" y="5891"/>
                    </a:lnTo>
                    <a:lnTo>
                      <a:pt x="0" y="7855"/>
                    </a:lnTo>
                    <a:lnTo>
                      <a:pt x="10870" y="19636"/>
                    </a:lnTo>
                    <a:lnTo>
                      <a:pt x="13378" y="13745"/>
                    </a:lnTo>
                    <a:lnTo>
                      <a:pt x="21600" y="21600"/>
                    </a:lnTo>
                    <a:lnTo>
                      <a:pt x="17559" y="7855"/>
                    </a:lnTo>
                    <a:lnTo>
                      <a:pt x="20764" y="0"/>
                    </a:lnTo>
                    <a:lnTo>
                      <a:pt x="15886" y="0"/>
                    </a:lnTo>
                    <a:close/>
                    <a:moveTo>
                      <a:pt x="15886"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5" name="Freeform 12"/>
              <p:cNvSpPr/>
              <p:nvPr/>
            </p:nvSpPr>
            <p:spPr>
              <a:xfrm>
                <a:off x="3944880" y="6140160"/>
                <a:ext cx="66240" cy="128880"/>
              </a:xfrm>
              <a:custGeom>
                <a:avLst/>
                <a:gdLst>
                  <a:gd name="textAreaLeft" fmla="*/ 0 w 66240"/>
                  <a:gd name="textAreaRight" fmla="*/ 66600 w 66240"/>
                  <a:gd name="textAreaTop" fmla="*/ 0 h 128880"/>
                  <a:gd name="textAreaBottom" fmla="*/ 128880 h 128880"/>
                </a:gdLst>
                <a:ahLst/>
                <a:rect l="textAreaLeft" t="textAreaTop" r="textAreaRight" b="textAreaBottom"/>
                <a:pathLst>
                  <a:path w="21600" h="21600">
                    <a:moveTo>
                      <a:pt x="3086" y="10800"/>
                    </a:moveTo>
                    <a:lnTo>
                      <a:pt x="0" y="5400"/>
                    </a:lnTo>
                    <a:lnTo>
                      <a:pt x="6171" y="1800"/>
                    </a:lnTo>
                    <a:lnTo>
                      <a:pt x="0" y="1800"/>
                    </a:lnTo>
                    <a:lnTo>
                      <a:pt x="6171" y="1800"/>
                    </a:lnTo>
                    <a:lnTo>
                      <a:pt x="12343" y="1800"/>
                    </a:lnTo>
                    <a:lnTo>
                      <a:pt x="18514" y="1800"/>
                    </a:lnTo>
                    <a:lnTo>
                      <a:pt x="21600" y="0"/>
                    </a:lnTo>
                    <a:lnTo>
                      <a:pt x="15429" y="5400"/>
                    </a:lnTo>
                    <a:lnTo>
                      <a:pt x="21600" y="14400"/>
                    </a:lnTo>
                    <a:lnTo>
                      <a:pt x="6171" y="21600"/>
                    </a:lnTo>
                    <a:lnTo>
                      <a:pt x="3086" y="10800"/>
                    </a:lnTo>
                    <a:close/>
                    <a:moveTo>
                      <a:pt x="3086" y="1080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36" name="Freeform 13"/>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21600" h="21600">
                  <a:moveTo>
                    <a:pt x="21600" y="21600"/>
                  </a:moveTo>
                  <a:lnTo>
                    <a:pt x="21567" y="21600"/>
                  </a:lnTo>
                  <a:lnTo>
                    <a:pt x="20883" y="20862"/>
                  </a:lnTo>
                  <a:lnTo>
                    <a:pt x="13511" y="12501"/>
                  </a:lnTo>
                  <a:lnTo>
                    <a:pt x="11077" y="1476"/>
                  </a:lnTo>
                  <a:lnTo>
                    <a:pt x="10360" y="984"/>
                  </a:lnTo>
                  <a:lnTo>
                    <a:pt x="10230" y="2213"/>
                  </a:lnTo>
                  <a:lnTo>
                    <a:pt x="10099" y="2213"/>
                  </a:lnTo>
                  <a:lnTo>
                    <a:pt x="9942" y="1230"/>
                  </a:lnTo>
                  <a:lnTo>
                    <a:pt x="9257" y="4181"/>
                  </a:lnTo>
                  <a:lnTo>
                    <a:pt x="8736" y="5164"/>
                  </a:lnTo>
                  <a:lnTo>
                    <a:pt x="8480" y="5410"/>
                  </a:lnTo>
                  <a:lnTo>
                    <a:pt x="8122" y="4181"/>
                  </a:lnTo>
                  <a:lnTo>
                    <a:pt x="7372" y="5164"/>
                  </a:lnTo>
                  <a:lnTo>
                    <a:pt x="6981" y="984"/>
                  </a:lnTo>
                  <a:lnTo>
                    <a:pt x="6954" y="738"/>
                  </a:lnTo>
                  <a:lnTo>
                    <a:pt x="6856" y="492"/>
                  </a:lnTo>
                  <a:lnTo>
                    <a:pt x="6726" y="246"/>
                  </a:lnTo>
                  <a:lnTo>
                    <a:pt x="6628" y="0"/>
                  </a:lnTo>
                  <a:lnTo>
                    <a:pt x="6497" y="0"/>
                  </a:lnTo>
                  <a:lnTo>
                    <a:pt x="6334" y="0"/>
                  </a:lnTo>
                  <a:lnTo>
                    <a:pt x="6204" y="0"/>
                  </a:lnTo>
                  <a:lnTo>
                    <a:pt x="6171" y="0"/>
                  </a:lnTo>
                  <a:lnTo>
                    <a:pt x="6139" y="0"/>
                  </a:lnTo>
                  <a:lnTo>
                    <a:pt x="6106" y="246"/>
                  </a:lnTo>
                  <a:lnTo>
                    <a:pt x="6074" y="492"/>
                  </a:lnTo>
                  <a:lnTo>
                    <a:pt x="5976" y="738"/>
                  </a:lnTo>
                  <a:lnTo>
                    <a:pt x="5911" y="738"/>
                  </a:lnTo>
                  <a:lnTo>
                    <a:pt x="5813" y="984"/>
                  </a:lnTo>
                  <a:lnTo>
                    <a:pt x="5715" y="1230"/>
                  </a:lnTo>
                  <a:lnTo>
                    <a:pt x="5617" y="1476"/>
                  </a:lnTo>
                  <a:lnTo>
                    <a:pt x="5585" y="1721"/>
                  </a:lnTo>
                  <a:lnTo>
                    <a:pt x="5264" y="2459"/>
                  </a:lnTo>
                  <a:lnTo>
                    <a:pt x="5003" y="2951"/>
                  </a:lnTo>
                  <a:lnTo>
                    <a:pt x="4645" y="1967"/>
                  </a:lnTo>
                  <a:lnTo>
                    <a:pt x="4482" y="1967"/>
                  </a:lnTo>
                  <a:lnTo>
                    <a:pt x="4123" y="2951"/>
                  </a:lnTo>
                  <a:lnTo>
                    <a:pt x="3993" y="2951"/>
                  </a:lnTo>
                  <a:lnTo>
                    <a:pt x="3835" y="2459"/>
                  </a:lnTo>
                  <a:lnTo>
                    <a:pt x="3477" y="2459"/>
                  </a:lnTo>
                  <a:lnTo>
                    <a:pt x="2955" y="2951"/>
                  </a:lnTo>
                  <a:lnTo>
                    <a:pt x="2113" y="738"/>
                  </a:lnTo>
                  <a:lnTo>
                    <a:pt x="1755" y="2459"/>
                  </a:lnTo>
                  <a:lnTo>
                    <a:pt x="1722" y="2459"/>
                  </a:lnTo>
                  <a:lnTo>
                    <a:pt x="1657" y="2951"/>
                  </a:lnTo>
                  <a:lnTo>
                    <a:pt x="1559" y="3197"/>
                  </a:lnTo>
                  <a:lnTo>
                    <a:pt x="1429" y="3689"/>
                  </a:lnTo>
                  <a:lnTo>
                    <a:pt x="1103" y="4918"/>
                  </a:lnTo>
                  <a:lnTo>
                    <a:pt x="809" y="6148"/>
                  </a:lnTo>
                  <a:lnTo>
                    <a:pt x="424" y="6886"/>
                  </a:lnTo>
                  <a:lnTo>
                    <a:pt x="0" y="7378"/>
                  </a:lnTo>
                  <a:lnTo>
                    <a:pt x="0" y="21600"/>
                  </a:lnTo>
                  <a:lnTo>
                    <a:pt x="5487" y="21600"/>
                  </a:lnTo>
                  <a:lnTo>
                    <a:pt x="20236" y="21600"/>
                  </a:lnTo>
                  <a:lnTo>
                    <a:pt x="21600" y="21600"/>
                  </a:lnTo>
                  <a:close/>
                  <a:moveTo>
                    <a:pt x="21600" y="21600"/>
                  </a:moveTo>
                </a:path>
              </a:pathLst>
            </a:cu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137" name="Group 14"/>
          <p:cNvGrpSpPr/>
          <p:nvPr/>
        </p:nvGrpSpPr>
        <p:grpSpPr>
          <a:xfrm>
            <a:off x="627120" y="6021360"/>
            <a:ext cx="5684760" cy="849240"/>
            <a:chOff x="627120" y="6021360"/>
            <a:chExt cx="5684760" cy="849240"/>
          </a:xfrm>
        </p:grpSpPr>
        <p:sp>
          <p:nvSpPr>
            <p:cNvPr id="138" name="Freeform 15"/>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21600" h="21600">
                  <a:moveTo>
                    <a:pt x="1420" y="1806"/>
                  </a:moveTo>
                  <a:lnTo>
                    <a:pt x="0" y="4516"/>
                  </a:lnTo>
                  <a:lnTo>
                    <a:pt x="3906" y="8128"/>
                  </a:lnTo>
                  <a:lnTo>
                    <a:pt x="8462" y="13547"/>
                  </a:lnTo>
                  <a:lnTo>
                    <a:pt x="11303" y="12644"/>
                  </a:lnTo>
                  <a:lnTo>
                    <a:pt x="20180" y="21600"/>
                  </a:lnTo>
                  <a:lnTo>
                    <a:pt x="18049" y="13095"/>
                  </a:lnTo>
                  <a:lnTo>
                    <a:pt x="21600" y="9934"/>
                  </a:lnTo>
                  <a:lnTo>
                    <a:pt x="21245" y="9483"/>
                  </a:lnTo>
                  <a:lnTo>
                    <a:pt x="19825" y="8580"/>
                  </a:lnTo>
                  <a:lnTo>
                    <a:pt x="17694" y="6774"/>
                  </a:lnTo>
                  <a:lnTo>
                    <a:pt x="15209" y="5419"/>
                  </a:lnTo>
                  <a:lnTo>
                    <a:pt x="12723" y="4064"/>
                  </a:lnTo>
                  <a:lnTo>
                    <a:pt x="10238" y="2709"/>
                  </a:lnTo>
                  <a:lnTo>
                    <a:pt x="8462" y="1806"/>
                  </a:lnTo>
                  <a:lnTo>
                    <a:pt x="7752" y="1355"/>
                  </a:lnTo>
                  <a:lnTo>
                    <a:pt x="6332" y="1355"/>
                  </a:lnTo>
                  <a:lnTo>
                    <a:pt x="5622" y="1355"/>
                  </a:lnTo>
                  <a:lnTo>
                    <a:pt x="4261" y="903"/>
                  </a:lnTo>
                  <a:lnTo>
                    <a:pt x="3906" y="903"/>
                  </a:lnTo>
                  <a:lnTo>
                    <a:pt x="3196" y="452"/>
                  </a:lnTo>
                  <a:lnTo>
                    <a:pt x="2485" y="0"/>
                  </a:lnTo>
                  <a:lnTo>
                    <a:pt x="1775" y="0"/>
                  </a:lnTo>
                  <a:lnTo>
                    <a:pt x="1420" y="1806"/>
                  </a:lnTo>
                  <a:close/>
                  <a:moveTo>
                    <a:pt x="1420" y="1806"/>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9" name="Freeform 16"/>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1600" h="21600">
                  <a:moveTo>
                    <a:pt x="1976" y="779"/>
                  </a:moveTo>
                  <a:lnTo>
                    <a:pt x="1466" y="260"/>
                  </a:lnTo>
                  <a:lnTo>
                    <a:pt x="1020" y="0"/>
                  </a:lnTo>
                  <a:lnTo>
                    <a:pt x="382" y="0"/>
                  </a:lnTo>
                  <a:lnTo>
                    <a:pt x="127" y="1082"/>
                  </a:lnTo>
                  <a:lnTo>
                    <a:pt x="0" y="5541"/>
                  </a:lnTo>
                  <a:lnTo>
                    <a:pt x="637" y="4502"/>
                  </a:lnTo>
                  <a:lnTo>
                    <a:pt x="956" y="5800"/>
                  </a:lnTo>
                  <a:lnTo>
                    <a:pt x="1594" y="6623"/>
                  </a:lnTo>
                  <a:lnTo>
                    <a:pt x="2221" y="11817"/>
                  </a:lnTo>
                  <a:lnTo>
                    <a:pt x="4261" y="15540"/>
                  </a:lnTo>
                  <a:lnTo>
                    <a:pt x="8255" y="15540"/>
                  </a:lnTo>
                  <a:lnTo>
                    <a:pt x="21600" y="21600"/>
                  </a:lnTo>
                  <a:lnTo>
                    <a:pt x="21154" y="21340"/>
                  </a:lnTo>
                  <a:lnTo>
                    <a:pt x="7182" y="10519"/>
                  </a:lnTo>
                  <a:lnTo>
                    <a:pt x="5461" y="6883"/>
                  </a:lnTo>
                  <a:lnTo>
                    <a:pt x="4515" y="4762"/>
                  </a:lnTo>
                  <a:lnTo>
                    <a:pt x="3878" y="3982"/>
                  </a:lnTo>
                  <a:lnTo>
                    <a:pt x="2986" y="2640"/>
                  </a:lnTo>
                  <a:lnTo>
                    <a:pt x="1976" y="779"/>
                  </a:lnTo>
                  <a:close/>
                  <a:moveTo>
                    <a:pt x="1976" y="779"/>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40" name="Freeform 17"/>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21600" h="21600">
                  <a:moveTo>
                    <a:pt x="0" y="6480"/>
                  </a:moveTo>
                  <a:lnTo>
                    <a:pt x="1825" y="6480"/>
                  </a:lnTo>
                  <a:lnTo>
                    <a:pt x="3651" y="4320"/>
                  </a:lnTo>
                  <a:lnTo>
                    <a:pt x="1825" y="2160"/>
                  </a:lnTo>
                  <a:lnTo>
                    <a:pt x="0" y="0"/>
                  </a:lnTo>
                  <a:lnTo>
                    <a:pt x="8823" y="6480"/>
                  </a:lnTo>
                  <a:lnTo>
                    <a:pt x="16124" y="6480"/>
                  </a:lnTo>
                  <a:lnTo>
                    <a:pt x="17949" y="10800"/>
                  </a:lnTo>
                  <a:lnTo>
                    <a:pt x="19775" y="15120"/>
                  </a:lnTo>
                  <a:lnTo>
                    <a:pt x="21600" y="19440"/>
                  </a:lnTo>
                  <a:lnTo>
                    <a:pt x="21600" y="21600"/>
                  </a:lnTo>
                  <a:lnTo>
                    <a:pt x="17949" y="19440"/>
                  </a:lnTo>
                  <a:lnTo>
                    <a:pt x="14299" y="15120"/>
                  </a:lnTo>
                  <a:lnTo>
                    <a:pt x="6997" y="10800"/>
                  </a:lnTo>
                  <a:lnTo>
                    <a:pt x="6997" y="12960"/>
                  </a:lnTo>
                  <a:lnTo>
                    <a:pt x="5476" y="15120"/>
                  </a:lnTo>
                  <a:lnTo>
                    <a:pt x="3651" y="17280"/>
                  </a:lnTo>
                  <a:lnTo>
                    <a:pt x="1825" y="17280"/>
                  </a:lnTo>
                  <a:lnTo>
                    <a:pt x="1825" y="12960"/>
                  </a:lnTo>
                  <a:lnTo>
                    <a:pt x="0" y="6480"/>
                  </a:lnTo>
                  <a:close/>
                  <a:moveTo>
                    <a:pt x="0" y="648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41" name="Freeform 18"/>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21600" h="21600">
                  <a:moveTo>
                    <a:pt x="4025" y="0"/>
                  </a:moveTo>
                  <a:lnTo>
                    <a:pt x="6440" y="800"/>
                  </a:lnTo>
                  <a:lnTo>
                    <a:pt x="9660" y="800"/>
                  </a:lnTo>
                  <a:lnTo>
                    <a:pt x="15294" y="1600"/>
                  </a:lnTo>
                  <a:lnTo>
                    <a:pt x="12880" y="7200"/>
                  </a:lnTo>
                  <a:lnTo>
                    <a:pt x="12880" y="8000"/>
                  </a:lnTo>
                  <a:lnTo>
                    <a:pt x="13684" y="9600"/>
                  </a:lnTo>
                  <a:lnTo>
                    <a:pt x="14489" y="11200"/>
                  </a:lnTo>
                  <a:lnTo>
                    <a:pt x="16099" y="12800"/>
                  </a:lnTo>
                  <a:lnTo>
                    <a:pt x="19185" y="15200"/>
                  </a:lnTo>
                  <a:lnTo>
                    <a:pt x="20795" y="18400"/>
                  </a:lnTo>
                  <a:lnTo>
                    <a:pt x="21600" y="20800"/>
                  </a:lnTo>
                  <a:lnTo>
                    <a:pt x="21600" y="21600"/>
                  </a:lnTo>
                  <a:lnTo>
                    <a:pt x="12880" y="13600"/>
                  </a:lnTo>
                  <a:lnTo>
                    <a:pt x="4025" y="7200"/>
                  </a:lnTo>
                  <a:lnTo>
                    <a:pt x="0" y="0"/>
                  </a:lnTo>
                  <a:lnTo>
                    <a:pt x="4025" y="0"/>
                  </a:lnTo>
                  <a:close/>
                  <a:moveTo>
                    <a:pt x="4025"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42" name="Freeform 19"/>
            <p:cNvSpPr/>
            <p:nvPr/>
          </p:nvSpPr>
          <p:spPr>
            <a:xfrm>
              <a:off x="1120680" y="611820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21600" h="21600">
                  <a:moveTo>
                    <a:pt x="21600" y="2160"/>
                  </a:moveTo>
                  <a:lnTo>
                    <a:pt x="15010" y="10800"/>
                  </a:lnTo>
                  <a:lnTo>
                    <a:pt x="15010" y="12960"/>
                  </a:lnTo>
                  <a:lnTo>
                    <a:pt x="17207" y="15120"/>
                  </a:lnTo>
                  <a:lnTo>
                    <a:pt x="19403" y="19440"/>
                  </a:lnTo>
                  <a:lnTo>
                    <a:pt x="19403" y="21600"/>
                  </a:lnTo>
                  <a:lnTo>
                    <a:pt x="17207" y="19440"/>
                  </a:lnTo>
                  <a:lnTo>
                    <a:pt x="12814" y="17280"/>
                  </a:lnTo>
                  <a:lnTo>
                    <a:pt x="8420" y="12960"/>
                  </a:lnTo>
                  <a:lnTo>
                    <a:pt x="6224" y="10800"/>
                  </a:lnTo>
                  <a:lnTo>
                    <a:pt x="0" y="0"/>
                  </a:lnTo>
                  <a:lnTo>
                    <a:pt x="21600" y="2160"/>
                  </a:lnTo>
                  <a:close/>
                  <a:moveTo>
                    <a:pt x="21600" y="216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43" name="Freeform 20"/>
            <p:cNvSpPr/>
            <p:nvPr/>
          </p:nvSpPr>
          <p:spPr>
            <a:xfrm>
              <a:off x="627120" y="6049800"/>
              <a:ext cx="388800" cy="328680"/>
            </a:xfrm>
            <a:custGeom>
              <a:avLst/>
              <a:gdLst>
                <a:gd name="textAreaLeft" fmla="*/ 0 w 388800"/>
                <a:gd name="textAreaRight" fmla="*/ 389160 w 388800"/>
                <a:gd name="textAreaTop" fmla="*/ 0 h 328680"/>
                <a:gd name="textAreaBottom" fmla="*/ 328680 h 328680"/>
              </a:gdLst>
              <a:ahLst/>
              <a:rect l="textAreaLeft" t="textAreaTop" r="textAreaRight" b="textAreaBottom"/>
              <a:pathLst>
                <a:path w="21600" h="21600">
                  <a:moveTo>
                    <a:pt x="20542" y="3812"/>
                  </a:moveTo>
                  <a:lnTo>
                    <a:pt x="21600" y="4447"/>
                  </a:lnTo>
                  <a:lnTo>
                    <a:pt x="18426" y="8894"/>
                  </a:lnTo>
                  <a:lnTo>
                    <a:pt x="12607" y="13976"/>
                  </a:lnTo>
                  <a:lnTo>
                    <a:pt x="14723" y="16518"/>
                  </a:lnTo>
                  <a:lnTo>
                    <a:pt x="15781" y="21600"/>
                  </a:lnTo>
                  <a:lnTo>
                    <a:pt x="6789" y="13976"/>
                  </a:lnTo>
                  <a:lnTo>
                    <a:pt x="4144" y="8894"/>
                  </a:lnTo>
                  <a:lnTo>
                    <a:pt x="7847" y="6988"/>
                  </a:lnTo>
                  <a:lnTo>
                    <a:pt x="5202" y="3812"/>
                  </a:lnTo>
                  <a:lnTo>
                    <a:pt x="0" y="1271"/>
                  </a:lnTo>
                  <a:lnTo>
                    <a:pt x="0" y="0"/>
                  </a:lnTo>
                  <a:lnTo>
                    <a:pt x="529" y="0"/>
                  </a:lnTo>
                  <a:lnTo>
                    <a:pt x="1058" y="0"/>
                  </a:lnTo>
                  <a:lnTo>
                    <a:pt x="4144" y="635"/>
                  </a:lnTo>
                  <a:lnTo>
                    <a:pt x="6789" y="635"/>
                  </a:lnTo>
                  <a:lnTo>
                    <a:pt x="7318" y="635"/>
                  </a:lnTo>
                  <a:lnTo>
                    <a:pt x="7847" y="635"/>
                  </a:lnTo>
                  <a:lnTo>
                    <a:pt x="8904" y="1271"/>
                  </a:lnTo>
                  <a:lnTo>
                    <a:pt x="11020" y="1271"/>
                  </a:lnTo>
                  <a:lnTo>
                    <a:pt x="12607" y="1906"/>
                  </a:lnTo>
                  <a:lnTo>
                    <a:pt x="13136" y="1906"/>
                  </a:lnTo>
                  <a:lnTo>
                    <a:pt x="17897" y="2541"/>
                  </a:lnTo>
                  <a:lnTo>
                    <a:pt x="20542" y="3812"/>
                  </a:lnTo>
                  <a:close/>
                  <a:moveTo>
                    <a:pt x="20542" y="3812"/>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44"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SC</a:t>
            </a:r>
            <a:r>
              <a:rPr b="0" lang="ja-JP" sz="1200" spc="-1" strike="noStrike">
                <a:solidFill>
                  <a:srgbClr val="ffffff"/>
                </a:solidFill>
                <a:latin typeface="Arial"/>
              </a:rPr>
              <a:t>システム部会</a:t>
            </a:r>
            <a:endParaRPr b="0" lang="en-US" sz="1200" spc="-1" strike="noStrike">
              <a:solidFill>
                <a:srgbClr val="000000"/>
              </a:solidFill>
              <a:latin typeface="Arial"/>
            </a:endParaRPr>
          </a:p>
        </p:txBody>
      </p:sp>
      <p:sp>
        <p:nvSpPr>
          <p:cNvPr id="145" name="Text Box 22"/>
          <p:cNvSpPr/>
          <p:nvPr/>
        </p:nvSpPr>
        <p:spPr>
          <a:xfrm>
            <a:off x="7477200" y="6426360"/>
            <a:ext cx="284040" cy="2793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3188-EA00-4616-9521-85E53CD124ED}"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46" name="PlaceHolder 1"/>
          <p:cNvSpPr>
            <a:spLocks noGrp="1"/>
          </p:cNvSpPr>
          <p:nvPr>
            <p:ph/>
          </p:nvPr>
        </p:nvSpPr>
        <p:spPr>
          <a:xfrm>
            <a:off x="1403280" y="4076640"/>
            <a:ext cx="6400800" cy="278136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10/11/10</a:t>
            </a:r>
            <a:endParaRPr b="0" lang="en-US" sz="3200" spc="-1" strike="noStrike">
              <a:solidFill>
                <a:srgbClr val="ffffff"/>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SC</a:t>
            </a:r>
            <a:r>
              <a:rPr b="0" lang="ja-JP" sz="3200" spc="-1" strike="noStrike">
                <a:solidFill>
                  <a:srgbClr val="ffffff"/>
                </a:solidFill>
                <a:latin typeface="Arial"/>
              </a:rPr>
              <a:t>システム部会 幹事・事務局</a:t>
            </a:r>
            <a:endParaRPr b="0" lang="en-US" sz="3200" spc="-1" strike="noStrike">
              <a:solidFill>
                <a:srgbClr val="ffffff"/>
              </a:solidFill>
              <a:latin typeface="Arial"/>
            </a:endParaRPr>
          </a:p>
        </p:txBody>
      </p:sp>
      <p:sp>
        <p:nvSpPr>
          <p:cNvPr id="147" name="Rectangle 23"/>
          <p:cNvSpPr/>
          <p:nvPr/>
        </p:nvSpPr>
        <p:spPr>
          <a:xfrm>
            <a:off x="457200" y="590400"/>
            <a:ext cx="8229600" cy="3451320"/>
          </a:xfrm>
          <a:prstGeom prst="rect">
            <a:avLst/>
          </a:prstGeom>
          <a:noFill/>
          <a:ln w="0">
            <a:noFill/>
          </a:ln>
        </p:spPr>
        <p:style>
          <a:lnRef idx="0"/>
          <a:fillRef idx="0"/>
          <a:effectRef idx="0"/>
          <a:fontRef idx="minor"/>
        </p:style>
        <p:txBody>
          <a:bodyPr lIns="50760" rIns="13212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e3e3ff"/>
                </a:solidFill>
                <a:latin typeface="Arial"/>
                <a:ea typeface="ＭＳ Ｐゴシック"/>
              </a:rPr>
              <a:t>デジタルサイネージコンソーシアム</a:t>
            </a:r>
            <a:br>
              <a:rPr sz="3600"/>
            </a:br>
            <a:r>
              <a:rPr b="0" lang="ja-JP" sz="4800" spc="-1" strike="noStrike">
                <a:solidFill>
                  <a:srgbClr val="e3e3ff"/>
                </a:solidFill>
                <a:latin typeface="Arial"/>
                <a:ea typeface="ＭＳ Ｐゴシック"/>
              </a:rPr>
              <a:t>システム部会活動報告</a:t>
            </a:r>
            <a:br>
              <a:rPr sz="4800"/>
            </a:b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3720"/>
            <a:ext cx="8229600" cy="22258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e3e3ff"/>
                </a:solidFill>
                <a:latin typeface="Arial"/>
              </a:rPr>
              <a:t>前回の振り返り</a:t>
            </a:r>
            <a:endParaRPr b="0" lang="en-US" sz="4000" spc="-1" strike="noStrike">
              <a:solidFill>
                <a:srgbClr val="e3e3ff"/>
              </a:solidFill>
              <a:latin typeface="Arial"/>
            </a:endParaRPr>
          </a:p>
        </p:txBody>
      </p:sp>
      <p:sp>
        <p:nvSpPr>
          <p:cNvPr id="149"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F64A-7565-49C9-8DCF-3D48A21A063C}"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50" name="Freeform 4"/>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21600" h="21600">
                <a:moveTo>
                  <a:pt x="21600" y="21600"/>
                </a:moveTo>
                <a:lnTo>
                  <a:pt x="0" y="21600"/>
                </a:lnTo>
                <a:lnTo>
                  <a:pt x="0" y="0"/>
                </a:lnTo>
                <a:lnTo>
                  <a:pt x="21600" y="0"/>
                </a:lnTo>
                <a:lnTo>
                  <a:pt x="21600" y="21600"/>
                </a:lnTo>
                <a:close/>
                <a:moveTo>
                  <a:pt x="21600" y="21600"/>
                </a:moveTo>
              </a:path>
            </a:pathLst>
          </a:custGeom>
          <a:gradFill rotWithShape="0">
            <a:gsLst>
              <a:gs pos="0">
                <a:srgbClr val="003399"/>
              </a:gs>
              <a:gs pos="100000">
                <a:srgbClr val="00ffcc"/>
              </a:gs>
            </a:gsLst>
            <a:lin ang="189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151" name="Group 5"/>
          <p:cNvGrpSpPr/>
          <p:nvPr/>
        </p:nvGrpSpPr>
        <p:grpSpPr>
          <a:xfrm>
            <a:off x="0" y="6019920"/>
            <a:ext cx="7848720" cy="857160"/>
            <a:chOff x="0" y="6019920"/>
            <a:chExt cx="7848720" cy="857160"/>
          </a:xfrm>
        </p:grpSpPr>
        <p:sp>
          <p:nvSpPr>
            <p:cNvPr id="152" name="Freeform 6"/>
            <p:cNvSpPr/>
            <p:nvPr/>
          </p:nvSpPr>
          <p:spPr>
            <a:xfrm>
              <a:off x="2362320" y="6019920"/>
              <a:ext cx="5143320" cy="851040"/>
            </a:xfrm>
            <a:custGeom>
              <a:avLst/>
              <a:gdLst>
                <a:gd name="textAreaLeft" fmla="*/ 0 w 5143320"/>
                <a:gd name="textAreaRight" fmla="*/ 5143680 w 5143320"/>
                <a:gd name="textAreaTop" fmla="*/ 0 h 851040"/>
                <a:gd name="textAreaBottom" fmla="*/ 851400 h 851040"/>
              </a:gdLst>
              <a:ahLst/>
              <a:rect l="textAreaLeft" t="textAreaTop" r="textAreaRight" b="textAreaBottom"/>
              <a:pathLst>
                <a:path w="21600" h="21600">
                  <a:moveTo>
                    <a:pt x="20880" y="18900"/>
                  </a:moveTo>
                  <a:lnTo>
                    <a:pt x="19967" y="15918"/>
                  </a:lnTo>
                  <a:lnTo>
                    <a:pt x="19407" y="15112"/>
                  </a:lnTo>
                  <a:lnTo>
                    <a:pt x="17853" y="9188"/>
                  </a:lnTo>
                  <a:lnTo>
                    <a:pt x="17020" y="2982"/>
                  </a:lnTo>
                  <a:lnTo>
                    <a:pt x="16380" y="282"/>
                  </a:lnTo>
                  <a:lnTo>
                    <a:pt x="16020" y="1894"/>
                  </a:lnTo>
                  <a:lnTo>
                    <a:pt x="15260" y="2982"/>
                  </a:lnTo>
                  <a:lnTo>
                    <a:pt x="14227" y="2982"/>
                  </a:lnTo>
                  <a:lnTo>
                    <a:pt x="13627" y="5158"/>
                  </a:lnTo>
                  <a:lnTo>
                    <a:pt x="11833" y="8946"/>
                  </a:lnTo>
                  <a:lnTo>
                    <a:pt x="10680" y="7294"/>
                  </a:lnTo>
                  <a:lnTo>
                    <a:pt x="10400" y="4070"/>
                  </a:lnTo>
                  <a:lnTo>
                    <a:pt x="10280" y="3506"/>
                  </a:lnTo>
                  <a:lnTo>
                    <a:pt x="9640" y="2418"/>
                  </a:lnTo>
                  <a:lnTo>
                    <a:pt x="9167" y="2982"/>
                  </a:lnTo>
                  <a:lnTo>
                    <a:pt x="8727" y="3506"/>
                  </a:lnTo>
                  <a:lnTo>
                    <a:pt x="8287" y="524"/>
                  </a:lnTo>
                  <a:lnTo>
                    <a:pt x="8167" y="0"/>
                  </a:lnTo>
                  <a:lnTo>
                    <a:pt x="7927" y="0"/>
                  </a:lnTo>
                  <a:lnTo>
                    <a:pt x="7373" y="1370"/>
                  </a:lnTo>
                  <a:lnTo>
                    <a:pt x="7293" y="1612"/>
                  </a:lnTo>
                  <a:lnTo>
                    <a:pt x="7133" y="2176"/>
                  </a:lnTo>
                  <a:lnTo>
                    <a:pt x="6893" y="2982"/>
                  </a:lnTo>
                  <a:lnTo>
                    <a:pt x="6693" y="2982"/>
                  </a:lnTo>
                  <a:lnTo>
                    <a:pt x="6573" y="2982"/>
                  </a:lnTo>
                  <a:lnTo>
                    <a:pt x="6373" y="3264"/>
                  </a:lnTo>
                  <a:lnTo>
                    <a:pt x="6133" y="3788"/>
                  </a:lnTo>
                  <a:lnTo>
                    <a:pt x="5893" y="4312"/>
                  </a:lnTo>
                  <a:lnTo>
                    <a:pt x="5620" y="5158"/>
                  </a:lnTo>
                  <a:lnTo>
                    <a:pt x="5420" y="5682"/>
                  </a:lnTo>
                  <a:lnTo>
                    <a:pt x="5260" y="5964"/>
                  </a:lnTo>
                  <a:lnTo>
                    <a:pt x="5220" y="6206"/>
                  </a:lnTo>
                  <a:lnTo>
                    <a:pt x="3707" y="9188"/>
                  </a:lnTo>
                  <a:lnTo>
                    <a:pt x="2627" y="11848"/>
                  </a:lnTo>
                  <a:lnTo>
                    <a:pt x="713" y="18618"/>
                  </a:lnTo>
                  <a:lnTo>
                    <a:pt x="0" y="21600"/>
                  </a:lnTo>
                  <a:lnTo>
                    <a:pt x="21600" y="21600"/>
                  </a:lnTo>
                  <a:lnTo>
                    <a:pt x="20880" y="18900"/>
                  </a:lnTo>
                  <a:close/>
                  <a:moveTo>
                    <a:pt x="20880" y="18900"/>
                  </a:moveTo>
                </a:path>
              </a:pathLst>
            </a:cu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153" name="Group 7"/>
            <p:cNvGrpSpPr/>
            <p:nvPr/>
          </p:nvGrpSpPr>
          <p:grpSpPr>
            <a:xfrm>
              <a:off x="3946680" y="6019920"/>
              <a:ext cx="3902040" cy="857160"/>
              <a:chOff x="3946680" y="6019920"/>
              <a:chExt cx="3902040" cy="857160"/>
            </a:xfrm>
          </p:grpSpPr>
          <p:sp>
            <p:nvSpPr>
              <p:cNvPr id="154" name="Freeform 8"/>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21600" h="21600">
                    <a:moveTo>
                      <a:pt x="13793" y="15116"/>
                    </a:moveTo>
                    <a:lnTo>
                      <a:pt x="10735" y="14994"/>
                    </a:lnTo>
                    <a:lnTo>
                      <a:pt x="6072" y="10091"/>
                    </a:lnTo>
                    <a:lnTo>
                      <a:pt x="2754" y="2675"/>
                    </a:lnTo>
                    <a:lnTo>
                      <a:pt x="0" y="0"/>
                    </a:lnTo>
                    <a:lnTo>
                      <a:pt x="477" y="1054"/>
                    </a:lnTo>
                    <a:lnTo>
                      <a:pt x="0" y="2634"/>
                    </a:lnTo>
                    <a:lnTo>
                      <a:pt x="651" y="4823"/>
                    </a:lnTo>
                    <a:lnTo>
                      <a:pt x="1627" y="9848"/>
                    </a:lnTo>
                    <a:lnTo>
                      <a:pt x="976" y="17102"/>
                    </a:lnTo>
                    <a:lnTo>
                      <a:pt x="4337" y="13333"/>
                    </a:lnTo>
                    <a:lnTo>
                      <a:pt x="13272" y="21600"/>
                    </a:lnTo>
                    <a:lnTo>
                      <a:pt x="21600" y="21438"/>
                    </a:lnTo>
                    <a:lnTo>
                      <a:pt x="17957" y="19168"/>
                    </a:lnTo>
                    <a:lnTo>
                      <a:pt x="13793" y="15116"/>
                    </a:lnTo>
                    <a:close/>
                    <a:moveTo>
                      <a:pt x="13793" y="15116"/>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55" name="Freeform 9"/>
              <p:cNvSpPr/>
              <p:nvPr/>
            </p:nvSpPr>
            <p:spPr>
              <a:xfrm>
                <a:off x="4249800" y="6019920"/>
                <a:ext cx="295200" cy="627120"/>
              </a:xfrm>
              <a:custGeom>
                <a:avLst/>
                <a:gdLst>
                  <a:gd name="textAreaLeft" fmla="*/ 0 w 295200"/>
                  <a:gd name="textAreaRight" fmla="*/ 295200 w 295200"/>
                  <a:gd name="textAreaTop" fmla="*/ 0 h 627120"/>
                  <a:gd name="textAreaBottom" fmla="*/ 627480 h 627120"/>
                </a:gdLst>
                <a:ahLst/>
                <a:rect l="textAreaLeft" t="textAreaTop" r="textAreaRight" b="textAreaBottom"/>
                <a:pathLst>
                  <a:path w="21600" h="21600">
                    <a:moveTo>
                      <a:pt x="4181" y="0"/>
                    </a:moveTo>
                    <a:lnTo>
                      <a:pt x="6271" y="1101"/>
                    </a:lnTo>
                    <a:lnTo>
                      <a:pt x="2787" y="1836"/>
                    </a:lnTo>
                    <a:lnTo>
                      <a:pt x="2090" y="4039"/>
                    </a:lnTo>
                    <a:lnTo>
                      <a:pt x="4877" y="6976"/>
                    </a:lnTo>
                    <a:lnTo>
                      <a:pt x="5574" y="9913"/>
                    </a:lnTo>
                    <a:lnTo>
                      <a:pt x="0" y="21600"/>
                    </a:lnTo>
                    <a:lnTo>
                      <a:pt x="6271" y="14257"/>
                    </a:lnTo>
                    <a:lnTo>
                      <a:pt x="9755" y="13217"/>
                    </a:lnTo>
                    <a:lnTo>
                      <a:pt x="14632" y="7710"/>
                    </a:lnTo>
                    <a:lnTo>
                      <a:pt x="16723" y="7343"/>
                    </a:lnTo>
                    <a:lnTo>
                      <a:pt x="16723" y="5507"/>
                    </a:lnTo>
                    <a:lnTo>
                      <a:pt x="21600" y="4039"/>
                    </a:lnTo>
                    <a:lnTo>
                      <a:pt x="18813" y="3671"/>
                    </a:lnTo>
                    <a:lnTo>
                      <a:pt x="4181" y="0"/>
                    </a:lnTo>
                    <a:close/>
                    <a:moveTo>
                      <a:pt x="4181"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56" name="Freeform 10"/>
              <p:cNvSpPr/>
              <p:nvPr/>
            </p:nvSpPr>
            <p:spPr>
              <a:xfrm>
                <a:off x="481032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21600" h="21600">
                    <a:moveTo>
                      <a:pt x="1029" y="0"/>
                    </a:moveTo>
                    <a:lnTo>
                      <a:pt x="686" y="1036"/>
                    </a:lnTo>
                    <a:lnTo>
                      <a:pt x="0" y="3188"/>
                    </a:lnTo>
                    <a:lnTo>
                      <a:pt x="3429" y="9644"/>
                    </a:lnTo>
                    <a:lnTo>
                      <a:pt x="17714" y="21600"/>
                    </a:lnTo>
                    <a:lnTo>
                      <a:pt x="16571" y="11079"/>
                    </a:lnTo>
                    <a:lnTo>
                      <a:pt x="21600" y="6058"/>
                    </a:lnTo>
                    <a:lnTo>
                      <a:pt x="14343" y="7492"/>
                    </a:lnTo>
                    <a:lnTo>
                      <a:pt x="5143" y="4304"/>
                    </a:lnTo>
                    <a:lnTo>
                      <a:pt x="1029" y="0"/>
                    </a:lnTo>
                    <a:close/>
                    <a:moveTo>
                      <a:pt x="1029"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57" name="Freeform 11"/>
              <p:cNvSpPr/>
              <p:nvPr/>
            </p:nvSpPr>
            <p:spPr>
              <a:xfrm>
                <a:off x="5759640" y="6137280"/>
                <a:ext cx="245880" cy="117720"/>
              </a:xfrm>
              <a:custGeom>
                <a:avLst/>
                <a:gdLst>
                  <a:gd name="textAreaLeft" fmla="*/ 0 w 245880"/>
                  <a:gd name="textAreaRight" fmla="*/ 246240 w 245880"/>
                  <a:gd name="textAreaTop" fmla="*/ 0 h 117720"/>
                  <a:gd name="textAreaBottom" fmla="*/ 118080 h 117720"/>
                </a:gdLst>
                <a:ahLst/>
                <a:rect l="textAreaLeft" t="textAreaTop" r="textAreaRight" b="textAreaBottom"/>
                <a:pathLst>
                  <a:path w="21600" h="21600">
                    <a:moveTo>
                      <a:pt x="15886" y="0"/>
                    </a:moveTo>
                    <a:lnTo>
                      <a:pt x="0" y="0"/>
                    </a:lnTo>
                    <a:lnTo>
                      <a:pt x="836" y="1964"/>
                    </a:lnTo>
                    <a:lnTo>
                      <a:pt x="836" y="5891"/>
                    </a:lnTo>
                    <a:lnTo>
                      <a:pt x="0" y="7855"/>
                    </a:lnTo>
                    <a:lnTo>
                      <a:pt x="10870" y="19636"/>
                    </a:lnTo>
                    <a:lnTo>
                      <a:pt x="13378" y="13745"/>
                    </a:lnTo>
                    <a:lnTo>
                      <a:pt x="21600" y="21600"/>
                    </a:lnTo>
                    <a:lnTo>
                      <a:pt x="17559" y="7855"/>
                    </a:lnTo>
                    <a:lnTo>
                      <a:pt x="20764" y="0"/>
                    </a:lnTo>
                    <a:lnTo>
                      <a:pt x="15886" y="0"/>
                    </a:lnTo>
                    <a:close/>
                    <a:moveTo>
                      <a:pt x="15886"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58" name="Freeform 12"/>
              <p:cNvSpPr/>
              <p:nvPr/>
            </p:nvSpPr>
            <p:spPr>
              <a:xfrm>
                <a:off x="3946680" y="6126120"/>
                <a:ext cx="66600" cy="128880"/>
              </a:xfrm>
              <a:custGeom>
                <a:avLst/>
                <a:gdLst>
                  <a:gd name="textAreaLeft" fmla="*/ 0 w 66600"/>
                  <a:gd name="textAreaRight" fmla="*/ 66960 w 66600"/>
                  <a:gd name="textAreaTop" fmla="*/ 0 h 128880"/>
                  <a:gd name="textAreaBottom" fmla="*/ 128880 h 128880"/>
                </a:gdLst>
                <a:ahLst/>
                <a:rect l="textAreaLeft" t="textAreaTop" r="textAreaRight" b="textAreaBottom"/>
                <a:pathLst>
                  <a:path w="21600" h="21600">
                    <a:moveTo>
                      <a:pt x="3086" y="10800"/>
                    </a:moveTo>
                    <a:lnTo>
                      <a:pt x="0" y="5400"/>
                    </a:lnTo>
                    <a:lnTo>
                      <a:pt x="6171" y="1800"/>
                    </a:lnTo>
                    <a:lnTo>
                      <a:pt x="0" y="1800"/>
                    </a:lnTo>
                    <a:lnTo>
                      <a:pt x="6171" y="1800"/>
                    </a:lnTo>
                    <a:lnTo>
                      <a:pt x="12343" y="1800"/>
                    </a:lnTo>
                    <a:lnTo>
                      <a:pt x="18514" y="1800"/>
                    </a:lnTo>
                    <a:lnTo>
                      <a:pt x="21600" y="0"/>
                    </a:lnTo>
                    <a:lnTo>
                      <a:pt x="15429" y="5400"/>
                    </a:lnTo>
                    <a:lnTo>
                      <a:pt x="21600" y="14400"/>
                    </a:lnTo>
                    <a:lnTo>
                      <a:pt x="6171" y="21600"/>
                    </a:lnTo>
                    <a:lnTo>
                      <a:pt x="3086" y="10800"/>
                    </a:lnTo>
                    <a:close/>
                    <a:moveTo>
                      <a:pt x="3086" y="1080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59" name="Freeform 13"/>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21600" h="21600">
                  <a:moveTo>
                    <a:pt x="21600" y="21600"/>
                  </a:moveTo>
                  <a:lnTo>
                    <a:pt x="21567" y="21600"/>
                  </a:lnTo>
                  <a:lnTo>
                    <a:pt x="20883" y="20862"/>
                  </a:lnTo>
                  <a:lnTo>
                    <a:pt x="13511" y="12501"/>
                  </a:lnTo>
                  <a:lnTo>
                    <a:pt x="11077" y="1476"/>
                  </a:lnTo>
                  <a:lnTo>
                    <a:pt x="10360" y="984"/>
                  </a:lnTo>
                  <a:lnTo>
                    <a:pt x="10230" y="2213"/>
                  </a:lnTo>
                  <a:lnTo>
                    <a:pt x="10099" y="2213"/>
                  </a:lnTo>
                  <a:lnTo>
                    <a:pt x="9942" y="1230"/>
                  </a:lnTo>
                  <a:lnTo>
                    <a:pt x="9257" y="4181"/>
                  </a:lnTo>
                  <a:lnTo>
                    <a:pt x="8736" y="5164"/>
                  </a:lnTo>
                  <a:lnTo>
                    <a:pt x="8480" y="5410"/>
                  </a:lnTo>
                  <a:lnTo>
                    <a:pt x="8122" y="4181"/>
                  </a:lnTo>
                  <a:lnTo>
                    <a:pt x="7372" y="5164"/>
                  </a:lnTo>
                  <a:lnTo>
                    <a:pt x="6981" y="984"/>
                  </a:lnTo>
                  <a:lnTo>
                    <a:pt x="6954" y="738"/>
                  </a:lnTo>
                  <a:lnTo>
                    <a:pt x="6856" y="492"/>
                  </a:lnTo>
                  <a:lnTo>
                    <a:pt x="6726" y="246"/>
                  </a:lnTo>
                  <a:lnTo>
                    <a:pt x="6628" y="0"/>
                  </a:lnTo>
                  <a:lnTo>
                    <a:pt x="6497" y="0"/>
                  </a:lnTo>
                  <a:lnTo>
                    <a:pt x="6334" y="0"/>
                  </a:lnTo>
                  <a:lnTo>
                    <a:pt x="6204" y="0"/>
                  </a:lnTo>
                  <a:lnTo>
                    <a:pt x="6171" y="0"/>
                  </a:lnTo>
                  <a:lnTo>
                    <a:pt x="6139" y="0"/>
                  </a:lnTo>
                  <a:lnTo>
                    <a:pt x="6106" y="246"/>
                  </a:lnTo>
                  <a:lnTo>
                    <a:pt x="6074" y="492"/>
                  </a:lnTo>
                  <a:lnTo>
                    <a:pt x="5976" y="738"/>
                  </a:lnTo>
                  <a:lnTo>
                    <a:pt x="5911" y="738"/>
                  </a:lnTo>
                  <a:lnTo>
                    <a:pt x="5813" y="984"/>
                  </a:lnTo>
                  <a:lnTo>
                    <a:pt x="5715" y="1230"/>
                  </a:lnTo>
                  <a:lnTo>
                    <a:pt x="5617" y="1476"/>
                  </a:lnTo>
                  <a:lnTo>
                    <a:pt x="5585" y="1721"/>
                  </a:lnTo>
                  <a:lnTo>
                    <a:pt x="5264" y="2459"/>
                  </a:lnTo>
                  <a:lnTo>
                    <a:pt x="5003" y="2951"/>
                  </a:lnTo>
                  <a:lnTo>
                    <a:pt x="4645" y="1967"/>
                  </a:lnTo>
                  <a:lnTo>
                    <a:pt x="4482" y="1967"/>
                  </a:lnTo>
                  <a:lnTo>
                    <a:pt x="4123" y="2951"/>
                  </a:lnTo>
                  <a:lnTo>
                    <a:pt x="3993" y="2951"/>
                  </a:lnTo>
                  <a:lnTo>
                    <a:pt x="3835" y="2459"/>
                  </a:lnTo>
                  <a:lnTo>
                    <a:pt x="3477" y="2459"/>
                  </a:lnTo>
                  <a:lnTo>
                    <a:pt x="2955" y="2951"/>
                  </a:lnTo>
                  <a:lnTo>
                    <a:pt x="2113" y="738"/>
                  </a:lnTo>
                  <a:lnTo>
                    <a:pt x="1755" y="2459"/>
                  </a:lnTo>
                  <a:lnTo>
                    <a:pt x="1722" y="2459"/>
                  </a:lnTo>
                  <a:lnTo>
                    <a:pt x="1657" y="2951"/>
                  </a:lnTo>
                  <a:lnTo>
                    <a:pt x="1559" y="3197"/>
                  </a:lnTo>
                  <a:lnTo>
                    <a:pt x="1429" y="3689"/>
                  </a:lnTo>
                  <a:lnTo>
                    <a:pt x="1103" y="4918"/>
                  </a:lnTo>
                  <a:lnTo>
                    <a:pt x="809" y="6148"/>
                  </a:lnTo>
                  <a:lnTo>
                    <a:pt x="424" y="6886"/>
                  </a:lnTo>
                  <a:lnTo>
                    <a:pt x="0" y="7378"/>
                  </a:lnTo>
                  <a:lnTo>
                    <a:pt x="0" y="21600"/>
                  </a:lnTo>
                  <a:lnTo>
                    <a:pt x="5487" y="21600"/>
                  </a:lnTo>
                  <a:lnTo>
                    <a:pt x="20236" y="21600"/>
                  </a:lnTo>
                  <a:lnTo>
                    <a:pt x="21600" y="21600"/>
                  </a:lnTo>
                  <a:close/>
                  <a:moveTo>
                    <a:pt x="21600" y="21600"/>
                  </a:moveTo>
                </a:path>
              </a:pathLst>
            </a:cu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160" name="Group 14"/>
          <p:cNvGrpSpPr/>
          <p:nvPr/>
        </p:nvGrpSpPr>
        <p:grpSpPr>
          <a:xfrm>
            <a:off x="627120" y="6021360"/>
            <a:ext cx="5684760" cy="849240"/>
            <a:chOff x="627120" y="6021360"/>
            <a:chExt cx="5684760" cy="849240"/>
          </a:xfrm>
        </p:grpSpPr>
        <p:sp>
          <p:nvSpPr>
            <p:cNvPr id="161" name="Freeform 15"/>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21600" h="21600">
                  <a:moveTo>
                    <a:pt x="1420" y="1806"/>
                  </a:moveTo>
                  <a:lnTo>
                    <a:pt x="0" y="4516"/>
                  </a:lnTo>
                  <a:lnTo>
                    <a:pt x="3906" y="8128"/>
                  </a:lnTo>
                  <a:lnTo>
                    <a:pt x="8462" y="13547"/>
                  </a:lnTo>
                  <a:lnTo>
                    <a:pt x="11303" y="12644"/>
                  </a:lnTo>
                  <a:lnTo>
                    <a:pt x="20180" y="21600"/>
                  </a:lnTo>
                  <a:lnTo>
                    <a:pt x="18049" y="13095"/>
                  </a:lnTo>
                  <a:lnTo>
                    <a:pt x="21600" y="9934"/>
                  </a:lnTo>
                  <a:lnTo>
                    <a:pt x="21245" y="9483"/>
                  </a:lnTo>
                  <a:lnTo>
                    <a:pt x="19825" y="8580"/>
                  </a:lnTo>
                  <a:lnTo>
                    <a:pt x="17694" y="6774"/>
                  </a:lnTo>
                  <a:lnTo>
                    <a:pt x="15209" y="5419"/>
                  </a:lnTo>
                  <a:lnTo>
                    <a:pt x="12723" y="4064"/>
                  </a:lnTo>
                  <a:lnTo>
                    <a:pt x="10238" y="2709"/>
                  </a:lnTo>
                  <a:lnTo>
                    <a:pt x="8462" y="1806"/>
                  </a:lnTo>
                  <a:lnTo>
                    <a:pt x="7752" y="1355"/>
                  </a:lnTo>
                  <a:lnTo>
                    <a:pt x="6332" y="1355"/>
                  </a:lnTo>
                  <a:lnTo>
                    <a:pt x="5622" y="1355"/>
                  </a:lnTo>
                  <a:lnTo>
                    <a:pt x="4261" y="903"/>
                  </a:lnTo>
                  <a:lnTo>
                    <a:pt x="3906" y="903"/>
                  </a:lnTo>
                  <a:lnTo>
                    <a:pt x="3196" y="452"/>
                  </a:lnTo>
                  <a:lnTo>
                    <a:pt x="2485" y="0"/>
                  </a:lnTo>
                  <a:lnTo>
                    <a:pt x="1775" y="0"/>
                  </a:lnTo>
                  <a:lnTo>
                    <a:pt x="1420" y="1806"/>
                  </a:lnTo>
                  <a:close/>
                  <a:moveTo>
                    <a:pt x="1420" y="1806"/>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2" name="Freeform 16"/>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1600" h="21600">
                  <a:moveTo>
                    <a:pt x="1976" y="779"/>
                  </a:moveTo>
                  <a:lnTo>
                    <a:pt x="1466" y="260"/>
                  </a:lnTo>
                  <a:lnTo>
                    <a:pt x="1020" y="0"/>
                  </a:lnTo>
                  <a:lnTo>
                    <a:pt x="382" y="0"/>
                  </a:lnTo>
                  <a:lnTo>
                    <a:pt x="127" y="1082"/>
                  </a:lnTo>
                  <a:lnTo>
                    <a:pt x="0" y="5541"/>
                  </a:lnTo>
                  <a:lnTo>
                    <a:pt x="637" y="4502"/>
                  </a:lnTo>
                  <a:lnTo>
                    <a:pt x="956" y="5800"/>
                  </a:lnTo>
                  <a:lnTo>
                    <a:pt x="1594" y="6623"/>
                  </a:lnTo>
                  <a:lnTo>
                    <a:pt x="2221" y="11817"/>
                  </a:lnTo>
                  <a:lnTo>
                    <a:pt x="4261" y="15540"/>
                  </a:lnTo>
                  <a:lnTo>
                    <a:pt x="8255" y="15540"/>
                  </a:lnTo>
                  <a:lnTo>
                    <a:pt x="21600" y="21600"/>
                  </a:lnTo>
                  <a:lnTo>
                    <a:pt x="21154" y="21340"/>
                  </a:lnTo>
                  <a:lnTo>
                    <a:pt x="7182" y="10519"/>
                  </a:lnTo>
                  <a:lnTo>
                    <a:pt x="5461" y="6883"/>
                  </a:lnTo>
                  <a:lnTo>
                    <a:pt x="4515" y="4762"/>
                  </a:lnTo>
                  <a:lnTo>
                    <a:pt x="3878" y="3982"/>
                  </a:lnTo>
                  <a:lnTo>
                    <a:pt x="2986" y="2640"/>
                  </a:lnTo>
                  <a:lnTo>
                    <a:pt x="1976" y="779"/>
                  </a:lnTo>
                  <a:close/>
                  <a:moveTo>
                    <a:pt x="1976" y="779"/>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3" name="Freeform 17"/>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21600" h="21600">
                  <a:moveTo>
                    <a:pt x="0" y="6480"/>
                  </a:moveTo>
                  <a:lnTo>
                    <a:pt x="1825" y="6480"/>
                  </a:lnTo>
                  <a:lnTo>
                    <a:pt x="3651" y="4320"/>
                  </a:lnTo>
                  <a:lnTo>
                    <a:pt x="1825" y="2160"/>
                  </a:lnTo>
                  <a:lnTo>
                    <a:pt x="0" y="0"/>
                  </a:lnTo>
                  <a:lnTo>
                    <a:pt x="8823" y="6480"/>
                  </a:lnTo>
                  <a:lnTo>
                    <a:pt x="16124" y="6480"/>
                  </a:lnTo>
                  <a:lnTo>
                    <a:pt x="17949" y="10800"/>
                  </a:lnTo>
                  <a:lnTo>
                    <a:pt x="19775" y="15120"/>
                  </a:lnTo>
                  <a:lnTo>
                    <a:pt x="21600" y="19440"/>
                  </a:lnTo>
                  <a:lnTo>
                    <a:pt x="21600" y="21600"/>
                  </a:lnTo>
                  <a:lnTo>
                    <a:pt x="17949" y="19440"/>
                  </a:lnTo>
                  <a:lnTo>
                    <a:pt x="14299" y="15120"/>
                  </a:lnTo>
                  <a:lnTo>
                    <a:pt x="6997" y="10800"/>
                  </a:lnTo>
                  <a:lnTo>
                    <a:pt x="6997" y="12960"/>
                  </a:lnTo>
                  <a:lnTo>
                    <a:pt x="5476" y="15120"/>
                  </a:lnTo>
                  <a:lnTo>
                    <a:pt x="3651" y="17280"/>
                  </a:lnTo>
                  <a:lnTo>
                    <a:pt x="1825" y="17280"/>
                  </a:lnTo>
                  <a:lnTo>
                    <a:pt x="1825" y="12960"/>
                  </a:lnTo>
                  <a:lnTo>
                    <a:pt x="0" y="6480"/>
                  </a:lnTo>
                  <a:close/>
                  <a:moveTo>
                    <a:pt x="0" y="648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4" name="Freeform 18"/>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21600" h="21600">
                  <a:moveTo>
                    <a:pt x="4025" y="0"/>
                  </a:moveTo>
                  <a:lnTo>
                    <a:pt x="6440" y="800"/>
                  </a:lnTo>
                  <a:lnTo>
                    <a:pt x="9660" y="800"/>
                  </a:lnTo>
                  <a:lnTo>
                    <a:pt x="15294" y="1600"/>
                  </a:lnTo>
                  <a:lnTo>
                    <a:pt x="12880" y="7200"/>
                  </a:lnTo>
                  <a:lnTo>
                    <a:pt x="12880" y="8000"/>
                  </a:lnTo>
                  <a:lnTo>
                    <a:pt x="13684" y="9600"/>
                  </a:lnTo>
                  <a:lnTo>
                    <a:pt x="14489" y="11200"/>
                  </a:lnTo>
                  <a:lnTo>
                    <a:pt x="16099" y="12800"/>
                  </a:lnTo>
                  <a:lnTo>
                    <a:pt x="19185" y="15200"/>
                  </a:lnTo>
                  <a:lnTo>
                    <a:pt x="20795" y="18400"/>
                  </a:lnTo>
                  <a:lnTo>
                    <a:pt x="21600" y="20800"/>
                  </a:lnTo>
                  <a:lnTo>
                    <a:pt x="21600" y="21600"/>
                  </a:lnTo>
                  <a:lnTo>
                    <a:pt x="12880" y="13600"/>
                  </a:lnTo>
                  <a:lnTo>
                    <a:pt x="4025" y="7200"/>
                  </a:lnTo>
                  <a:lnTo>
                    <a:pt x="0" y="0"/>
                  </a:lnTo>
                  <a:lnTo>
                    <a:pt x="4025" y="0"/>
                  </a:lnTo>
                  <a:close/>
                  <a:moveTo>
                    <a:pt x="4025"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5" name="Freeform 19"/>
            <p:cNvSpPr/>
            <p:nvPr/>
          </p:nvSpPr>
          <p:spPr>
            <a:xfrm>
              <a:off x="1120680" y="611820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21600" h="21600">
                  <a:moveTo>
                    <a:pt x="21600" y="2160"/>
                  </a:moveTo>
                  <a:lnTo>
                    <a:pt x="15010" y="10800"/>
                  </a:lnTo>
                  <a:lnTo>
                    <a:pt x="15010" y="12960"/>
                  </a:lnTo>
                  <a:lnTo>
                    <a:pt x="17207" y="15120"/>
                  </a:lnTo>
                  <a:lnTo>
                    <a:pt x="19403" y="19440"/>
                  </a:lnTo>
                  <a:lnTo>
                    <a:pt x="19403" y="21600"/>
                  </a:lnTo>
                  <a:lnTo>
                    <a:pt x="17207" y="19440"/>
                  </a:lnTo>
                  <a:lnTo>
                    <a:pt x="12814" y="17280"/>
                  </a:lnTo>
                  <a:lnTo>
                    <a:pt x="8420" y="12960"/>
                  </a:lnTo>
                  <a:lnTo>
                    <a:pt x="6224" y="10800"/>
                  </a:lnTo>
                  <a:lnTo>
                    <a:pt x="0" y="0"/>
                  </a:lnTo>
                  <a:lnTo>
                    <a:pt x="21600" y="2160"/>
                  </a:lnTo>
                  <a:close/>
                  <a:moveTo>
                    <a:pt x="21600" y="216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6" name="Freeform 20"/>
            <p:cNvSpPr/>
            <p:nvPr/>
          </p:nvSpPr>
          <p:spPr>
            <a:xfrm>
              <a:off x="627120" y="6049800"/>
              <a:ext cx="388800" cy="328680"/>
            </a:xfrm>
            <a:custGeom>
              <a:avLst/>
              <a:gdLst>
                <a:gd name="textAreaLeft" fmla="*/ 0 w 388800"/>
                <a:gd name="textAreaRight" fmla="*/ 389160 w 388800"/>
                <a:gd name="textAreaTop" fmla="*/ 0 h 328680"/>
                <a:gd name="textAreaBottom" fmla="*/ 328680 h 328680"/>
              </a:gdLst>
              <a:ahLst/>
              <a:rect l="textAreaLeft" t="textAreaTop" r="textAreaRight" b="textAreaBottom"/>
              <a:pathLst>
                <a:path w="21600" h="21600">
                  <a:moveTo>
                    <a:pt x="20542" y="3812"/>
                  </a:moveTo>
                  <a:lnTo>
                    <a:pt x="21600" y="4447"/>
                  </a:lnTo>
                  <a:lnTo>
                    <a:pt x="18426" y="8894"/>
                  </a:lnTo>
                  <a:lnTo>
                    <a:pt x="12607" y="13976"/>
                  </a:lnTo>
                  <a:lnTo>
                    <a:pt x="14723" y="16518"/>
                  </a:lnTo>
                  <a:lnTo>
                    <a:pt x="15781" y="21600"/>
                  </a:lnTo>
                  <a:lnTo>
                    <a:pt x="6789" y="13976"/>
                  </a:lnTo>
                  <a:lnTo>
                    <a:pt x="4144" y="8894"/>
                  </a:lnTo>
                  <a:lnTo>
                    <a:pt x="7847" y="6988"/>
                  </a:lnTo>
                  <a:lnTo>
                    <a:pt x="5202" y="3812"/>
                  </a:lnTo>
                  <a:lnTo>
                    <a:pt x="0" y="1271"/>
                  </a:lnTo>
                  <a:lnTo>
                    <a:pt x="0" y="0"/>
                  </a:lnTo>
                  <a:lnTo>
                    <a:pt x="529" y="0"/>
                  </a:lnTo>
                  <a:lnTo>
                    <a:pt x="1058" y="0"/>
                  </a:lnTo>
                  <a:lnTo>
                    <a:pt x="4144" y="635"/>
                  </a:lnTo>
                  <a:lnTo>
                    <a:pt x="6789" y="635"/>
                  </a:lnTo>
                  <a:lnTo>
                    <a:pt x="7318" y="635"/>
                  </a:lnTo>
                  <a:lnTo>
                    <a:pt x="7847" y="635"/>
                  </a:lnTo>
                  <a:lnTo>
                    <a:pt x="8904" y="1271"/>
                  </a:lnTo>
                  <a:lnTo>
                    <a:pt x="11020" y="1271"/>
                  </a:lnTo>
                  <a:lnTo>
                    <a:pt x="12607" y="1906"/>
                  </a:lnTo>
                  <a:lnTo>
                    <a:pt x="13136" y="1906"/>
                  </a:lnTo>
                  <a:lnTo>
                    <a:pt x="17897" y="2541"/>
                  </a:lnTo>
                  <a:lnTo>
                    <a:pt x="20542" y="3812"/>
                  </a:lnTo>
                  <a:close/>
                  <a:moveTo>
                    <a:pt x="20542" y="3812"/>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67"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SC</a:t>
            </a:r>
            <a:r>
              <a:rPr b="0" lang="ja-JP" sz="1200" spc="-1" strike="noStrike">
                <a:solidFill>
                  <a:srgbClr val="ffffff"/>
                </a:solidFill>
                <a:latin typeface="Arial"/>
              </a:rPr>
              <a:t>システム部会</a:t>
            </a:r>
            <a:endParaRPr b="0" lang="en-US" sz="1200" spc="-1" strike="noStrike">
              <a:solidFill>
                <a:srgbClr val="000000"/>
              </a:solidFill>
              <a:latin typeface="Arial"/>
            </a:endParaRPr>
          </a:p>
        </p:txBody>
      </p:sp>
      <p:sp>
        <p:nvSpPr>
          <p:cNvPr id="168" name="Text Box 22"/>
          <p:cNvSpPr/>
          <p:nvPr/>
        </p:nvSpPr>
        <p:spPr>
          <a:xfrm>
            <a:off x="7477200" y="5726160"/>
            <a:ext cx="284040" cy="2397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A529-11EB-43EE-8AA6-AA2E8C67DD59}"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69" name="コンテンツ プレースホルダ 2"/>
          <p:cNvSpPr/>
          <p:nvPr/>
        </p:nvSpPr>
        <p:spPr>
          <a:xfrm>
            <a:off x="457200" y="1676520"/>
            <a:ext cx="8686800" cy="3984480"/>
          </a:xfrm>
          <a:prstGeom prst="rect">
            <a:avLst/>
          </a:prstGeom>
          <a:noFill/>
          <a:ln w="0">
            <a:noFill/>
          </a:ln>
        </p:spPr>
        <p:style>
          <a:lnRef idx="0"/>
          <a:fillRef idx="0"/>
          <a:effectRef idx="0"/>
          <a:fontRef idx="minor"/>
        </p:style>
        <p:txBody>
          <a:bodyPr lIns="50760" rIns="90000" tIns="50760" bIns="50760" anchor="t">
            <a:noAutofit/>
          </a:bodyPr>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0" name="Object 6"/>
          <p:cNvGraphicFramePr/>
          <p:nvPr/>
        </p:nvGraphicFramePr>
        <p:xfrm>
          <a:off x="395280" y="981000"/>
          <a:ext cx="8353440" cy="5112000"/>
        </p:xfrm>
        <a:graphic>
          <a:graphicData uri="http://schemas.openxmlformats.org/presentationml/2006/ole">
            <p:oleObj r:id="rId1" spid="">
              <p:embed/>
              <p:pic>
                <p:nvPicPr>
                  <p:cNvPr id="171" name="Object 6" descr=""/>
                  <p:cNvPicPr/>
                  <p:nvPr/>
                </p:nvPicPr>
                <p:blipFill>
                  <a:blip r:embed="rId2"/>
                  <a:stretch/>
                </p:blipFill>
                <p:spPr>
                  <a:xfrm>
                    <a:off x="395280" y="981000"/>
                    <a:ext cx="8353440" cy="51120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16440"/>
            <a:ext cx="8229600" cy="22258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e3e3ff"/>
                </a:solidFill>
                <a:latin typeface="Arial"/>
              </a:rPr>
              <a:t>活動報告</a:t>
            </a:r>
            <a:endParaRPr b="0" lang="en-US" sz="5400" spc="-1" strike="noStrike">
              <a:solidFill>
                <a:srgbClr val="e3e3ff"/>
              </a:solidFill>
              <a:latin typeface="Arial"/>
            </a:endParaRPr>
          </a:p>
        </p:txBody>
      </p:sp>
      <p:sp>
        <p:nvSpPr>
          <p:cNvPr id="173"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DBC4-07A7-406D-BC9B-517A3F38E07E}"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74" name="Freeform 4"/>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21600" h="21600">
                <a:moveTo>
                  <a:pt x="21600" y="21600"/>
                </a:moveTo>
                <a:lnTo>
                  <a:pt x="0" y="21600"/>
                </a:lnTo>
                <a:lnTo>
                  <a:pt x="0" y="0"/>
                </a:lnTo>
                <a:lnTo>
                  <a:pt x="21600" y="0"/>
                </a:lnTo>
                <a:lnTo>
                  <a:pt x="21600" y="21600"/>
                </a:lnTo>
                <a:close/>
                <a:moveTo>
                  <a:pt x="21600" y="21600"/>
                </a:moveTo>
              </a:path>
            </a:pathLst>
          </a:custGeom>
          <a:gradFill rotWithShape="0">
            <a:gsLst>
              <a:gs pos="0">
                <a:srgbClr val="003399"/>
              </a:gs>
              <a:gs pos="100000">
                <a:srgbClr val="00ffcc"/>
              </a:gs>
            </a:gsLst>
            <a:lin ang="189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175" name="Group 5"/>
          <p:cNvGrpSpPr/>
          <p:nvPr/>
        </p:nvGrpSpPr>
        <p:grpSpPr>
          <a:xfrm>
            <a:off x="0" y="6019920"/>
            <a:ext cx="7848720" cy="857160"/>
            <a:chOff x="0" y="6019920"/>
            <a:chExt cx="7848720" cy="857160"/>
          </a:xfrm>
        </p:grpSpPr>
        <p:sp>
          <p:nvSpPr>
            <p:cNvPr id="176" name="Freeform 6"/>
            <p:cNvSpPr/>
            <p:nvPr/>
          </p:nvSpPr>
          <p:spPr>
            <a:xfrm>
              <a:off x="2362320" y="6019920"/>
              <a:ext cx="5143320" cy="851040"/>
            </a:xfrm>
            <a:custGeom>
              <a:avLst/>
              <a:gdLst>
                <a:gd name="textAreaLeft" fmla="*/ 0 w 5143320"/>
                <a:gd name="textAreaRight" fmla="*/ 5143680 w 5143320"/>
                <a:gd name="textAreaTop" fmla="*/ 0 h 851040"/>
                <a:gd name="textAreaBottom" fmla="*/ 851400 h 851040"/>
              </a:gdLst>
              <a:ahLst/>
              <a:rect l="textAreaLeft" t="textAreaTop" r="textAreaRight" b="textAreaBottom"/>
              <a:pathLst>
                <a:path w="21600" h="21600">
                  <a:moveTo>
                    <a:pt x="20880" y="18900"/>
                  </a:moveTo>
                  <a:lnTo>
                    <a:pt x="19967" y="15918"/>
                  </a:lnTo>
                  <a:lnTo>
                    <a:pt x="19407" y="15112"/>
                  </a:lnTo>
                  <a:lnTo>
                    <a:pt x="17853" y="9188"/>
                  </a:lnTo>
                  <a:lnTo>
                    <a:pt x="17020" y="2982"/>
                  </a:lnTo>
                  <a:lnTo>
                    <a:pt x="16380" y="282"/>
                  </a:lnTo>
                  <a:lnTo>
                    <a:pt x="16020" y="1894"/>
                  </a:lnTo>
                  <a:lnTo>
                    <a:pt x="15260" y="2982"/>
                  </a:lnTo>
                  <a:lnTo>
                    <a:pt x="14227" y="2982"/>
                  </a:lnTo>
                  <a:lnTo>
                    <a:pt x="13627" y="5158"/>
                  </a:lnTo>
                  <a:lnTo>
                    <a:pt x="11833" y="8946"/>
                  </a:lnTo>
                  <a:lnTo>
                    <a:pt x="10680" y="7294"/>
                  </a:lnTo>
                  <a:lnTo>
                    <a:pt x="10400" y="4070"/>
                  </a:lnTo>
                  <a:lnTo>
                    <a:pt x="10280" y="3506"/>
                  </a:lnTo>
                  <a:lnTo>
                    <a:pt x="9640" y="2418"/>
                  </a:lnTo>
                  <a:lnTo>
                    <a:pt x="9167" y="2982"/>
                  </a:lnTo>
                  <a:lnTo>
                    <a:pt x="8727" y="3506"/>
                  </a:lnTo>
                  <a:lnTo>
                    <a:pt x="8287" y="524"/>
                  </a:lnTo>
                  <a:lnTo>
                    <a:pt x="8167" y="0"/>
                  </a:lnTo>
                  <a:lnTo>
                    <a:pt x="7927" y="0"/>
                  </a:lnTo>
                  <a:lnTo>
                    <a:pt x="7373" y="1370"/>
                  </a:lnTo>
                  <a:lnTo>
                    <a:pt x="7293" y="1612"/>
                  </a:lnTo>
                  <a:lnTo>
                    <a:pt x="7133" y="2176"/>
                  </a:lnTo>
                  <a:lnTo>
                    <a:pt x="6893" y="2982"/>
                  </a:lnTo>
                  <a:lnTo>
                    <a:pt x="6693" y="2982"/>
                  </a:lnTo>
                  <a:lnTo>
                    <a:pt x="6573" y="2982"/>
                  </a:lnTo>
                  <a:lnTo>
                    <a:pt x="6373" y="3264"/>
                  </a:lnTo>
                  <a:lnTo>
                    <a:pt x="6133" y="3788"/>
                  </a:lnTo>
                  <a:lnTo>
                    <a:pt x="5893" y="4312"/>
                  </a:lnTo>
                  <a:lnTo>
                    <a:pt x="5620" y="5158"/>
                  </a:lnTo>
                  <a:lnTo>
                    <a:pt x="5420" y="5682"/>
                  </a:lnTo>
                  <a:lnTo>
                    <a:pt x="5260" y="5964"/>
                  </a:lnTo>
                  <a:lnTo>
                    <a:pt x="5220" y="6206"/>
                  </a:lnTo>
                  <a:lnTo>
                    <a:pt x="3707" y="9188"/>
                  </a:lnTo>
                  <a:lnTo>
                    <a:pt x="2627" y="11848"/>
                  </a:lnTo>
                  <a:lnTo>
                    <a:pt x="713" y="18618"/>
                  </a:lnTo>
                  <a:lnTo>
                    <a:pt x="0" y="21600"/>
                  </a:lnTo>
                  <a:lnTo>
                    <a:pt x="21600" y="21600"/>
                  </a:lnTo>
                  <a:lnTo>
                    <a:pt x="20880" y="18900"/>
                  </a:lnTo>
                  <a:close/>
                  <a:moveTo>
                    <a:pt x="20880" y="18900"/>
                  </a:moveTo>
                </a:path>
              </a:pathLst>
            </a:cu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177" name="Group 7"/>
            <p:cNvGrpSpPr/>
            <p:nvPr/>
          </p:nvGrpSpPr>
          <p:grpSpPr>
            <a:xfrm>
              <a:off x="3946680" y="6019920"/>
              <a:ext cx="3902040" cy="857160"/>
              <a:chOff x="3946680" y="6019920"/>
              <a:chExt cx="3902040" cy="857160"/>
            </a:xfrm>
          </p:grpSpPr>
          <p:sp>
            <p:nvSpPr>
              <p:cNvPr id="178" name="Freeform 8"/>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21600" h="21600">
                    <a:moveTo>
                      <a:pt x="13793" y="15116"/>
                    </a:moveTo>
                    <a:lnTo>
                      <a:pt x="10735" y="14994"/>
                    </a:lnTo>
                    <a:lnTo>
                      <a:pt x="6072" y="10091"/>
                    </a:lnTo>
                    <a:lnTo>
                      <a:pt x="2754" y="2675"/>
                    </a:lnTo>
                    <a:lnTo>
                      <a:pt x="0" y="0"/>
                    </a:lnTo>
                    <a:lnTo>
                      <a:pt x="477" y="1054"/>
                    </a:lnTo>
                    <a:lnTo>
                      <a:pt x="0" y="2634"/>
                    </a:lnTo>
                    <a:lnTo>
                      <a:pt x="651" y="4823"/>
                    </a:lnTo>
                    <a:lnTo>
                      <a:pt x="1627" y="9848"/>
                    </a:lnTo>
                    <a:lnTo>
                      <a:pt x="976" y="17102"/>
                    </a:lnTo>
                    <a:lnTo>
                      <a:pt x="4337" y="13333"/>
                    </a:lnTo>
                    <a:lnTo>
                      <a:pt x="13272" y="21600"/>
                    </a:lnTo>
                    <a:lnTo>
                      <a:pt x="21600" y="21438"/>
                    </a:lnTo>
                    <a:lnTo>
                      <a:pt x="17957" y="19168"/>
                    </a:lnTo>
                    <a:lnTo>
                      <a:pt x="13793" y="15116"/>
                    </a:lnTo>
                    <a:close/>
                    <a:moveTo>
                      <a:pt x="13793" y="15116"/>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9" name="Freeform 9"/>
              <p:cNvSpPr/>
              <p:nvPr/>
            </p:nvSpPr>
            <p:spPr>
              <a:xfrm>
                <a:off x="4249800" y="6019920"/>
                <a:ext cx="295200" cy="627120"/>
              </a:xfrm>
              <a:custGeom>
                <a:avLst/>
                <a:gdLst>
                  <a:gd name="textAreaLeft" fmla="*/ 0 w 295200"/>
                  <a:gd name="textAreaRight" fmla="*/ 295200 w 295200"/>
                  <a:gd name="textAreaTop" fmla="*/ 0 h 627120"/>
                  <a:gd name="textAreaBottom" fmla="*/ 627480 h 627120"/>
                </a:gdLst>
                <a:ahLst/>
                <a:rect l="textAreaLeft" t="textAreaTop" r="textAreaRight" b="textAreaBottom"/>
                <a:pathLst>
                  <a:path w="21600" h="21600">
                    <a:moveTo>
                      <a:pt x="4181" y="0"/>
                    </a:moveTo>
                    <a:lnTo>
                      <a:pt x="6271" y="1101"/>
                    </a:lnTo>
                    <a:lnTo>
                      <a:pt x="2787" y="1836"/>
                    </a:lnTo>
                    <a:lnTo>
                      <a:pt x="2090" y="4039"/>
                    </a:lnTo>
                    <a:lnTo>
                      <a:pt x="4877" y="6976"/>
                    </a:lnTo>
                    <a:lnTo>
                      <a:pt x="5574" y="9913"/>
                    </a:lnTo>
                    <a:lnTo>
                      <a:pt x="0" y="21600"/>
                    </a:lnTo>
                    <a:lnTo>
                      <a:pt x="6271" y="14257"/>
                    </a:lnTo>
                    <a:lnTo>
                      <a:pt x="9755" y="13217"/>
                    </a:lnTo>
                    <a:lnTo>
                      <a:pt x="14632" y="7710"/>
                    </a:lnTo>
                    <a:lnTo>
                      <a:pt x="16723" y="7343"/>
                    </a:lnTo>
                    <a:lnTo>
                      <a:pt x="16723" y="5507"/>
                    </a:lnTo>
                    <a:lnTo>
                      <a:pt x="21600" y="4039"/>
                    </a:lnTo>
                    <a:lnTo>
                      <a:pt x="18813" y="3671"/>
                    </a:lnTo>
                    <a:lnTo>
                      <a:pt x="4181" y="0"/>
                    </a:lnTo>
                    <a:close/>
                    <a:moveTo>
                      <a:pt x="4181"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0" name="Freeform 10"/>
              <p:cNvSpPr/>
              <p:nvPr/>
            </p:nvSpPr>
            <p:spPr>
              <a:xfrm>
                <a:off x="481032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21600" h="21600">
                    <a:moveTo>
                      <a:pt x="1029" y="0"/>
                    </a:moveTo>
                    <a:lnTo>
                      <a:pt x="686" y="1036"/>
                    </a:lnTo>
                    <a:lnTo>
                      <a:pt x="0" y="3188"/>
                    </a:lnTo>
                    <a:lnTo>
                      <a:pt x="3429" y="9644"/>
                    </a:lnTo>
                    <a:lnTo>
                      <a:pt x="17714" y="21600"/>
                    </a:lnTo>
                    <a:lnTo>
                      <a:pt x="16571" y="11079"/>
                    </a:lnTo>
                    <a:lnTo>
                      <a:pt x="21600" y="6058"/>
                    </a:lnTo>
                    <a:lnTo>
                      <a:pt x="14343" y="7492"/>
                    </a:lnTo>
                    <a:lnTo>
                      <a:pt x="5143" y="4304"/>
                    </a:lnTo>
                    <a:lnTo>
                      <a:pt x="1029" y="0"/>
                    </a:lnTo>
                    <a:close/>
                    <a:moveTo>
                      <a:pt x="1029"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1" name="Freeform 11"/>
              <p:cNvSpPr/>
              <p:nvPr/>
            </p:nvSpPr>
            <p:spPr>
              <a:xfrm>
                <a:off x="5759640" y="6137280"/>
                <a:ext cx="245880" cy="117720"/>
              </a:xfrm>
              <a:custGeom>
                <a:avLst/>
                <a:gdLst>
                  <a:gd name="textAreaLeft" fmla="*/ 0 w 245880"/>
                  <a:gd name="textAreaRight" fmla="*/ 246240 w 245880"/>
                  <a:gd name="textAreaTop" fmla="*/ 0 h 117720"/>
                  <a:gd name="textAreaBottom" fmla="*/ 118080 h 117720"/>
                </a:gdLst>
                <a:ahLst/>
                <a:rect l="textAreaLeft" t="textAreaTop" r="textAreaRight" b="textAreaBottom"/>
                <a:pathLst>
                  <a:path w="21600" h="21600">
                    <a:moveTo>
                      <a:pt x="15886" y="0"/>
                    </a:moveTo>
                    <a:lnTo>
                      <a:pt x="0" y="0"/>
                    </a:lnTo>
                    <a:lnTo>
                      <a:pt x="836" y="1964"/>
                    </a:lnTo>
                    <a:lnTo>
                      <a:pt x="836" y="5891"/>
                    </a:lnTo>
                    <a:lnTo>
                      <a:pt x="0" y="7855"/>
                    </a:lnTo>
                    <a:lnTo>
                      <a:pt x="10870" y="19636"/>
                    </a:lnTo>
                    <a:lnTo>
                      <a:pt x="13378" y="13745"/>
                    </a:lnTo>
                    <a:lnTo>
                      <a:pt x="21600" y="21600"/>
                    </a:lnTo>
                    <a:lnTo>
                      <a:pt x="17559" y="7855"/>
                    </a:lnTo>
                    <a:lnTo>
                      <a:pt x="20764" y="0"/>
                    </a:lnTo>
                    <a:lnTo>
                      <a:pt x="15886" y="0"/>
                    </a:lnTo>
                    <a:close/>
                    <a:moveTo>
                      <a:pt x="15886"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2" name="Freeform 12"/>
              <p:cNvSpPr/>
              <p:nvPr/>
            </p:nvSpPr>
            <p:spPr>
              <a:xfrm>
                <a:off x="3946680" y="6126120"/>
                <a:ext cx="66600" cy="128880"/>
              </a:xfrm>
              <a:custGeom>
                <a:avLst/>
                <a:gdLst>
                  <a:gd name="textAreaLeft" fmla="*/ 0 w 66600"/>
                  <a:gd name="textAreaRight" fmla="*/ 66960 w 66600"/>
                  <a:gd name="textAreaTop" fmla="*/ 0 h 128880"/>
                  <a:gd name="textAreaBottom" fmla="*/ 128880 h 128880"/>
                </a:gdLst>
                <a:ahLst/>
                <a:rect l="textAreaLeft" t="textAreaTop" r="textAreaRight" b="textAreaBottom"/>
                <a:pathLst>
                  <a:path w="21600" h="21600">
                    <a:moveTo>
                      <a:pt x="3086" y="10800"/>
                    </a:moveTo>
                    <a:lnTo>
                      <a:pt x="0" y="5400"/>
                    </a:lnTo>
                    <a:lnTo>
                      <a:pt x="6171" y="1800"/>
                    </a:lnTo>
                    <a:lnTo>
                      <a:pt x="0" y="1800"/>
                    </a:lnTo>
                    <a:lnTo>
                      <a:pt x="6171" y="1800"/>
                    </a:lnTo>
                    <a:lnTo>
                      <a:pt x="12343" y="1800"/>
                    </a:lnTo>
                    <a:lnTo>
                      <a:pt x="18514" y="1800"/>
                    </a:lnTo>
                    <a:lnTo>
                      <a:pt x="21600" y="0"/>
                    </a:lnTo>
                    <a:lnTo>
                      <a:pt x="15429" y="5400"/>
                    </a:lnTo>
                    <a:lnTo>
                      <a:pt x="21600" y="14400"/>
                    </a:lnTo>
                    <a:lnTo>
                      <a:pt x="6171" y="21600"/>
                    </a:lnTo>
                    <a:lnTo>
                      <a:pt x="3086" y="10800"/>
                    </a:lnTo>
                    <a:close/>
                    <a:moveTo>
                      <a:pt x="3086" y="1080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83" name="Freeform 13"/>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21600" h="21600">
                  <a:moveTo>
                    <a:pt x="21600" y="21600"/>
                  </a:moveTo>
                  <a:lnTo>
                    <a:pt x="21567" y="21600"/>
                  </a:lnTo>
                  <a:lnTo>
                    <a:pt x="20883" y="20862"/>
                  </a:lnTo>
                  <a:lnTo>
                    <a:pt x="13511" y="12501"/>
                  </a:lnTo>
                  <a:lnTo>
                    <a:pt x="11077" y="1476"/>
                  </a:lnTo>
                  <a:lnTo>
                    <a:pt x="10360" y="984"/>
                  </a:lnTo>
                  <a:lnTo>
                    <a:pt x="10230" y="2213"/>
                  </a:lnTo>
                  <a:lnTo>
                    <a:pt x="10099" y="2213"/>
                  </a:lnTo>
                  <a:lnTo>
                    <a:pt x="9942" y="1230"/>
                  </a:lnTo>
                  <a:lnTo>
                    <a:pt x="9257" y="4181"/>
                  </a:lnTo>
                  <a:lnTo>
                    <a:pt x="8736" y="5164"/>
                  </a:lnTo>
                  <a:lnTo>
                    <a:pt x="8480" y="5410"/>
                  </a:lnTo>
                  <a:lnTo>
                    <a:pt x="8122" y="4181"/>
                  </a:lnTo>
                  <a:lnTo>
                    <a:pt x="7372" y="5164"/>
                  </a:lnTo>
                  <a:lnTo>
                    <a:pt x="6981" y="984"/>
                  </a:lnTo>
                  <a:lnTo>
                    <a:pt x="6954" y="738"/>
                  </a:lnTo>
                  <a:lnTo>
                    <a:pt x="6856" y="492"/>
                  </a:lnTo>
                  <a:lnTo>
                    <a:pt x="6726" y="246"/>
                  </a:lnTo>
                  <a:lnTo>
                    <a:pt x="6628" y="0"/>
                  </a:lnTo>
                  <a:lnTo>
                    <a:pt x="6497" y="0"/>
                  </a:lnTo>
                  <a:lnTo>
                    <a:pt x="6334" y="0"/>
                  </a:lnTo>
                  <a:lnTo>
                    <a:pt x="6204" y="0"/>
                  </a:lnTo>
                  <a:lnTo>
                    <a:pt x="6171" y="0"/>
                  </a:lnTo>
                  <a:lnTo>
                    <a:pt x="6139" y="0"/>
                  </a:lnTo>
                  <a:lnTo>
                    <a:pt x="6106" y="246"/>
                  </a:lnTo>
                  <a:lnTo>
                    <a:pt x="6074" y="492"/>
                  </a:lnTo>
                  <a:lnTo>
                    <a:pt x="5976" y="738"/>
                  </a:lnTo>
                  <a:lnTo>
                    <a:pt x="5911" y="738"/>
                  </a:lnTo>
                  <a:lnTo>
                    <a:pt x="5813" y="984"/>
                  </a:lnTo>
                  <a:lnTo>
                    <a:pt x="5715" y="1230"/>
                  </a:lnTo>
                  <a:lnTo>
                    <a:pt x="5617" y="1476"/>
                  </a:lnTo>
                  <a:lnTo>
                    <a:pt x="5585" y="1721"/>
                  </a:lnTo>
                  <a:lnTo>
                    <a:pt x="5264" y="2459"/>
                  </a:lnTo>
                  <a:lnTo>
                    <a:pt x="5003" y="2951"/>
                  </a:lnTo>
                  <a:lnTo>
                    <a:pt x="4645" y="1967"/>
                  </a:lnTo>
                  <a:lnTo>
                    <a:pt x="4482" y="1967"/>
                  </a:lnTo>
                  <a:lnTo>
                    <a:pt x="4123" y="2951"/>
                  </a:lnTo>
                  <a:lnTo>
                    <a:pt x="3993" y="2951"/>
                  </a:lnTo>
                  <a:lnTo>
                    <a:pt x="3835" y="2459"/>
                  </a:lnTo>
                  <a:lnTo>
                    <a:pt x="3477" y="2459"/>
                  </a:lnTo>
                  <a:lnTo>
                    <a:pt x="2955" y="2951"/>
                  </a:lnTo>
                  <a:lnTo>
                    <a:pt x="2113" y="738"/>
                  </a:lnTo>
                  <a:lnTo>
                    <a:pt x="1755" y="2459"/>
                  </a:lnTo>
                  <a:lnTo>
                    <a:pt x="1722" y="2459"/>
                  </a:lnTo>
                  <a:lnTo>
                    <a:pt x="1657" y="2951"/>
                  </a:lnTo>
                  <a:lnTo>
                    <a:pt x="1559" y="3197"/>
                  </a:lnTo>
                  <a:lnTo>
                    <a:pt x="1429" y="3689"/>
                  </a:lnTo>
                  <a:lnTo>
                    <a:pt x="1103" y="4918"/>
                  </a:lnTo>
                  <a:lnTo>
                    <a:pt x="809" y="6148"/>
                  </a:lnTo>
                  <a:lnTo>
                    <a:pt x="424" y="6886"/>
                  </a:lnTo>
                  <a:lnTo>
                    <a:pt x="0" y="7378"/>
                  </a:lnTo>
                  <a:lnTo>
                    <a:pt x="0" y="21600"/>
                  </a:lnTo>
                  <a:lnTo>
                    <a:pt x="5487" y="21600"/>
                  </a:lnTo>
                  <a:lnTo>
                    <a:pt x="20236" y="21600"/>
                  </a:lnTo>
                  <a:lnTo>
                    <a:pt x="21600" y="21600"/>
                  </a:lnTo>
                  <a:close/>
                  <a:moveTo>
                    <a:pt x="21600" y="21600"/>
                  </a:moveTo>
                </a:path>
              </a:pathLst>
            </a:cu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184" name="Group 14"/>
          <p:cNvGrpSpPr/>
          <p:nvPr/>
        </p:nvGrpSpPr>
        <p:grpSpPr>
          <a:xfrm>
            <a:off x="627120" y="6021360"/>
            <a:ext cx="5684760" cy="849240"/>
            <a:chOff x="627120" y="6021360"/>
            <a:chExt cx="5684760" cy="849240"/>
          </a:xfrm>
        </p:grpSpPr>
        <p:sp>
          <p:nvSpPr>
            <p:cNvPr id="185" name="Freeform 15"/>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21600" h="21600">
                  <a:moveTo>
                    <a:pt x="1420" y="1806"/>
                  </a:moveTo>
                  <a:lnTo>
                    <a:pt x="0" y="4516"/>
                  </a:lnTo>
                  <a:lnTo>
                    <a:pt x="3906" y="8128"/>
                  </a:lnTo>
                  <a:lnTo>
                    <a:pt x="8462" y="13547"/>
                  </a:lnTo>
                  <a:lnTo>
                    <a:pt x="11303" y="12644"/>
                  </a:lnTo>
                  <a:lnTo>
                    <a:pt x="20180" y="21600"/>
                  </a:lnTo>
                  <a:lnTo>
                    <a:pt x="18049" y="13095"/>
                  </a:lnTo>
                  <a:lnTo>
                    <a:pt x="21600" y="9934"/>
                  </a:lnTo>
                  <a:lnTo>
                    <a:pt x="21245" y="9483"/>
                  </a:lnTo>
                  <a:lnTo>
                    <a:pt x="19825" y="8580"/>
                  </a:lnTo>
                  <a:lnTo>
                    <a:pt x="17694" y="6774"/>
                  </a:lnTo>
                  <a:lnTo>
                    <a:pt x="15209" y="5419"/>
                  </a:lnTo>
                  <a:lnTo>
                    <a:pt x="12723" y="4064"/>
                  </a:lnTo>
                  <a:lnTo>
                    <a:pt x="10238" y="2709"/>
                  </a:lnTo>
                  <a:lnTo>
                    <a:pt x="8462" y="1806"/>
                  </a:lnTo>
                  <a:lnTo>
                    <a:pt x="7752" y="1355"/>
                  </a:lnTo>
                  <a:lnTo>
                    <a:pt x="6332" y="1355"/>
                  </a:lnTo>
                  <a:lnTo>
                    <a:pt x="5622" y="1355"/>
                  </a:lnTo>
                  <a:lnTo>
                    <a:pt x="4261" y="903"/>
                  </a:lnTo>
                  <a:lnTo>
                    <a:pt x="3906" y="903"/>
                  </a:lnTo>
                  <a:lnTo>
                    <a:pt x="3196" y="452"/>
                  </a:lnTo>
                  <a:lnTo>
                    <a:pt x="2485" y="0"/>
                  </a:lnTo>
                  <a:lnTo>
                    <a:pt x="1775" y="0"/>
                  </a:lnTo>
                  <a:lnTo>
                    <a:pt x="1420" y="1806"/>
                  </a:lnTo>
                  <a:close/>
                  <a:moveTo>
                    <a:pt x="1420" y="1806"/>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6" name="Freeform 16"/>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1600" h="21600">
                  <a:moveTo>
                    <a:pt x="1976" y="779"/>
                  </a:moveTo>
                  <a:lnTo>
                    <a:pt x="1466" y="260"/>
                  </a:lnTo>
                  <a:lnTo>
                    <a:pt x="1020" y="0"/>
                  </a:lnTo>
                  <a:lnTo>
                    <a:pt x="382" y="0"/>
                  </a:lnTo>
                  <a:lnTo>
                    <a:pt x="127" y="1082"/>
                  </a:lnTo>
                  <a:lnTo>
                    <a:pt x="0" y="5541"/>
                  </a:lnTo>
                  <a:lnTo>
                    <a:pt x="637" y="4502"/>
                  </a:lnTo>
                  <a:lnTo>
                    <a:pt x="956" y="5800"/>
                  </a:lnTo>
                  <a:lnTo>
                    <a:pt x="1594" y="6623"/>
                  </a:lnTo>
                  <a:lnTo>
                    <a:pt x="2221" y="11817"/>
                  </a:lnTo>
                  <a:lnTo>
                    <a:pt x="4261" y="15540"/>
                  </a:lnTo>
                  <a:lnTo>
                    <a:pt x="8255" y="15540"/>
                  </a:lnTo>
                  <a:lnTo>
                    <a:pt x="21600" y="21600"/>
                  </a:lnTo>
                  <a:lnTo>
                    <a:pt x="21154" y="21340"/>
                  </a:lnTo>
                  <a:lnTo>
                    <a:pt x="7182" y="10519"/>
                  </a:lnTo>
                  <a:lnTo>
                    <a:pt x="5461" y="6883"/>
                  </a:lnTo>
                  <a:lnTo>
                    <a:pt x="4515" y="4762"/>
                  </a:lnTo>
                  <a:lnTo>
                    <a:pt x="3878" y="3982"/>
                  </a:lnTo>
                  <a:lnTo>
                    <a:pt x="2986" y="2640"/>
                  </a:lnTo>
                  <a:lnTo>
                    <a:pt x="1976" y="779"/>
                  </a:lnTo>
                  <a:close/>
                  <a:moveTo>
                    <a:pt x="1976" y="779"/>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7" name="Freeform 17"/>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21600" h="21600">
                  <a:moveTo>
                    <a:pt x="0" y="6480"/>
                  </a:moveTo>
                  <a:lnTo>
                    <a:pt x="1825" y="6480"/>
                  </a:lnTo>
                  <a:lnTo>
                    <a:pt x="3651" y="4320"/>
                  </a:lnTo>
                  <a:lnTo>
                    <a:pt x="1825" y="2160"/>
                  </a:lnTo>
                  <a:lnTo>
                    <a:pt x="0" y="0"/>
                  </a:lnTo>
                  <a:lnTo>
                    <a:pt x="8823" y="6480"/>
                  </a:lnTo>
                  <a:lnTo>
                    <a:pt x="16124" y="6480"/>
                  </a:lnTo>
                  <a:lnTo>
                    <a:pt x="17949" y="10800"/>
                  </a:lnTo>
                  <a:lnTo>
                    <a:pt x="19775" y="15120"/>
                  </a:lnTo>
                  <a:lnTo>
                    <a:pt x="21600" y="19440"/>
                  </a:lnTo>
                  <a:lnTo>
                    <a:pt x="21600" y="21600"/>
                  </a:lnTo>
                  <a:lnTo>
                    <a:pt x="17949" y="19440"/>
                  </a:lnTo>
                  <a:lnTo>
                    <a:pt x="14299" y="15120"/>
                  </a:lnTo>
                  <a:lnTo>
                    <a:pt x="6997" y="10800"/>
                  </a:lnTo>
                  <a:lnTo>
                    <a:pt x="6997" y="12960"/>
                  </a:lnTo>
                  <a:lnTo>
                    <a:pt x="5476" y="15120"/>
                  </a:lnTo>
                  <a:lnTo>
                    <a:pt x="3651" y="17280"/>
                  </a:lnTo>
                  <a:lnTo>
                    <a:pt x="1825" y="17280"/>
                  </a:lnTo>
                  <a:lnTo>
                    <a:pt x="1825" y="12960"/>
                  </a:lnTo>
                  <a:lnTo>
                    <a:pt x="0" y="6480"/>
                  </a:lnTo>
                  <a:close/>
                  <a:moveTo>
                    <a:pt x="0" y="648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8" name="Freeform 18"/>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21600" h="21600">
                  <a:moveTo>
                    <a:pt x="4025" y="0"/>
                  </a:moveTo>
                  <a:lnTo>
                    <a:pt x="6440" y="800"/>
                  </a:lnTo>
                  <a:lnTo>
                    <a:pt x="9660" y="800"/>
                  </a:lnTo>
                  <a:lnTo>
                    <a:pt x="15294" y="1600"/>
                  </a:lnTo>
                  <a:lnTo>
                    <a:pt x="12880" y="7200"/>
                  </a:lnTo>
                  <a:lnTo>
                    <a:pt x="12880" y="8000"/>
                  </a:lnTo>
                  <a:lnTo>
                    <a:pt x="13684" y="9600"/>
                  </a:lnTo>
                  <a:lnTo>
                    <a:pt x="14489" y="11200"/>
                  </a:lnTo>
                  <a:lnTo>
                    <a:pt x="16099" y="12800"/>
                  </a:lnTo>
                  <a:lnTo>
                    <a:pt x="19185" y="15200"/>
                  </a:lnTo>
                  <a:lnTo>
                    <a:pt x="20795" y="18400"/>
                  </a:lnTo>
                  <a:lnTo>
                    <a:pt x="21600" y="20800"/>
                  </a:lnTo>
                  <a:lnTo>
                    <a:pt x="21600" y="21600"/>
                  </a:lnTo>
                  <a:lnTo>
                    <a:pt x="12880" y="13600"/>
                  </a:lnTo>
                  <a:lnTo>
                    <a:pt x="4025" y="7200"/>
                  </a:lnTo>
                  <a:lnTo>
                    <a:pt x="0" y="0"/>
                  </a:lnTo>
                  <a:lnTo>
                    <a:pt x="4025" y="0"/>
                  </a:lnTo>
                  <a:close/>
                  <a:moveTo>
                    <a:pt x="4025"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9" name="Freeform 19"/>
            <p:cNvSpPr/>
            <p:nvPr/>
          </p:nvSpPr>
          <p:spPr>
            <a:xfrm>
              <a:off x="1120680" y="611820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21600" h="21600">
                  <a:moveTo>
                    <a:pt x="21600" y="2160"/>
                  </a:moveTo>
                  <a:lnTo>
                    <a:pt x="15010" y="10800"/>
                  </a:lnTo>
                  <a:lnTo>
                    <a:pt x="15010" y="12960"/>
                  </a:lnTo>
                  <a:lnTo>
                    <a:pt x="17207" y="15120"/>
                  </a:lnTo>
                  <a:lnTo>
                    <a:pt x="19403" y="19440"/>
                  </a:lnTo>
                  <a:lnTo>
                    <a:pt x="19403" y="21600"/>
                  </a:lnTo>
                  <a:lnTo>
                    <a:pt x="17207" y="19440"/>
                  </a:lnTo>
                  <a:lnTo>
                    <a:pt x="12814" y="17280"/>
                  </a:lnTo>
                  <a:lnTo>
                    <a:pt x="8420" y="12960"/>
                  </a:lnTo>
                  <a:lnTo>
                    <a:pt x="6224" y="10800"/>
                  </a:lnTo>
                  <a:lnTo>
                    <a:pt x="0" y="0"/>
                  </a:lnTo>
                  <a:lnTo>
                    <a:pt x="21600" y="2160"/>
                  </a:lnTo>
                  <a:close/>
                  <a:moveTo>
                    <a:pt x="21600" y="216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90" name="Freeform 20"/>
            <p:cNvSpPr/>
            <p:nvPr/>
          </p:nvSpPr>
          <p:spPr>
            <a:xfrm>
              <a:off x="627120" y="6049800"/>
              <a:ext cx="388800" cy="328680"/>
            </a:xfrm>
            <a:custGeom>
              <a:avLst/>
              <a:gdLst>
                <a:gd name="textAreaLeft" fmla="*/ 0 w 388800"/>
                <a:gd name="textAreaRight" fmla="*/ 389160 w 388800"/>
                <a:gd name="textAreaTop" fmla="*/ 0 h 328680"/>
                <a:gd name="textAreaBottom" fmla="*/ 328680 h 328680"/>
              </a:gdLst>
              <a:ahLst/>
              <a:rect l="textAreaLeft" t="textAreaTop" r="textAreaRight" b="textAreaBottom"/>
              <a:pathLst>
                <a:path w="21600" h="21600">
                  <a:moveTo>
                    <a:pt x="20542" y="3812"/>
                  </a:moveTo>
                  <a:lnTo>
                    <a:pt x="21600" y="4447"/>
                  </a:lnTo>
                  <a:lnTo>
                    <a:pt x="18426" y="8894"/>
                  </a:lnTo>
                  <a:lnTo>
                    <a:pt x="12607" y="13976"/>
                  </a:lnTo>
                  <a:lnTo>
                    <a:pt x="14723" y="16518"/>
                  </a:lnTo>
                  <a:lnTo>
                    <a:pt x="15781" y="21600"/>
                  </a:lnTo>
                  <a:lnTo>
                    <a:pt x="6789" y="13976"/>
                  </a:lnTo>
                  <a:lnTo>
                    <a:pt x="4144" y="8894"/>
                  </a:lnTo>
                  <a:lnTo>
                    <a:pt x="7847" y="6988"/>
                  </a:lnTo>
                  <a:lnTo>
                    <a:pt x="5202" y="3812"/>
                  </a:lnTo>
                  <a:lnTo>
                    <a:pt x="0" y="1271"/>
                  </a:lnTo>
                  <a:lnTo>
                    <a:pt x="0" y="0"/>
                  </a:lnTo>
                  <a:lnTo>
                    <a:pt x="529" y="0"/>
                  </a:lnTo>
                  <a:lnTo>
                    <a:pt x="1058" y="0"/>
                  </a:lnTo>
                  <a:lnTo>
                    <a:pt x="4144" y="635"/>
                  </a:lnTo>
                  <a:lnTo>
                    <a:pt x="6789" y="635"/>
                  </a:lnTo>
                  <a:lnTo>
                    <a:pt x="7318" y="635"/>
                  </a:lnTo>
                  <a:lnTo>
                    <a:pt x="7847" y="635"/>
                  </a:lnTo>
                  <a:lnTo>
                    <a:pt x="8904" y="1271"/>
                  </a:lnTo>
                  <a:lnTo>
                    <a:pt x="11020" y="1271"/>
                  </a:lnTo>
                  <a:lnTo>
                    <a:pt x="12607" y="1906"/>
                  </a:lnTo>
                  <a:lnTo>
                    <a:pt x="13136" y="1906"/>
                  </a:lnTo>
                  <a:lnTo>
                    <a:pt x="17897" y="2541"/>
                  </a:lnTo>
                  <a:lnTo>
                    <a:pt x="20542" y="3812"/>
                  </a:lnTo>
                  <a:close/>
                  <a:moveTo>
                    <a:pt x="20542" y="3812"/>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91"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SC</a:t>
            </a:r>
            <a:r>
              <a:rPr b="0" lang="ja-JP" sz="1200" spc="-1" strike="noStrike">
                <a:solidFill>
                  <a:srgbClr val="ffffff"/>
                </a:solidFill>
                <a:latin typeface="Arial"/>
              </a:rPr>
              <a:t>システム部会</a:t>
            </a:r>
            <a:endParaRPr b="0" lang="en-US" sz="1200" spc="-1" strike="noStrike">
              <a:solidFill>
                <a:srgbClr val="000000"/>
              </a:solidFill>
              <a:latin typeface="Arial"/>
            </a:endParaRPr>
          </a:p>
        </p:txBody>
      </p:sp>
      <p:sp>
        <p:nvSpPr>
          <p:cNvPr id="192" name="Text Box 22"/>
          <p:cNvSpPr/>
          <p:nvPr/>
        </p:nvSpPr>
        <p:spPr>
          <a:xfrm>
            <a:off x="7477200" y="5726160"/>
            <a:ext cx="284040" cy="2397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76BB-2C2F-426F-B9A7-7E44819B5BF1}"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93" name="コンテンツ プレースホルダ 2"/>
          <p:cNvSpPr/>
          <p:nvPr/>
        </p:nvSpPr>
        <p:spPr>
          <a:xfrm>
            <a:off x="457200" y="1676520"/>
            <a:ext cx="8686800" cy="3984480"/>
          </a:xfrm>
          <a:prstGeom prst="rect">
            <a:avLst/>
          </a:prstGeom>
          <a:noFill/>
          <a:ln w="0">
            <a:noFill/>
          </a:ln>
        </p:spPr>
        <p:style>
          <a:lnRef idx="0"/>
          <a:fillRef idx="0"/>
          <a:effectRef idx="0"/>
          <a:fontRef idx="minor"/>
        </p:style>
        <p:txBody>
          <a:bodyPr lIns="50760" rIns="90000" tIns="50760" bIns="50760" anchor="t">
            <a:noAutofit/>
          </a:bodyPr>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ja-JP" sz="3200" spc="-1" strike="noStrike">
                <a:solidFill>
                  <a:srgbClr val="ffffff"/>
                </a:solidFill>
                <a:latin typeface="Arial"/>
              </a:rPr>
              <a:t>グループ</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言語認識するためにキーワード認識をする</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機能は最低限必要。</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個人の</a:t>
            </a:r>
            <a:r>
              <a:rPr b="0" lang="en-US" sz="3200" spc="-1" strike="noStrike">
                <a:solidFill>
                  <a:srgbClr val="ffffff"/>
                </a:solidFill>
                <a:latin typeface="Arial"/>
              </a:rPr>
              <a:t>ID</a:t>
            </a:r>
            <a:r>
              <a:rPr b="0" lang="ja-JP" sz="3200" spc="-1" strike="noStrike">
                <a:solidFill>
                  <a:srgbClr val="ffffff"/>
                </a:solidFill>
                <a:latin typeface="Arial"/>
              </a:rPr>
              <a:t>情報の読み取りは必要。</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モノやジェスチャーを認識する機能は必要。</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16440"/>
            <a:ext cx="8229600" cy="22258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e3e3ff"/>
                </a:solidFill>
                <a:latin typeface="Arial"/>
              </a:rPr>
              <a:t>活動報告</a:t>
            </a:r>
            <a:endParaRPr b="0" lang="en-US" sz="5400" spc="-1" strike="noStrike">
              <a:solidFill>
                <a:srgbClr val="e3e3ff"/>
              </a:solidFill>
              <a:latin typeface="Arial"/>
            </a:endParaRPr>
          </a:p>
        </p:txBody>
      </p:sp>
      <p:sp>
        <p:nvSpPr>
          <p:cNvPr id="195"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4D1D-23EB-406C-9894-D79439D753C6}"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96" name="Freeform 4"/>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21600" h="21600">
                <a:moveTo>
                  <a:pt x="21600" y="21600"/>
                </a:moveTo>
                <a:lnTo>
                  <a:pt x="0" y="21600"/>
                </a:lnTo>
                <a:lnTo>
                  <a:pt x="0" y="0"/>
                </a:lnTo>
                <a:lnTo>
                  <a:pt x="21600" y="0"/>
                </a:lnTo>
                <a:lnTo>
                  <a:pt x="21600" y="21600"/>
                </a:lnTo>
                <a:close/>
                <a:moveTo>
                  <a:pt x="21600" y="21600"/>
                </a:moveTo>
              </a:path>
            </a:pathLst>
          </a:custGeom>
          <a:gradFill rotWithShape="0">
            <a:gsLst>
              <a:gs pos="0">
                <a:srgbClr val="003399"/>
              </a:gs>
              <a:gs pos="100000">
                <a:srgbClr val="00ffcc"/>
              </a:gs>
            </a:gsLst>
            <a:lin ang="189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197" name="Group 5"/>
          <p:cNvGrpSpPr/>
          <p:nvPr/>
        </p:nvGrpSpPr>
        <p:grpSpPr>
          <a:xfrm>
            <a:off x="0" y="6019920"/>
            <a:ext cx="7848720" cy="857160"/>
            <a:chOff x="0" y="6019920"/>
            <a:chExt cx="7848720" cy="857160"/>
          </a:xfrm>
        </p:grpSpPr>
        <p:sp>
          <p:nvSpPr>
            <p:cNvPr id="198" name="Freeform 6"/>
            <p:cNvSpPr/>
            <p:nvPr/>
          </p:nvSpPr>
          <p:spPr>
            <a:xfrm>
              <a:off x="2362320" y="6019920"/>
              <a:ext cx="5143320" cy="851040"/>
            </a:xfrm>
            <a:custGeom>
              <a:avLst/>
              <a:gdLst>
                <a:gd name="textAreaLeft" fmla="*/ 0 w 5143320"/>
                <a:gd name="textAreaRight" fmla="*/ 5143680 w 5143320"/>
                <a:gd name="textAreaTop" fmla="*/ 0 h 851040"/>
                <a:gd name="textAreaBottom" fmla="*/ 851400 h 851040"/>
              </a:gdLst>
              <a:ahLst/>
              <a:rect l="textAreaLeft" t="textAreaTop" r="textAreaRight" b="textAreaBottom"/>
              <a:pathLst>
                <a:path w="21600" h="21600">
                  <a:moveTo>
                    <a:pt x="20880" y="18900"/>
                  </a:moveTo>
                  <a:lnTo>
                    <a:pt x="19967" y="15918"/>
                  </a:lnTo>
                  <a:lnTo>
                    <a:pt x="19407" y="15112"/>
                  </a:lnTo>
                  <a:lnTo>
                    <a:pt x="17853" y="9188"/>
                  </a:lnTo>
                  <a:lnTo>
                    <a:pt x="17020" y="2982"/>
                  </a:lnTo>
                  <a:lnTo>
                    <a:pt x="16380" y="282"/>
                  </a:lnTo>
                  <a:lnTo>
                    <a:pt x="16020" y="1894"/>
                  </a:lnTo>
                  <a:lnTo>
                    <a:pt x="15260" y="2982"/>
                  </a:lnTo>
                  <a:lnTo>
                    <a:pt x="14227" y="2982"/>
                  </a:lnTo>
                  <a:lnTo>
                    <a:pt x="13627" y="5158"/>
                  </a:lnTo>
                  <a:lnTo>
                    <a:pt x="11833" y="8946"/>
                  </a:lnTo>
                  <a:lnTo>
                    <a:pt x="10680" y="7294"/>
                  </a:lnTo>
                  <a:lnTo>
                    <a:pt x="10400" y="4070"/>
                  </a:lnTo>
                  <a:lnTo>
                    <a:pt x="10280" y="3506"/>
                  </a:lnTo>
                  <a:lnTo>
                    <a:pt x="9640" y="2418"/>
                  </a:lnTo>
                  <a:lnTo>
                    <a:pt x="9167" y="2982"/>
                  </a:lnTo>
                  <a:lnTo>
                    <a:pt x="8727" y="3506"/>
                  </a:lnTo>
                  <a:lnTo>
                    <a:pt x="8287" y="524"/>
                  </a:lnTo>
                  <a:lnTo>
                    <a:pt x="8167" y="0"/>
                  </a:lnTo>
                  <a:lnTo>
                    <a:pt x="7927" y="0"/>
                  </a:lnTo>
                  <a:lnTo>
                    <a:pt x="7373" y="1370"/>
                  </a:lnTo>
                  <a:lnTo>
                    <a:pt x="7293" y="1612"/>
                  </a:lnTo>
                  <a:lnTo>
                    <a:pt x="7133" y="2176"/>
                  </a:lnTo>
                  <a:lnTo>
                    <a:pt x="6893" y="2982"/>
                  </a:lnTo>
                  <a:lnTo>
                    <a:pt x="6693" y="2982"/>
                  </a:lnTo>
                  <a:lnTo>
                    <a:pt x="6573" y="2982"/>
                  </a:lnTo>
                  <a:lnTo>
                    <a:pt x="6373" y="3264"/>
                  </a:lnTo>
                  <a:lnTo>
                    <a:pt x="6133" y="3788"/>
                  </a:lnTo>
                  <a:lnTo>
                    <a:pt x="5893" y="4312"/>
                  </a:lnTo>
                  <a:lnTo>
                    <a:pt x="5620" y="5158"/>
                  </a:lnTo>
                  <a:lnTo>
                    <a:pt x="5420" y="5682"/>
                  </a:lnTo>
                  <a:lnTo>
                    <a:pt x="5260" y="5964"/>
                  </a:lnTo>
                  <a:lnTo>
                    <a:pt x="5220" y="6206"/>
                  </a:lnTo>
                  <a:lnTo>
                    <a:pt x="3707" y="9188"/>
                  </a:lnTo>
                  <a:lnTo>
                    <a:pt x="2627" y="11848"/>
                  </a:lnTo>
                  <a:lnTo>
                    <a:pt x="713" y="18618"/>
                  </a:lnTo>
                  <a:lnTo>
                    <a:pt x="0" y="21600"/>
                  </a:lnTo>
                  <a:lnTo>
                    <a:pt x="21600" y="21600"/>
                  </a:lnTo>
                  <a:lnTo>
                    <a:pt x="20880" y="18900"/>
                  </a:lnTo>
                  <a:close/>
                  <a:moveTo>
                    <a:pt x="20880" y="18900"/>
                  </a:moveTo>
                </a:path>
              </a:pathLst>
            </a:cu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199" name="Group 7"/>
            <p:cNvGrpSpPr/>
            <p:nvPr/>
          </p:nvGrpSpPr>
          <p:grpSpPr>
            <a:xfrm>
              <a:off x="3946680" y="6019920"/>
              <a:ext cx="3902040" cy="857160"/>
              <a:chOff x="3946680" y="6019920"/>
              <a:chExt cx="3902040" cy="857160"/>
            </a:xfrm>
          </p:grpSpPr>
          <p:sp>
            <p:nvSpPr>
              <p:cNvPr id="200" name="Freeform 8"/>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21600" h="21600">
                    <a:moveTo>
                      <a:pt x="13793" y="15116"/>
                    </a:moveTo>
                    <a:lnTo>
                      <a:pt x="10735" y="14994"/>
                    </a:lnTo>
                    <a:lnTo>
                      <a:pt x="6072" y="10091"/>
                    </a:lnTo>
                    <a:lnTo>
                      <a:pt x="2754" y="2675"/>
                    </a:lnTo>
                    <a:lnTo>
                      <a:pt x="0" y="0"/>
                    </a:lnTo>
                    <a:lnTo>
                      <a:pt x="477" y="1054"/>
                    </a:lnTo>
                    <a:lnTo>
                      <a:pt x="0" y="2634"/>
                    </a:lnTo>
                    <a:lnTo>
                      <a:pt x="651" y="4823"/>
                    </a:lnTo>
                    <a:lnTo>
                      <a:pt x="1627" y="9848"/>
                    </a:lnTo>
                    <a:lnTo>
                      <a:pt x="976" y="17102"/>
                    </a:lnTo>
                    <a:lnTo>
                      <a:pt x="4337" y="13333"/>
                    </a:lnTo>
                    <a:lnTo>
                      <a:pt x="13272" y="21600"/>
                    </a:lnTo>
                    <a:lnTo>
                      <a:pt x="21600" y="21438"/>
                    </a:lnTo>
                    <a:lnTo>
                      <a:pt x="17957" y="19168"/>
                    </a:lnTo>
                    <a:lnTo>
                      <a:pt x="13793" y="15116"/>
                    </a:lnTo>
                    <a:close/>
                    <a:moveTo>
                      <a:pt x="13793" y="15116"/>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1" name="Freeform 9"/>
              <p:cNvSpPr/>
              <p:nvPr/>
            </p:nvSpPr>
            <p:spPr>
              <a:xfrm>
                <a:off x="4249800" y="6019920"/>
                <a:ext cx="295200" cy="627120"/>
              </a:xfrm>
              <a:custGeom>
                <a:avLst/>
                <a:gdLst>
                  <a:gd name="textAreaLeft" fmla="*/ 0 w 295200"/>
                  <a:gd name="textAreaRight" fmla="*/ 295200 w 295200"/>
                  <a:gd name="textAreaTop" fmla="*/ 0 h 627120"/>
                  <a:gd name="textAreaBottom" fmla="*/ 627480 h 627120"/>
                </a:gdLst>
                <a:ahLst/>
                <a:rect l="textAreaLeft" t="textAreaTop" r="textAreaRight" b="textAreaBottom"/>
                <a:pathLst>
                  <a:path w="21600" h="21600">
                    <a:moveTo>
                      <a:pt x="4181" y="0"/>
                    </a:moveTo>
                    <a:lnTo>
                      <a:pt x="6271" y="1101"/>
                    </a:lnTo>
                    <a:lnTo>
                      <a:pt x="2787" y="1836"/>
                    </a:lnTo>
                    <a:lnTo>
                      <a:pt x="2090" y="4039"/>
                    </a:lnTo>
                    <a:lnTo>
                      <a:pt x="4877" y="6976"/>
                    </a:lnTo>
                    <a:lnTo>
                      <a:pt x="5574" y="9913"/>
                    </a:lnTo>
                    <a:lnTo>
                      <a:pt x="0" y="21600"/>
                    </a:lnTo>
                    <a:lnTo>
                      <a:pt x="6271" y="14257"/>
                    </a:lnTo>
                    <a:lnTo>
                      <a:pt x="9755" y="13217"/>
                    </a:lnTo>
                    <a:lnTo>
                      <a:pt x="14632" y="7710"/>
                    </a:lnTo>
                    <a:lnTo>
                      <a:pt x="16723" y="7343"/>
                    </a:lnTo>
                    <a:lnTo>
                      <a:pt x="16723" y="5507"/>
                    </a:lnTo>
                    <a:lnTo>
                      <a:pt x="21600" y="4039"/>
                    </a:lnTo>
                    <a:lnTo>
                      <a:pt x="18813" y="3671"/>
                    </a:lnTo>
                    <a:lnTo>
                      <a:pt x="4181" y="0"/>
                    </a:lnTo>
                    <a:close/>
                    <a:moveTo>
                      <a:pt x="4181"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2" name="Freeform 10"/>
              <p:cNvSpPr/>
              <p:nvPr/>
            </p:nvSpPr>
            <p:spPr>
              <a:xfrm>
                <a:off x="481032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21600" h="21600">
                    <a:moveTo>
                      <a:pt x="1029" y="0"/>
                    </a:moveTo>
                    <a:lnTo>
                      <a:pt x="686" y="1036"/>
                    </a:lnTo>
                    <a:lnTo>
                      <a:pt x="0" y="3188"/>
                    </a:lnTo>
                    <a:lnTo>
                      <a:pt x="3429" y="9644"/>
                    </a:lnTo>
                    <a:lnTo>
                      <a:pt x="17714" y="21600"/>
                    </a:lnTo>
                    <a:lnTo>
                      <a:pt x="16571" y="11079"/>
                    </a:lnTo>
                    <a:lnTo>
                      <a:pt x="21600" y="6058"/>
                    </a:lnTo>
                    <a:lnTo>
                      <a:pt x="14343" y="7492"/>
                    </a:lnTo>
                    <a:lnTo>
                      <a:pt x="5143" y="4304"/>
                    </a:lnTo>
                    <a:lnTo>
                      <a:pt x="1029" y="0"/>
                    </a:lnTo>
                    <a:close/>
                    <a:moveTo>
                      <a:pt x="1029"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3" name="Freeform 11"/>
              <p:cNvSpPr/>
              <p:nvPr/>
            </p:nvSpPr>
            <p:spPr>
              <a:xfrm>
                <a:off x="5759640" y="6137280"/>
                <a:ext cx="245880" cy="117720"/>
              </a:xfrm>
              <a:custGeom>
                <a:avLst/>
                <a:gdLst>
                  <a:gd name="textAreaLeft" fmla="*/ 0 w 245880"/>
                  <a:gd name="textAreaRight" fmla="*/ 246240 w 245880"/>
                  <a:gd name="textAreaTop" fmla="*/ 0 h 117720"/>
                  <a:gd name="textAreaBottom" fmla="*/ 118080 h 117720"/>
                </a:gdLst>
                <a:ahLst/>
                <a:rect l="textAreaLeft" t="textAreaTop" r="textAreaRight" b="textAreaBottom"/>
                <a:pathLst>
                  <a:path w="21600" h="21600">
                    <a:moveTo>
                      <a:pt x="15886" y="0"/>
                    </a:moveTo>
                    <a:lnTo>
                      <a:pt x="0" y="0"/>
                    </a:lnTo>
                    <a:lnTo>
                      <a:pt x="836" y="1964"/>
                    </a:lnTo>
                    <a:lnTo>
                      <a:pt x="836" y="5891"/>
                    </a:lnTo>
                    <a:lnTo>
                      <a:pt x="0" y="7855"/>
                    </a:lnTo>
                    <a:lnTo>
                      <a:pt x="10870" y="19636"/>
                    </a:lnTo>
                    <a:lnTo>
                      <a:pt x="13378" y="13745"/>
                    </a:lnTo>
                    <a:lnTo>
                      <a:pt x="21600" y="21600"/>
                    </a:lnTo>
                    <a:lnTo>
                      <a:pt x="17559" y="7855"/>
                    </a:lnTo>
                    <a:lnTo>
                      <a:pt x="20764" y="0"/>
                    </a:lnTo>
                    <a:lnTo>
                      <a:pt x="15886" y="0"/>
                    </a:lnTo>
                    <a:close/>
                    <a:moveTo>
                      <a:pt x="15886"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4" name="Freeform 12"/>
              <p:cNvSpPr/>
              <p:nvPr/>
            </p:nvSpPr>
            <p:spPr>
              <a:xfrm>
                <a:off x="3946680" y="6126120"/>
                <a:ext cx="66600" cy="128880"/>
              </a:xfrm>
              <a:custGeom>
                <a:avLst/>
                <a:gdLst>
                  <a:gd name="textAreaLeft" fmla="*/ 0 w 66600"/>
                  <a:gd name="textAreaRight" fmla="*/ 66960 w 66600"/>
                  <a:gd name="textAreaTop" fmla="*/ 0 h 128880"/>
                  <a:gd name="textAreaBottom" fmla="*/ 128880 h 128880"/>
                </a:gdLst>
                <a:ahLst/>
                <a:rect l="textAreaLeft" t="textAreaTop" r="textAreaRight" b="textAreaBottom"/>
                <a:pathLst>
                  <a:path w="21600" h="21600">
                    <a:moveTo>
                      <a:pt x="3086" y="10800"/>
                    </a:moveTo>
                    <a:lnTo>
                      <a:pt x="0" y="5400"/>
                    </a:lnTo>
                    <a:lnTo>
                      <a:pt x="6171" y="1800"/>
                    </a:lnTo>
                    <a:lnTo>
                      <a:pt x="0" y="1800"/>
                    </a:lnTo>
                    <a:lnTo>
                      <a:pt x="6171" y="1800"/>
                    </a:lnTo>
                    <a:lnTo>
                      <a:pt x="12343" y="1800"/>
                    </a:lnTo>
                    <a:lnTo>
                      <a:pt x="18514" y="1800"/>
                    </a:lnTo>
                    <a:lnTo>
                      <a:pt x="21600" y="0"/>
                    </a:lnTo>
                    <a:lnTo>
                      <a:pt x="15429" y="5400"/>
                    </a:lnTo>
                    <a:lnTo>
                      <a:pt x="21600" y="14400"/>
                    </a:lnTo>
                    <a:lnTo>
                      <a:pt x="6171" y="21600"/>
                    </a:lnTo>
                    <a:lnTo>
                      <a:pt x="3086" y="10800"/>
                    </a:lnTo>
                    <a:close/>
                    <a:moveTo>
                      <a:pt x="3086" y="1080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05" name="Freeform 13"/>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21600" h="21600">
                  <a:moveTo>
                    <a:pt x="21600" y="21600"/>
                  </a:moveTo>
                  <a:lnTo>
                    <a:pt x="21567" y="21600"/>
                  </a:lnTo>
                  <a:lnTo>
                    <a:pt x="20883" y="20862"/>
                  </a:lnTo>
                  <a:lnTo>
                    <a:pt x="13511" y="12501"/>
                  </a:lnTo>
                  <a:lnTo>
                    <a:pt x="11077" y="1476"/>
                  </a:lnTo>
                  <a:lnTo>
                    <a:pt x="10360" y="984"/>
                  </a:lnTo>
                  <a:lnTo>
                    <a:pt x="10230" y="2213"/>
                  </a:lnTo>
                  <a:lnTo>
                    <a:pt x="10099" y="2213"/>
                  </a:lnTo>
                  <a:lnTo>
                    <a:pt x="9942" y="1230"/>
                  </a:lnTo>
                  <a:lnTo>
                    <a:pt x="9257" y="4181"/>
                  </a:lnTo>
                  <a:lnTo>
                    <a:pt x="8736" y="5164"/>
                  </a:lnTo>
                  <a:lnTo>
                    <a:pt x="8480" y="5410"/>
                  </a:lnTo>
                  <a:lnTo>
                    <a:pt x="8122" y="4181"/>
                  </a:lnTo>
                  <a:lnTo>
                    <a:pt x="7372" y="5164"/>
                  </a:lnTo>
                  <a:lnTo>
                    <a:pt x="6981" y="984"/>
                  </a:lnTo>
                  <a:lnTo>
                    <a:pt x="6954" y="738"/>
                  </a:lnTo>
                  <a:lnTo>
                    <a:pt x="6856" y="492"/>
                  </a:lnTo>
                  <a:lnTo>
                    <a:pt x="6726" y="246"/>
                  </a:lnTo>
                  <a:lnTo>
                    <a:pt x="6628" y="0"/>
                  </a:lnTo>
                  <a:lnTo>
                    <a:pt x="6497" y="0"/>
                  </a:lnTo>
                  <a:lnTo>
                    <a:pt x="6334" y="0"/>
                  </a:lnTo>
                  <a:lnTo>
                    <a:pt x="6204" y="0"/>
                  </a:lnTo>
                  <a:lnTo>
                    <a:pt x="6171" y="0"/>
                  </a:lnTo>
                  <a:lnTo>
                    <a:pt x="6139" y="0"/>
                  </a:lnTo>
                  <a:lnTo>
                    <a:pt x="6106" y="246"/>
                  </a:lnTo>
                  <a:lnTo>
                    <a:pt x="6074" y="492"/>
                  </a:lnTo>
                  <a:lnTo>
                    <a:pt x="5976" y="738"/>
                  </a:lnTo>
                  <a:lnTo>
                    <a:pt x="5911" y="738"/>
                  </a:lnTo>
                  <a:lnTo>
                    <a:pt x="5813" y="984"/>
                  </a:lnTo>
                  <a:lnTo>
                    <a:pt x="5715" y="1230"/>
                  </a:lnTo>
                  <a:lnTo>
                    <a:pt x="5617" y="1476"/>
                  </a:lnTo>
                  <a:lnTo>
                    <a:pt x="5585" y="1721"/>
                  </a:lnTo>
                  <a:lnTo>
                    <a:pt x="5264" y="2459"/>
                  </a:lnTo>
                  <a:lnTo>
                    <a:pt x="5003" y="2951"/>
                  </a:lnTo>
                  <a:lnTo>
                    <a:pt x="4645" y="1967"/>
                  </a:lnTo>
                  <a:lnTo>
                    <a:pt x="4482" y="1967"/>
                  </a:lnTo>
                  <a:lnTo>
                    <a:pt x="4123" y="2951"/>
                  </a:lnTo>
                  <a:lnTo>
                    <a:pt x="3993" y="2951"/>
                  </a:lnTo>
                  <a:lnTo>
                    <a:pt x="3835" y="2459"/>
                  </a:lnTo>
                  <a:lnTo>
                    <a:pt x="3477" y="2459"/>
                  </a:lnTo>
                  <a:lnTo>
                    <a:pt x="2955" y="2951"/>
                  </a:lnTo>
                  <a:lnTo>
                    <a:pt x="2113" y="738"/>
                  </a:lnTo>
                  <a:lnTo>
                    <a:pt x="1755" y="2459"/>
                  </a:lnTo>
                  <a:lnTo>
                    <a:pt x="1722" y="2459"/>
                  </a:lnTo>
                  <a:lnTo>
                    <a:pt x="1657" y="2951"/>
                  </a:lnTo>
                  <a:lnTo>
                    <a:pt x="1559" y="3197"/>
                  </a:lnTo>
                  <a:lnTo>
                    <a:pt x="1429" y="3689"/>
                  </a:lnTo>
                  <a:lnTo>
                    <a:pt x="1103" y="4918"/>
                  </a:lnTo>
                  <a:lnTo>
                    <a:pt x="809" y="6148"/>
                  </a:lnTo>
                  <a:lnTo>
                    <a:pt x="424" y="6886"/>
                  </a:lnTo>
                  <a:lnTo>
                    <a:pt x="0" y="7378"/>
                  </a:lnTo>
                  <a:lnTo>
                    <a:pt x="0" y="21600"/>
                  </a:lnTo>
                  <a:lnTo>
                    <a:pt x="5487" y="21600"/>
                  </a:lnTo>
                  <a:lnTo>
                    <a:pt x="20236" y="21600"/>
                  </a:lnTo>
                  <a:lnTo>
                    <a:pt x="21600" y="21600"/>
                  </a:lnTo>
                  <a:close/>
                  <a:moveTo>
                    <a:pt x="21600" y="21600"/>
                  </a:moveTo>
                </a:path>
              </a:pathLst>
            </a:cu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206" name="Group 14"/>
          <p:cNvGrpSpPr/>
          <p:nvPr/>
        </p:nvGrpSpPr>
        <p:grpSpPr>
          <a:xfrm>
            <a:off x="627120" y="6021360"/>
            <a:ext cx="5684760" cy="849240"/>
            <a:chOff x="627120" y="6021360"/>
            <a:chExt cx="5684760" cy="849240"/>
          </a:xfrm>
        </p:grpSpPr>
        <p:sp>
          <p:nvSpPr>
            <p:cNvPr id="207" name="Freeform 15"/>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21600" h="21600">
                  <a:moveTo>
                    <a:pt x="1420" y="1806"/>
                  </a:moveTo>
                  <a:lnTo>
                    <a:pt x="0" y="4516"/>
                  </a:lnTo>
                  <a:lnTo>
                    <a:pt x="3906" y="8128"/>
                  </a:lnTo>
                  <a:lnTo>
                    <a:pt x="8462" y="13547"/>
                  </a:lnTo>
                  <a:lnTo>
                    <a:pt x="11303" y="12644"/>
                  </a:lnTo>
                  <a:lnTo>
                    <a:pt x="20180" y="21600"/>
                  </a:lnTo>
                  <a:lnTo>
                    <a:pt x="18049" y="13095"/>
                  </a:lnTo>
                  <a:lnTo>
                    <a:pt x="21600" y="9934"/>
                  </a:lnTo>
                  <a:lnTo>
                    <a:pt x="21245" y="9483"/>
                  </a:lnTo>
                  <a:lnTo>
                    <a:pt x="19825" y="8580"/>
                  </a:lnTo>
                  <a:lnTo>
                    <a:pt x="17694" y="6774"/>
                  </a:lnTo>
                  <a:lnTo>
                    <a:pt x="15209" y="5419"/>
                  </a:lnTo>
                  <a:lnTo>
                    <a:pt x="12723" y="4064"/>
                  </a:lnTo>
                  <a:lnTo>
                    <a:pt x="10238" y="2709"/>
                  </a:lnTo>
                  <a:lnTo>
                    <a:pt x="8462" y="1806"/>
                  </a:lnTo>
                  <a:lnTo>
                    <a:pt x="7752" y="1355"/>
                  </a:lnTo>
                  <a:lnTo>
                    <a:pt x="6332" y="1355"/>
                  </a:lnTo>
                  <a:lnTo>
                    <a:pt x="5622" y="1355"/>
                  </a:lnTo>
                  <a:lnTo>
                    <a:pt x="4261" y="903"/>
                  </a:lnTo>
                  <a:lnTo>
                    <a:pt x="3906" y="903"/>
                  </a:lnTo>
                  <a:lnTo>
                    <a:pt x="3196" y="452"/>
                  </a:lnTo>
                  <a:lnTo>
                    <a:pt x="2485" y="0"/>
                  </a:lnTo>
                  <a:lnTo>
                    <a:pt x="1775" y="0"/>
                  </a:lnTo>
                  <a:lnTo>
                    <a:pt x="1420" y="1806"/>
                  </a:lnTo>
                  <a:close/>
                  <a:moveTo>
                    <a:pt x="1420" y="1806"/>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8" name="Freeform 16"/>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1600" h="21600">
                  <a:moveTo>
                    <a:pt x="1976" y="779"/>
                  </a:moveTo>
                  <a:lnTo>
                    <a:pt x="1466" y="260"/>
                  </a:lnTo>
                  <a:lnTo>
                    <a:pt x="1020" y="0"/>
                  </a:lnTo>
                  <a:lnTo>
                    <a:pt x="382" y="0"/>
                  </a:lnTo>
                  <a:lnTo>
                    <a:pt x="127" y="1082"/>
                  </a:lnTo>
                  <a:lnTo>
                    <a:pt x="0" y="5541"/>
                  </a:lnTo>
                  <a:lnTo>
                    <a:pt x="637" y="4502"/>
                  </a:lnTo>
                  <a:lnTo>
                    <a:pt x="956" y="5800"/>
                  </a:lnTo>
                  <a:lnTo>
                    <a:pt x="1594" y="6623"/>
                  </a:lnTo>
                  <a:lnTo>
                    <a:pt x="2221" y="11817"/>
                  </a:lnTo>
                  <a:lnTo>
                    <a:pt x="4261" y="15540"/>
                  </a:lnTo>
                  <a:lnTo>
                    <a:pt x="8255" y="15540"/>
                  </a:lnTo>
                  <a:lnTo>
                    <a:pt x="21600" y="21600"/>
                  </a:lnTo>
                  <a:lnTo>
                    <a:pt x="21154" y="21340"/>
                  </a:lnTo>
                  <a:lnTo>
                    <a:pt x="7182" y="10519"/>
                  </a:lnTo>
                  <a:lnTo>
                    <a:pt x="5461" y="6883"/>
                  </a:lnTo>
                  <a:lnTo>
                    <a:pt x="4515" y="4762"/>
                  </a:lnTo>
                  <a:lnTo>
                    <a:pt x="3878" y="3982"/>
                  </a:lnTo>
                  <a:lnTo>
                    <a:pt x="2986" y="2640"/>
                  </a:lnTo>
                  <a:lnTo>
                    <a:pt x="1976" y="779"/>
                  </a:lnTo>
                  <a:close/>
                  <a:moveTo>
                    <a:pt x="1976" y="779"/>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9" name="Freeform 17"/>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21600" h="21600">
                  <a:moveTo>
                    <a:pt x="0" y="6480"/>
                  </a:moveTo>
                  <a:lnTo>
                    <a:pt x="1825" y="6480"/>
                  </a:lnTo>
                  <a:lnTo>
                    <a:pt x="3651" y="4320"/>
                  </a:lnTo>
                  <a:lnTo>
                    <a:pt x="1825" y="2160"/>
                  </a:lnTo>
                  <a:lnTo>
                    <a:pt x="0" y="0"/>
                  </a:lnTo>
                  <a:lnTo>
                    <a:pt x="8823" y="6480"/>
                  </a:lnTo>
                  <a:lnTo>
                    <a:pt x="16124" y="6480"/>
                  </a:lnTo>
                  <a:lnTo>
                    <a:pt x="17949" y="10800"/>
                  </a:lnTo>
                  <a:lnTo>
                    <a:pt x="19775" y="15120"/>
                  </a:lnTo>
                  <a:lnTo>
                    <a:pt x="21600" y="19440"/>
                  </a:lnTo>
                  <a:lnTo>
                    <a:pt x="21600" y="21600"/>
                  </a:lnTo>
                  <a:lnTo>
                    <a:pt x="17949" y="19440"/>
                  </a:lnTo>
                  <a:lnTo>
                    <a:pt x="14299" y="15120"/>
                  </a:lnTo>
                  <a:lnTo>
                    <a:pt x="6997" y="10800"/>
                  </a:lnTo>
                  <a:lnTo>
                    <a:pt x="6997" y="12960"/>
                  </a:lnTo>
                  <a:lnTo>
                    <a:pt x="5476" y="15120"/>
                  </a:lnTo>
                  <a:lnTo>
                    <a:pt x="3651" y="17280"/>
                  </a:lnTo>
                  <a:lnTo>
                    <a:pt x="1825" y="17280"/>
                  </a:lnTo>
                  <a:lnTo>
                    <a:pt x="1825" y="12960"/>
                  </a:lnTo>
                  <a:lnTo>
                    <a:pt x="0" y="6480"/>
                  </a:lnTo>
                  <a:close/>
                  <a:moveTo>
                    <a:pt x="0" y="648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0" name="Freeform 18"/>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21600" h="21600">
                  <a:moveTo>
                    <a:pt x="4025" y="0"/>
                  </a:moveTo>
                  <a:lnTo>
                    <a:pt x="6440" y="800"/>
                  </a:lnTo>
                  <a:lnTo>
                    <a:pt x="9660" y="800"/>
                  </a:lnTo>
                  <a:lnTo>
                    <a:pt x="15294" y="1600"/>
                  </a:lnTo>
                  <a:lnTo>
                    <a:pt x="12880" y="7200"/>
                  </a:lnTo>
                  <a:lnTo>
                    <a:pt x="12880" y="8000"/>
                  </a:lnTo>
                  <a:lnTo>
                    <a:pt x="13684" y="9600"/>
                  </a:lnTo>
                  <a:lnTo>
                    <a:pt x="14489" y="11200"/>
                  </a:lnTo>
                  <a:lnTo>
                    <a:pt x="16099" y="12800"/>
                  </a:lnTo>
                  <a:lnTo>
                    <a:pt x="19185" y="15200"/>
                  </a:lnTo>
                  <a:lnTo>
                    <a:pt x="20795" y="18400"/>
                  </a:lnTo>
                  <a:lnTo>
                    <a:pt x="21600" y="20800"/>
                  </a:lnTo>
                  <a:lnTo>
                    <a:pt x="21600" y="21600"/>
                  </a:lnTo>
                  <a:lnTo>
                    <a:pt x="12880" y="13600"/>
                  </a:lnTo>
                  <a:lnTo>
                    <a:pt x="4025" y="7200"/>
                  </a:lnTo>
                  <a:lnTo>
                    <a:pt x="0" y="0"/>
                  </a:lnTo>
                  <a:lnTo>
                    <a:pt x="4025" y="0"/>
                  </a:lnTo>
                  <a:close/>
                  <a:moveTo>
                    <a:pt x="4025"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1" name="Freeform 19"/>
            <p:cNvSpPr/>
            <p:nvPr/>
          </p:nvSpPr>
          <p:spPr>
            <a:xfrm>
              <a:off x="1120680" y="611820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21600" h="21600">
                  <a:moveTo>
                    <a:pt x="21600" y="2160"/>
                  </a:moveTo>
                  <a:lnTo>
                    <a:pt x="15010" y="10800"/>
                  </a:lnTo>
                  <a:lnTo>
                    <a:pt x="15010" y="12960"/>
                  </a:lnTo>
                  <a:lnTo>
                    <a:pt x="17207" y="15120"/>
                  </a:lnTo>
                  <a:lnTo>
                    <a:pt x="19403" y="19440"/>
                  </a:lnTo>
                  <a:lnTo>
                    <a:pt x="19403" y="21600"/>
                  </a:lnTo>
                  <a:lnTo>
                    <a:pt x="17207" y="19440"/>
                  </a:lnTo>
                  <a:lnTo>
                    <a:pt x="12814" y="17280"/>
                  </a:lnTo>
                  <a:lnTo>
                    <a:pt x="8420" y="12960"/>
                  </a:lnTo>
                  <a:lnTo>
                    <a:pt x="6224" y="10800"/>
                  </a:lnTo>
                  <a:lnTo>
                    <a:pt x="0" y="0"/>
                  </a:lnTo>
                  <a:lnTo>
                    <a:pt x="21600" y="2160"/>
                  </a:lnTo>
                  <a:close/>
                  <a:moveTo>
                    <a:pt x="21600" y="216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2" name="Freeform 20"/>
            <p:cNvSpPr/>
            <p:nvPr/>
          </p:nvSpPr>
          <p:spPr>
            <a:xfrm>
              <a:off x="627120" y="6049800"/>
              <a:ext cx="388800" cy="328680"/>
            </a:xfrm>
            <a:custGeom>
              <a:avLst/>
              <a:gdLst>
                <a:gd name="textAreaLeft" fmla="*/ 0 w 388800"/>
                <a:gd name="textAreaRight" fmla="*/ 389160 w 388800"/>
                <a:gd name="textAreaTop" fmla="*/ 0 h 328680"/>
                <a:gd name="textAreaBottom" fmla="*/ 328680 h 328680"/>
              </a:gdLst>
              <a:ahLst/>
              <a:rect l="textAreaLeft" t="textAreaTop" r="textAreaRight" b="textAreaBottom"/>
              <a:pathLst>
                <a:path w="21600" h="21600">
                  <a:moveTo>
                    <a:pt x="20542" y="3812"/>
                  </a:moveTo>
                  <a:lnTo>
                    <a:pt x="21600" y="4447"/>
                  </a:lnTo>
                  <a:lnTo>
                    <a:pt x="18426" y="8894"/>
                  </a:lnTo>
                  <a:lnTo>
                    <a:pt x="12607" y="13976"/>
                  </a:lnTo>
                  <a:lnTo>
                    <a:pt x="14723" y="16518"/>
                  </a:lnTo>
                  <a:lnTo>
                    <a:pt x="15781" y="21600"/>
                  </a:lnTo>
                  <a:lnTo>
                    <a:pt x="6789" y="13976"/>
                  </a:lnTo>
                  <a:lnTo>
                    <a:pt x="4144" y="8894"/>
                  </a:lnTo>
                  <a:lnTo>
                    <a:pt x="7847" y="6988"/>
                  </a:lnTo>
                  <a:lnTo>
                    <a:pt x="5202" y="3812"/>
                  </a:lnTo>
                  <a:lnTo>
                    <a:pt x="0" y="1271"/>
                  </a:lnTo>
                  <a:lnTo>
                    <a:pt x="0" y="0"/>
                  </a:lnTo>
                  <a:lnTo>
                    <a:pt x="529" y="0"/>
                  </a:lnTo>
                  <a:lnTo>
                    <a:pt x="1058" y="0"/>
                  </a:lnTo>
                  <a:lnTo>
                    <a:pt x="4144" y="635"/>
                  </a:lnTo>
                  <a:lnTo>
                    <a:pt x="6789" y="635"/>
                  </a:lnTo>
                  <a:lnTo>
                    <a:pt x="7318" y="635"/>
                  </a:lnTo>
                  <a:lnTo>
                    <a:pt x="7847" y="635"/>
                  </a:lnTo>
                  <a:lnTo>
                    <a:pt x="8904" y="1271"/>
                  </a:lnTo>
                  <a:lnTo>
                    <a:pt x="11020" y="1271"/>
                  </a:lnTo>
                  <a:lnTo>
                    <a:pt x="12607" y="1906"/>
                  </a:lnTo>
                  <a:lnTo>
                    <a:pt x="13136" y="1906"/>
                  </a:lnTo>
                  <a:lnTo>
                    <a:pt x="17897" y="2541"/>
                  </a:lnTo>
                  <a:lnTo>
                    <a:pt x="20542" y="3812"/>
                  </a:lnTo>
                  <a:close/>
                  <a:moveTo>
                    <a:pt x="20542" y="3812"/>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13"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SC</a:t>
            </a:r>
            <a:r>
              <a:rPr b="0" lang="ja-JP" sz="1200" spc="-1" strike="noStrike">
                <a:solidFill>
                  <a:srgbClr val="ffffff"/>
                </a:solidFill>
                <a:latin typeface="Arial"/>
              </a:rPr>
              <a:t>システム部会</a:t>
            </a:r>
            <a:endParaRPr b="0" lang="en-US" sz="1200" spc="-1" strike="noStrike">
              <a:solidFill>
                <a:srgbClr val="000000"/>
              </a:solidFill>
              <a:latin typeface="Arial"/>
            </a:endParaRPr>
          </a:p>
        </p:txBody>
      </p:sp>
      <p:sp>
        <p:nvSpPr>
          <p:cNvPr id="214" name="Text Box 22"/>
          <p:cNvSpPr/>
          <p:nvPr/>
        </p:nvSpPr>
        <p:spPr>
          <a:xfrm>
            <a:off x="7477200" y="5726160"/>
            <a:ext cx="284040" cy="2397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77E81-ABB9-4107-B49E-6DC9EB9AFC3A}"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15" name="コンテンツ プレースホルダ 2"/>
          <p:cNvSpPr/>
          <p:nvPr/>
        </p:nvSpPr>
        <p:spPr>
          <a:xfrm>
            <a:off x="457200" y="1676520"/>
            <a:ext cx="8839080" cy="4416480"/>
          </a:xfrm>
          <a:prstGeom prst="rect">
            <a:avLst/>
          </a:prstGeom>
          <a:noFill/>
          <a:ln w="0">
            <a:noFill/>
          </a:ln>
        </p:spPr>
        <p:style>
          <a:lnRef idx="0"/>
          <a:fillRef idx="0"/>
          <a:effectRef idx="0"/>
          <a:fontRef idx="minor"/>
        </p:style>
        <p:txBody>
          <a:bodyPr lIns="50760" rIns="90000" tIns="50760" bIns="50760" anchor="t">
            <a:noAutofit/>
          </a:bodyPr>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r>
              <a:rPr b="0" lang="ja-JP" sz="3200" spc="-1" strike="noStrike">
                <a:solidFill>
                  <a:srgbClr val="ffffff"/>
                </a:solidFill>
                <a:latin typeface="Arial"/>
              </a:rPr>
              <a:t>グループ</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身長で、子供、大人を認識し、身長に応じた</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音声の変化も要求できる（センシング技術）</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その土地の名所等の情報を配信してくれる</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ようにカスタマイズしてくれる機能が欲しい</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角丸四角形 63"/>
          <p:cNvSpPr/>
          <p:nvPr/>
        </p:nvSpPr>
        <p:spPr>
          <a:xfrm>
            <a:off x="539640" y="5013360"/>
            <a:ext cx="2737080" cy="936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46040" y="-525960"/>
            <a:ext cx="8229600" cy="22258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e3e3ff"/>
                </a:solidFill>
                <a:latin typeface="Arial"/>
              </a:rPr>
              <a:t>今後の予定</a:t>
            </a:r>
            <a:endParaRPr b="0" lang="en-US" sz="4800" spc="-1" strike="noStrike">
              <a:solidFill>
                <a:srgbClr val="e3e3ff"/>
              </a:solidFill>
              <a:latin typeface="Arial"/>
            </a:endParaRPr>
          </a:p>
        </p:txBody>
      </p:sp>
      <p:sp>
        <p:nvSpPr>
          <p:cNvPr id="218"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67CC-62C0-4122-9B2D-DAF59CF81AEB}"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19" name="Freeform 4"/>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21600" h="21600">
                <a:moveTo>
                  <a:pt x="21600" y="21600"/>
                </a:moveTo>
                <a:lnTo>
                  <a:pt x="0" y="21600"/>
                </a:lnTo>
                <a:lnTo>
                  <a:pt x="0" y="0"/>
                </a:lnTo>
                <a:lnTo>
                  <a:pt x="21600" y="0"/>
                </a:lnTo>
                <a:lnTo>
                  <a:pt x="21600" y="21600"/>
                </a:lnTo>
                <a:close/>
                <a:moveTo>
                  <a:pt x="21600" y="21600"/>
                </a:moveTo>
              </a:path>
            </a:pathLst>
          </a:custGeom>
          <a:gradFill rotWithShape="0">
            <a:gsLst>
              <a:gs pos="0">
                <a:srgbClr val="003399"/>
              </a:gs>
              <a:gs pos="100000">
                <a:srgbClr val="00ffcc"/>
              </a:gs>
            </a:gsLst>
            <a:lin ang="189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220" name="Group 5"/>
          <p:cNvGrpSpPr/>
          <p:nvPr/>
        </p:nvGrpSpPr>
        <p:grpSpPr>
          <a:xfrm>
            <a:off x="0" y="6019920"/>
            <a:ext cx="7848720" cy="857160"/>
            <a:chOff x="0" y="6019920"/>
            <a:chExt cx="7848720" cy="857160"/>
          </a:xfrm>
        </p:grpSpPr>
        <p:sp>
          <p:nvSpPr>
            <p:cNvPr id="221" name="Freeform 6"/>
            <p:cNvSpPr/>
            <p:nvPr/>
          </p:nvSpPr>
          <p:spPr>
            <a:xfrm>
              <a:off x="2362320" y="6019920"/>
              <a:ext cx="5143320" cy="851040"/>
            </a:xfrm>
            <a:custGeom>
              <a:avLst/>
              <a:gdLst>
                <a:gd name="textAreaLeft" fmla="*/ 0 w 5143320"/>
                <a:gd name="textAreaRight" fmla="*/ 5143680 w 5143320"/>
                <a:gd name="textAreaTop" fmla="*/ 0 h 851040"/>
                <a:gd name="textAreaBottom" fmla="*/ 851400 h 851040"/>
              </a:gdLst>
              <a:ahLst/>
              <a:rect l="textAreaLeft" t="textAreaTop" r="textAreaRight" b="textAreaBottom"/>
              <a:pathLst>
                <a:path w="21600" h="21600">
                  <a:moveTo>
                    <a:pt x="20880" y="18900"/>
                  </a:moveTo>
                  <a:lnTo>
                    <a:pt x="19967" y="15918"/>
                  </a:lnTo>
                  <a:lnTo>
                    <a:pt x="19407" y="15112"/>
                  </a:lnTo>
                  <a:lnTo>
                    <a:pt x="17853" y="9188"/>
                  </a:lnTo>
                  <a:lnTo>
                    <a:pt x="17020" y="2982"/>
                  </a:lnTo>
                  <a:lnTo>
                    <a:pt x="16380" y="282"/>
                  </a:lnTo>
                  <a:lnTo>
                    <a:pt x="16020" y="1894"/>
                  </a:lnTo>
                  <a:lnTo>
                    <a:pt x="15260" y="2982"/>
                  </a:lnTo>
                  <a:lnTo>
                    <a:pt x="14227" y="2982"/>
                  </a:lnTo>
                  <a:lnTo>
                    <a:pt x="13627" y="5158"/>
                  </a:lnTo>
                  <a:lnTo>
                    <a:pt x="11833" y="8946"/>
                  </a:lnTo>
                  <a:lnTo>
                    <a:pt x="10680" y="7294"/>
                  </a:lnTo>
                  <a:lnTo>
                    <a:pt x="10400" y="4070"/>
                  </a:lnTo>
                  <a:lnTo>
                    <a:pt x="10280" y="3506"/>
                  </a:lnTo>
                  <a:lnTo>
                    <a:pt x="9640" y="2418"/>
                  </a:lnTo>
                  <a:lnTo>
                    <a:pt x="9167" y="2982"/>
                  </a:lnTo>
                  <a:lnTo>
                    <a:pt x="8727" y="3506"/>
                  </a:lnTo>
                  <a:lnTo>
                    <a:pt x="8287" y="524"/>
                  </a:lnTo>
                  <a:lnTo>
                    <a:pt x="8167" y="0"/>
                  </a:lnTo>
                  <a:lnTo>
                    <a:pt x="7927" y="0"/>
                  </a:lnTo>
                  <a:lnTo>
                    <a:pt x="7373" y="1370"/>
                  </a:lnTo>
                  <a:lnTo>
                    <a:pt x="7293" y="1612"/>
                  </a:lnTo>
                  <a:lnTo>
                    <a:pt x="7133" y="2176"/>
                  </a:lnTo>
                  <a:lnTo>
                    <a:pt x="6893" y="2982"/>
                  </a:lnTo>
                  <a:lnTo>
                    <a:pt x="6693" y="2982"/>
                  </a:lnTo>
                  <a:lnTo>
                    <a:pt x="6573" y="2982"/>
                  </a:lnTo>
                  <a:lnTo>
                    <a:pt x="6373" y="3264"/>
                  </a:lnTo>
                  <a:lnTo>
                    <a:pt x="6133" y="3788"/>
                  </a:lnTo>
                  <a:lnTo>
                    <a:pt x="5893" y="4312"/>
                  </a:lnTo>
                  <a:lnTo>
                    <a:pt x="5620" y="5158"/>
                  </a:lnTo>
                  <a:lnTo>
                    <a:pt x="5420" y="5682"/>
                  </a:lnTo>
                  <a:lnTo>
                    <a:pt x="5260" y="5964"/>
                  </a:lnTo>
                  <a:lnTo>
                    <a:pt x="5220" y="6206"/>
                  </a:lnTo>
                  <a:lnTo>
                    <a:pt x="3707" y="9188"/>
                  </a:lnTo>
                  <a:lnTo>
                    <a:pt x="2627" y="11848"/>
                  </a:lnTo>
                  <a:lnTo>
                    <a:pt x="713" y="18618"/>
                  </a:lnTo>
                  <a:lnTo>
                    <a:pt x="0" y="21600"/>
                  </a:lnTo>
                  <a:lnTo>
                    <a:pt x="21600" y="21600"/>
                  </a:lnTo>
                  <a:lnTo>
                    <a:pt x="20880" y="18900"/>
                  </a:lnTo>
                  <a:close/>
                  <a:moveTo>
                    <a:pt x="20880" y="18900"/>
                  </a:moveTo>
                </a:path>
              </a:pathLst>
            </a:cu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222" name="Group 7"/>
            <p:cNvGrpSpPr/>
            <p:nvPr/>
          </p:nvGrpSpPr>
          <p:grpSpPr>
            <a:xfrm>
              <a:off x="3946680" y="6019920"/>
              <a:ext cx="3902040" cy="857160"/>
              <a:chOff x="3946680" y="6019920"/>
              <a:chExt cx="3902040" cy="857160"/>
            </a:xfrm>
          </p:grpSpPr>
          <p:sp>
            <p:nvSpPr>
              <p:cNvPr id="223" name="Freeform 8"/>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21600" h="21600">
                    <a:moveTo>
                      <a:pt x="13793" y="15116"/>
                    </a:moveTo>
                    <a:lnTo>
                      <a:pt x="10735" y="14994"/>
                    </a:lnTo>
                    <a:lnTo>
                      <a:pt x="6072" y="10091"/>
                    </a:lnTo>
                    <a:lnTo>
                      <a:pt x="2754" y="2675"/>
                    </a:lnTo>
                    <a:lnTo>
                      <a:pt x="0" y="0"/>
                    </a:lnTo>
                    <a:lnTo>
                      <a:pt x="477" y="1054"/>
                    </a:lnTo>
                    <a:lnTo>
                      <a:pt x="0" y="2634"/>
                    </a:lnTo>
                    <a:lnTo>
                      <a:pt x="651" y="4823"/>
                    </a:lnTo>
                    <a:lnTo>
                      <a:pt x="1627" y="9848"/>
                    </a:lnTo>
                    <a:lnTo>
                      <a:pt x="976" y="17102"/>
                    </a:lnTo>
                    <a:lnTo>
                      <a:pt x="4337" y="13333"/>
                    </a:lnTo>
                    <a:lnTo>
                      <a:pt x="13272" y="21600"/>
                    </a:lnTo>
                    <a:lnTo>
                      <a:pt x="21600" y="21438"/>
                    </a:lnTo>
                    <a:lnTo>
                      <a:pt x="17957" y="19168"/>
                    </a:lnTo>
                    <a:lnTo>
                      <a:pt x="13793" y="15116"/>
                    </a:lnTo>
                    <a:close/>
                    <a:moveTo>
                      <a:pt x="13793" y="15116"/>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4" name="Freeform 9"/>
              <p:cNvSpPr/>
              <p:nvPr/>
            </p:nvSpPr>
            <p:spPr>
              <a:xfrm>
                <a:off x="4249800" y="6019920"/>
                <a:ext cx="295200" cy="627120"/>
              </a:xfrm>
              <a:custGeom>
                <a:avLst/>
                <a:gdLst>
                  <a:gd name="textAreaLeft" fmla="*/ 0 w 295200"/>
                  <a:gd name="textAreaRight" fmla="*/ 295200 w 295200"/>
                  <a:gd name="textAreaTop" fmla="*/ 0 h 627120"/>
                  <a:gd name="textAreaBottom" fmla="*/ 627480 h 627120"/>
                </a:gdLst>
                <a:ahLst/>
                <a:rect l="textAreaLeft" t="textAreaTop" r="textAreaRight" b="textAreaBottom"/>
                <a:pathLst>
                  <a:path w="21600" h="21600">
                    <a:moveTo>
                      <a:pt x="4181" y="0"/>
                    </a:moveTo>
                    <a:lnTo>
                      <a:pt x="6271" y="1101"/>
                    </a:lnTo>
                    <a:lnTo>
                      <a:pt x="2787" y="1836"/>
                    </a:lnTo>
                    <a:lnTo>
                      <a:pt x="2090" y="4039"/>
                    </a:lnTo>
                    <a:lnTo>
                      <a:pt x="4877" y="6976"/>
                    </a:lnTo>
                    <a:lnTo>
                      <a:pt x="5574" y="9913"/>
                    </a:lnTo>
                    <a:lnTo>
                      <a:pt x="0" y="21600"/>
                    </a:lnTo>
                    <a:lnTo>
                      <a:pt x="6271" y="14257"/>
                    </a:lnTo>
                    <a:lnTo>
                      <a:pt x="9755" y="13217"/>
                    </a:lnTo>
                    <a:lnTo>
                      <a:pt x="14632" y="7710"/>
                    </a:lnTo>
                    <a:lnTo>
                      <a:pt x="16723" y="7343"/>
                    </a:lnTo>
                    <a:lnTo>
                      <a:pt x="16723" y="5507"/>
                    </a:lnTo>
                    <a:lnTo>
                      <a:pt x="21600" y="4039"/>
                    </a:lnTo>
                    <a:lnTo>
                      <a:pt x="18813" y="3671"/>
                    </a:lnTo>
                    <a:lnTo>
                      <a:pt x="4181" y="0"/>
                    </a:lnTo>
                    <a:close/>
                    <a:moveTo>
                      <a:pt x="4181"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10"/>
              <p:cNvSpPr/>
              <p:nvPr/>
            </p:nvSpPr>
            <p:spPr>
              <a:xfrm>
                <a:off x="481032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21600" h="21600">
                    <a:moveTo>
                      <a:pt x="1029" y="0"/>
                    </a:moveTo>
                    <a:lnTo>
                      <a:pt x="686" y="1036"/>
                    </a:lnTo>
                    <a:lnTo>
                      <a:pt x="0" y="3188"/>
                    </a:lnTo>
                    <a:lnTo>
                      <a:pt x="3429" y="9644"/>
                    </a:lnTo>
                    <a:lnTo>
                      <a:pt x="17714" y="21600"/>
                    </a:lnTo>
                    <a:lnTo>
                      <a:pt x="16571" y="11079"/>
                    </a:lnTo>
                    <a:lnTo>
                      <a:pt x="21600" y="6058"/>
                    </a:lnTo>
                    <a:lnTo>
                      <a:pt x="14343" y="7492"/>
                    </a:lnTo>
                    <a:lnTo>
                      <a:pt x="5143" y="4304"/>
                    </a:lnTo>
                    <a:lnTo>
                      <a:pt x="1029" y="0"/>
                    </a:lnTo>
                    <a:close/>
                    <a:moveTo>
                      <a:pt x="1029"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11"/>
              <p:cNvSpPr/>
              <p:nvPr/>
            </p:nvSpPr>
            <p:spPr>
              <a:xfrm>
                <a:off x="5759640" y="6137280"/>
                <a:ext cx="245880" cy="117720"/>
              </a:xfrm>
              <a:custGeom>
                <a:avLst/>
                <a:gdLst>
                  <a:gd name="textAreaLeft" fmla="*/ 0 w 245880"/>
                  <a:gd name="textAreaRight" fmla="*/ 246240 w 245880"/>
                  <a:gd name="textAreaTop" fmla="*/ 0 h 117720"/>
                  <a:gd name="textAreaBottom" fmla="*/ 118080 h 117720"/>
                </a:gdLst>
                <a:ahLst/>
                <a:rect l="textAreaLeft" t="textAreaTop" r="textAreaRight" b="textAreaBottom"/>
                <a:pathLst>
                  <a:path w="21600" h="21600">
                    <a:moveTo>
                      <a:pt x="15886" y="0"/>
                    </a:moveTo>
                    <a:lnTo>
                      <a:pt x="0" y="0"/>
                    </a:lnTo>
                    <a:lnTo>
                      <a:pt x="836" y="1964"/>
                    </a:lnTo>
                    <a:lnTo>
                      <a:pt x="836" y="5891"/>
                    </a:lnTo>
                    <a:lnTo>
                      <a:pt x="0" y="7855"/>
                    </a:lnTo>
                    <a:lnTo>
                      <a:pt x="10870" y="19636"/>
                    </a:lnTo>
                    <a:lnTo>
                      <a:pt x="13378" y="13745"/>
                    </a:lnTo>
                    <a:lnTo>
                      <a:pt x="21600" y="21600"/>
                    </a:lnTo>
                    <a:lnTo>
                      <a:pt x="17559" y="7855"/>
                    </a:lnTo>
                    <a:lnTo>
                      <a:pt x="20764" y="0"/>
                    </a:lnTo>
                    <a:lnTo>
                      <a:pt x="15886" y="0"/>
                    </a:lnTo>
                    <a:close/>
                    <a:moveTo>
                      <a:pt x="15886"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12"/>
              <p:cNvSpPr/>
              <p:nvPr/>
            </p:nvSpPr>
            <p:spPr>
              <a:xfrm>
                <a:off x="3946680" y="6126120"/>
                <a:ext cx="66600" cy="128880"/>
              </a:xfrm>
              <a:custGeom>
                <a:avLst/>
                <a:gdLst>
                  <a:gd name="textAreaLeft" fmla="*/ 0 w 66600"/>
                  <a:gd name="textAreaRight" fmla="*/ 66960 w 66600"/>
                  <a:gd name="textAreaTop" fmla="*/ 0 h 128880"/>
                  <a:gd name="textAreaBottom" fmla="*/ 128880 h 128880"/>
                </a:gdLst>
                <a:ahLst/>
                <a:rect l="textAreaLeft" t="textAreaTop" r="textAreaRight" b="textAreaBottom"/>
                <a:pathLst>
                  <a:path w="21600" h="21600">
                    <a:moveTo>
                      <a:pt x="3086" y="10800"/>
                    </a:moveTo>
                    <a:lnTo>
                      <a:pt x="0" y="5400"/>
                    </a:lnTo>
                    <a:lnTo>
                      <a:pt x="6171" y="1800"/>
                    </a:lnTo>
                    <a:lnTo>
                      <a:pt x="0" y="1800"/>
                    </a:lnTo>
                    <a:lnTo>
                      <a:pt x="6171" y="1800"/>
                    </a:lnTo>
                    <a:lnTo>
                      <a:pt x="12343" y="1800"/>
                    </a:lnTo>
                    <a:lnTo>
                      <a:pt x="18514" y="1800"/>
                    </a:lnTo>
                    <a:lnTo>
                      <a:pt x="21600" y="0"/>
                    </a:lnTo>
                    <a:lnTo>
                      <a:pt x="15429" y="5400"/>
                    </a:lnTo>
                    <a:lnTo>
                      <a:pt x="21600" y="14400"/>
                    </a:lnTo>
                    <a:lnTo>
                      <a:pt x="6171" y="21600"/>
                    </a:lnTo>
                    <a:lnTo>
                      <a:pt x="3086" y="10800"/>
                    </a:lnTo>
                    <a:close/>
                    <a:moveTo>
                      <a:pt x="3086" y="1080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28" name="Freeform 13"/>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21600" h="21600">
                  <a:moveTo>
                    <a:pt x="21600" y="21600"/>
                  </a:moveTo>
                  <a:lnTo>
                    <a:pt x="21567" y="21600"/>
                  </a:lnTo>
                  <a:lnTo>
                    <a:pt x="20883" y="20862"/>
                  </a:lnTo>
                  <a:lnTo>
                    <a:pt x="13511" y="12501"/>
                  </a:lnTo>
                  <a:lnTo>
                    <a:pt x="11077" y="1476"/>
                  </a:lnTo>
                  <a:lnTo>
                    <a:pt x="10360" y="984"/>
                  </a:lnTo>
                  <a:lnTo>
                    <a:pt x="10230" y="2213"/>
                  </a:lnTo>
                  <a:lnTo>
                    <a:pt x="10099" y="2213"/>
                  </a:lnTo>
                  <a:lnTo>
                    <a:pt x="9942" y="1230"/>
                  </a:lnTo>
                  <a:lnTo>
                    <a:pt x="9257" y="4181"/>
                  </a:lnTo>
                  <a:lnTo>
                    <a:pt x="8736" y="5164"/>
                  </a:lnTo>
                  <a:lnTo>
                    <a:pt x="8480" y="5410"/>
                  </a:lnTo>
                  <a:lnTo>
                    <a:pt x="8122" y="4181"/>
                  </a:lnTo>
                  <a:lnTo>
                    <a:pt x="7372" y="5164"/>
                  </a:lnTo>
                  <a:lnTo>
                    <a:pt x="6981" y="984"/>
                  </a:lnTo>
                  <a:lnTo>
                    <a:pt x="6954" y="738"/>
                  </a:lnTo>
                  <a:lnTo>
                    <a:pt x="6856" y="492"/>
                  </a:lnTo>
                  <a:lnTo>
                    <a:pt x="6726" y="246"/>
                  </a:lnTo>
                  <a:lnTo>
                    <a:pt x="6628" y="0"/>
                  </a:lnTo>
                  <a:lnTo>
                    <a:pt x="6497" y="0"/>
                  </a:lnTo>
                  <a:lnTo>
                    <a:pt x="6334" y="0"/>
                  </a:lnTo>
                  <a:lnTo>
                    <a:pt x="6204" y="0"/>
                  </a:lnTo>
                  <a:lnTo>
                    <a:pt x="6171" y="0"/>
                  </a:lnTo>
                  <a:lnTo>
                    <a:pt x="6139" y="0"/>
                  </a:lnTo>
                  <a:lnTo>
                    <a:pt x="6106" y="246"/>
                  </a:lnTo>
                  <a:lnTo>
                    <a:pt x="6074" y="492"/>
                  </a:lnTo>
                  <a:lnTo>
                    <a:pt x="5976" y="738"/>
                  </a:lnTo>
                  <a:lnTo>
                    <a:pt x="5911" y="738"/>
                  </a:lnTo>
                  <a:lnTo>
                    <a:pt x="5813" y="984"/>
                  </a:lnTo>
                  <a:lnTo>
                    <a:pt x="5715" y="1230"/>
                  </a:lnTo>
                  <a:lnTo>
                    <a:pt x="5617" y="1476"/>
                  </a:lnTo>
                  <a:lnTo>
                    <a:pt x="5585" y="1721"/>
                  </a:lnTo>
                  <a:lnTo>
                    <a:pt x="5264" y="2459"/>
                  </a:lnTo>
                  <a:lnTo>
                    <a:pt x="5003" y="2951"/>
                  </a:lnTo>
                  <a:lnTo>
                    <a:pt x="4645" y="1967"/>
                  </a:lnTo>
                  <a:lnTo>
                    <a:pt x="4482" y="1967"/>
                  </a:lnTo>
                  <a:lnTo>
                    <a:pt x="4123" y="2951"/>
                  </a:lnTo>
                  <a:lnTo>
                    <a:pt x="3993" y="2951"/>
                  </a:lnTo>
                  <a:lnTo>
                    <a:pt x="3835" y="2459"/>
                  </a:lnTo>
                  <a:lnTo>
                    <a:pt x="3477" y="2459"/>
                  </a:lnTo>
                  <a:lnTo>
                    <a:pt x="2955" y="2951"/>
                  </a:lnTo>
                  <a:lnTo>
                    <a:pt x="2113" y="738"/>
                  </a:lnTo>
                  <a:lnTo>
                    <a:pt x="1755" y="2459"/>
                  </a:lnTo>
                  <a:lnTo>
                    <a:pt x="1722" y="2459"/>
                  </a:lnTo>
                  <a:lnTo>
                    <a:pt x="1657" y="2951"/>
                  </a:lnTo>
                  <a:lnTo>
                    <a:pt x="1559" y="3197"/>
                  </a:lnTo>
                  <a:lnTo>
                    <a:pt x="1429" y="3689"/>
                  </a:lnTo>
                  <a:lnTo>
                    <a:pt x="1103" y="4918"/>
                  </a:lnTo>
                  <a:lnTo>
                    <a:pt x="809" y="6148"/>
                  </a:lnTo>
                  <a:lnTo>
                    <a:pt x="424" y="6886"/>
                  </a:lnTo>
                  <a:lnTo>
                    <a:pt x="0" y="7378"/>
                  </a:lnTo>
                  <a:lnTo>
                    <a:pt x="0" y="21600"/>
                  </a:lnTo>
                  <a:lnTo>
                    <a:pt x="5487" y="21600"/>
                  </a:lnTo>
                  <a:lnTo>
                    <a:pt x="20236" y="21600"/>
                  </a:lnTo>
                  <a:lnTo>
                    <a:pt x="21600" y="21600"/>
                  </a:lnTo>
                  <a:close/>
                  <a:moveTo>
                    <a:pt x="21600" y="21600"/>
                  </a:moveTo>
                </a:path>
              </a:pathLst>
            </a:cu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229" name="Group 14"/>
          <p:cNvGrpSpPr/>
          <p:nvPr/>
        </p:nvGrpSpPr>
        <p:grpSpPr>
          <a:xfrm>
            <a:off x="627120" y="6021360"/>
            <a:ext cx="5684760" cy="849240"/>
            <a:chOff x="627120" y="6021360"/>
            <a:chExt cx="5684760" cy="849240"/>
          </a:xfrm>
        </p:grpSpPr>
        <p:sp>
          <p:nvSpPr>
            <p:cNvPr id="230" name="Freeform 15"/>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21600" h="21600">
                  <a:moveTo>
                    <a:pt x="1420" y="1806"/>
                  </a:moveTo>
                  <a:lnTo>
                    <a:pt x="0" y="4516"/>
                  </a:lnTo>
                  <a:lnTo>
                    <a:pt x="3906" y="8128"/>
                  </a:lnTo>
                  <a:lnTo>
                    <a:pt x="8462" y="13547"/>
                  </a:lnTo>
                  <a:lnTo>
                    <a:pt x="11303" y="12644"/>
                  </a:lnTo>
                  <a:lnTo>
                    <a:pt x="20180" y="21600"/>
                  </a:lnTo>
                  <a:lnTo>
                    <a:pt x="18049" y="13095"/>
                  </a:lnTo>
                  <a:lnTo>
                    <a:pt x="21600" y="9934"/>
                  </a:lnTo>
                  <a:lnTo>
                    <a:pt x="21245" y="9483"/>
                  </a:lnTo>
                  <a:lnTo>
                    <a:pt x="19825" y="8580"/>
                  </a:lnTo>
                  <a:lnTo>
                    <a:pt x="17694" y="6774"/>
                  </a:lnTo>
                  <a:lnTo>
                    <a:pt x="15209" y="5419"/>
                  </a:lnTo>
                  <a:lnTo>
                    <a:pt x="12723" y="4064"/>
                  </a:lnTo>
                  <a:lnTo>
                    <a:pt x="10238" y="2709"/>
                  </a:lnTo>
                  <a:lnTo>
                    <a:pt x="8462" y="1806"/>
                  </a:lnTo>
                  <a:lnTo>
                    <a:pt x="7752" y="1355"/>
                  </a:lnTo>
                  <a:lnTo>
                    <a:pt x="6332" y="1355"/>
                  </a:lnTo>
                  <a:lnTo>
                    <a:pt x="5622" y="1355"/>
                  </a:lnTo>
                  <a:lnTo>
                    <a:pt x="4261" y="903"/>
                  </a:lnTo>
                  <a:lnTo>
                    <a:pt x="3906" y="903"/>
                  </a:lnTo>
                  <a:lnTo>
                    <a:pt x="3196" y="452"/>
                  </a:lnTo>
                  <a:lnTo>
                    <a:pt x="2485" y="0"/>
                  </a:lnTo>
                  <a:lnTo>
                    <a:pt x="1775" y="0"/>
                  </a:lnTo>
                  <a:lnTo>
                    <a:pt x="1420" y="1806"/>
                  </a:lnTo>
                  <a:close/>
                  <a:moveTo>
                    <a:pt x="1420" y="1806"/>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6"/>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1600" h="21600">
                  <a:moveTo>
                    <a:pt x="1976" y="779"/>
                  </a:moveTo>
                  <a:lnTo>
                    <a:pt x="1466" y="260"/>
                  </a:lnTo>
                  <a:lnTo>
                    <a:pt x="1020" y="0"/>
                  </a:lnTo>
                  <a:lnTo>
                    <a:pt x="382" y="0"/>
                  </a:lnTo>
                  <a:lnTo>
                    <a:pt x="127" y="1082"/>
                  </a:lnTo>
                  <a:lnTo>
                    <a:pt x="0" y="5541"/>
                  </a:lnTo>
                  <a:lnTo>
                    <a:pt x="637" y="4502"/>
                  </a:lnTo>
                  <a:lnTo>
                    <a:pt x="956" y="5800"/>
                  </a:lnTo>
                  <a:lnTo>
                    <a:pt x="1594" y="6623"/>
                  </a:lnTo>
                  <a:lnTo>
                    <a:pt x="2221" y="11817"/>
                  </a:lnTo>
                  <a:lnTo>
                    <a:pt x="4261" y="15540"/>
                  </a:lnTo>
                  <a:lnTo>
                    <a:pt x="8255" y="15540"/>
                  </a:lnTo>
                  <a:lnTo>
                    <a:pt x="21600" y="21600"/>
                  </a:lnTo>
                  <a:lnTo>
                    <a:pt x="21154" y="21340"/>
                  </a:lnTo>
                  <a:lnTo>
                    <a:pt x="7182" y="10519"/>
                  </a:lnTo>
                  <a:lnTo>
                    <a:pt x="5461" y="6883"/>
                  </a:lnTo>
                  <a:lnTo>
                    <a:pt x="4515" y="4762"/>
                  </a:lnTo>
                  <a:lnTo>
                    <a:pt x="3878" y="3982"/>
                  </a:lnTo>
                  <a:lnTo>
                    <a:pt x="2986" y="2640"/>
                  </a:lnTo>
                  <a:lnTo>
                    <a:pt x="1976" y="779"/>
                  </a:lnTo>
                  <a:close/>
                  <a:moveTo>
                    <a:pt x="1976" y="779"/>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2" name="Freeform 17"/>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21600" h="21600">
                  <a:moveTo>
                    <a:pt x="0" y="6480"/>
                  </a:moveTo>
                  <a:lnTo>
                    <a:pt x="1825" y="6480"/>
                  </a:lnTo>
                  <a:lnTo>
                    <a:pt x="3651" y="4320"/>
                  </a:lnTo>
                  <a:lnTo>
                    <a:pt x="1825" y="2160"/>
                  </a:lnTo>
                  <a:lnTo>
                    <a:pt x="0" y="0"/>
                  </a:lnTo>
                  <a:lnTo>
                    <a:pt x="8823" y="6480"/>
                  </a:lnTo>
                  <a:lnTo>
                    <a:pt x="16124" y="6480"/>
                  </a:lnTo>
                  <a:lnTo>
                    <a:pt x="17949" y="10800"/>
                  </a:lnTo>
                  <a:lnTo>
                    <a:pt x="19775" y="15120"/>
                  </a:lnTo>
                  <a:lnTo>
                    <a:pt x="21600" y="19440"/>
                  </a:lnTo>
                  <a:lnTo>
                    <a:pt x="21600" y="21600"/>
                  </a:lnTo>
                  <a:lnTo>
                    <a:pt x="17949" y="19440"/>
                  </a:lnTo>
                  <a:lnTo>
                    <a:pt x="14299" y="15120"/>
                  </a:lnTo>
                  <a:lnTo>
                    <a:pt x="6997" y="10800"/>
                  </a:lnTo>
                  <a:lnTo>
                    <a:pt x="6997" y="12960"/>
                  </a:lnTo>
                  <a:lnTo>
                    <a:pt x="5476" y="15120"/>
                  </a:lnTo>
                  <a:lnTo>
                    <a:pt x="3651" y="17280"/>
                  </a:lnTo>
                  <a:lnTo>
                    <a:pt x="1825" y="17280"/>
                  </a:lnTo>
                  <a:lnTo>
                    <a:pt x="1825" y="12960"/>
                  </a:lnTo>
                  <a:lnTo>
                    <a:pt x="0" y="6480"/>
                  </a:lnTo>
                  <a:close/>
                  <a:moveTo>
                    <a:pt x="0" y="648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8"/>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21600" h="21600">
                  <a:moveTo>
                    <a:pt x="4025" y="0"/>
                  </a:moveTo>
                  <a:lnTo>
                    <a:pt x="6440" y="800"/>
                  </a:lnTo>
                  <a:lnTo>
                    <a:pt x="9660" y="800"/>
                  </a:lnTo>
                  <a:lnTo>
                    <a:pt x="15294" y="1600"/>
                  </a:lnTo>
                  <a:lnTo>
                    <a:pt x="12880" y="7200"/>
                  </a:lnTo>
                  <a:lnTo>
                    <a:pt x="12880" y="8000"/>
                  </a:lnTo>
                  <a:lnTo>
                    <a:pt x="13684" y="9600"/>
                  </a:lnTo>
                  <a:lnTo>
                    <a:pt x="14489" y="11200"/>
                  </a:lnTo>
                  <a:lnTo>
                    <a:pt x="16099" y="12800"/>
                  </a:lnTo>
                  <a:lnTo>
                    <a:pt x="19185" y="15200"/>
                  </a:lnTo>
                  <a:lnTo>
                    <a:pt x="20795" y="18400"/>
                  </a:lnTo>
                  <a:lnTo>
                    <a:pt x="21600" y="20800"/>
                  </a:lnTo>
                  <a:lnTo>
                    <a:pt x="21600" y="21600"/>
                  </a:lnTo>
                  <a:lnTo>
                    <a:pt x="12880" y="13600"/>
                  </a:lnTo>
                  <a:lnTo>
                    <a:pt x="4025" y="7200"/>
                  </a:lnTo>
                  <a:lnTo>
                    <a:pt x="0" y="0"/>
                  </a:lnTo>
                  <a:lnTo>
                    <a:pt x="4025" y="0"/>
                  </a:lnTo>
                  <a:close/>
                  <a:moveTo>
                    <a:pt x="4025"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4" name="Freeform 19"/>
            <p:cNvSpPr/>
            <p:nvPr/>
          </p:nvSpPr>
          <p:spPr>
            <a:xfrm>
              <a:off x="1120680" y="611820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21600" h="21600">
                  <a:moveTo>
                    <a:pt x="21600" y="2160"/>
                  </a:moveTo>
                  <a:lnTo>
                    <a:pt x="15010" y="10800"/>
                  </a:lnTo>
                  <a:lnTo>
                    <a:pt x="15010" y="12960"/>
                  </a:lnTo>
                  <a:lnTo>
                    <a:pt x="17207" y="15120"/>
                  </a:lnTo>
                  <a:lnTo>
                    <a:pt x="19403" y="19440"/>
                  </a:lnTo>
                  <a:lnTo>
                    <a:pt x="19403" y="21600"/>
                  </a:lnTo>
                  <a:lnTo>
                    <a:pt x="17207" y="19440"/>
                  </a:lnTo>
                  <a:lnTo>
                    <a:pt x="12814" y="17280"/>
                  </a:lnTo>
                  <a:lnTo>
                    <a:pt x="8420" y="12960"/>
                  </a:lnTo>
                  <a:lnTo>
                    <a:pt x="6224" y="10800"/>
                  </a:lnTo>
                  <a:lnTo>
                    <a:pt x="0" y="0"/>
                  </a:lnTo>
                  <a:lnTo>
                    <a:pt x="21600" y="2160"/>
                  </a:lnTo>
                  <a:close/>
                  <a:moveTo>
                    <a:pt x="21600" y="216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20"/>
            <p:cNvSpPr/>
            <p:nvPr/>
          </p:nvSpPr>
          <p:spPr>
            <a:xfrm>
              <a:off x="627120" y="6049800"/>
              <a:ext cx="388800" cy="328680"/>
            </a:xfrm>
            <a:custGeom>
              <a:avLst/>
              <a:gdLst>
                <a:gd name="textAreaLeft" fmla="*/ 0 w 388800"/>
                <a:gd name="textAreaRight" fmla="*/ 389160 w 388800"/>
                <a:gd name="textAreaTop" fmla="*/ 0 h 328680"/>
                <a:gd name="textAreaBottom" fmla="*/ 328680 h 328680"/>
              </a:gdLst>
              <a:ahLst/>
              <a:rect l="textAreaLeft" t="textAreaTop" r="textAreaRight" b="textAreaBottom"/>
              <a:pathLst>
                <a:path w="21600" h="21600">
                  <a:moveTo>
                    <a:pt x="20542" y="3812"/>
                  </a:moveTo>
                  <a:lnTo>
                    <a:pt x="21600" y="4447"/>
                  </a:lnTo>
                  <a:lnTo>
                    <a:pt x="18426" y="8894"/>
                  </a:lnTo>
                  <a:lnTo>
                    <a:pt x="12607" y="13976"/>
                  </a:lnTo>
                  <a:lnTo>
                    <a:pt x="14723" y="16518"/>
                  </a:lnTo>
                  <a:lnTo>
                    <a:pt x="15781" y="21600"/>
                  </a:lnTo>
                  <a:lnTo>
                    <a:pt x="6789" y="13976"/>
                  </a:lnTo>
                  <a:lnTo>
                    <a:pt x="4144" y="8894"/>
                  </a:lnTo>
                  <a:lnTo>
                    <a:pt x="7847" y="6988"/>
                  </a:lnTo>
                  <a:lnTo>
                    <a:pt x="5202" y="3812"/>
                  </a:lnTo>
                  <a:lnTo>
                    <a:pt x="0" y="1271"/>
                  </a:lnTo>
                  <a:lnTo>
                    <a:pt x="0" y="0"/>
                  </a:lnTo>
                  <a:lnTo>
                    <a:pt x="529" y="0"/>
                  </a:lnTo>
                  <a:lnTo>
                    <a:pt x="1058" y="0"/>
                  </a:lnTo>
                  <a:lnTo>
                    <a:pt x="4144" y="635"/>
                  </a:lnTo>
                  <a:lnTo>
                    <a:pt x="6789" y="635"/>
                  </a:lnTo>
                  <a:lnTo>
                    <a:pt x="7318" y="635"/>
                  </a:lnTo>
                  <a:lnTo>
                    <a:pt x="7847" y="635"/>
                  </a:lnTo>
                  <a:lnTo>
                    <a:pt x="8904" y="1271"/>
                  </a:lnTo>
                  <a:lnTo>
                    <a:pt x="11020" y="1271"/>
                  </a:lnTo>
                  <a:lnTo>
                    <a:pt x="12607" y="1906"/>
                  </a:lnTo>
                  <a:lnTo>
                    <a:pt x="13136" y="1906"/>
                  </a:lnTo>
                  <a:lnTo>
                    <a:pt x="17897" y="2541"/>
                  </a:lnTo>
                  <a:lnTo>
                    <a:pt x="20542" y="3812"/>
                  </a:lnTo>
                  <a:close/>
                  <a:moveTo>
                    <a:pt x="20542" y="3812"/>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36"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SC</a:t>
            </a:r>
            <a:r>
              <a:rPr b="0" lang="ja-JP" sz="1200" spc="-1" strike="noStrike">
                <a:solidFill>
                  <a:srgbClr val="ffffff"/>
                </a:solidFill>
                <a:latin typeface="Arial"/>
              </a:rPr>
              <a:t>システム部会</a:t>
            </a:r>
            <a:endParaRPr b="0" lang="en-US" sz="1200" spc="-1" strike="noStrike">
              <a:solidFill>
                <a:srgbClr val="000000"/>
              </a:solidFill>
              <a:latin typeface="Arial"/>
            </a:endParaRPr>
          </a:p>
        </p:txBody>
      </p:sp>
      <p:sp>
        <p:nvSpPr>
          <p:cNvPr id="237" name="Text Box 22"/>
          <p:cNvSpPr/>
          <p:nvPr/>
        </p:nvSpPr>
        <p:spPr>
          <a:xfrm>
            <a:off x="7477200" y="5726160"/>
            <a:ext cx="284040" cy="2397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5A61-3B14-447E-9743-C12A96C22C2D}"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38" name="コンテンツ プレースホルダ 2"/>
          <p:cNvSpPr/>
          <p:nvPr/>
        </p:nvSpPr>
        <p:spPr>
          <a:xfrm>
            <a:off x="457200" y="1676520"/>
            <a:ext cx="8218440" cy="3429000"/>
          </a:xfrm>
          <a:prstGeom prst="rect">
            <a:avLst/>
          </a:prstGeom>
          <a:noFill/>
          <a:ln w="0">
            <a:noFill/>
          </a:ln>
        </p:spPr>
        <p:style>
          <a:lnRef idx="0"/>
          <a:fillRef idx="0"/>
          <a:effectRef idx="0"/>
          <a:fontRef idx="minor"/>
        </p:style>
        <p:txBody>
          <a:bodyPr lIns="50760" rIns="90000" tIns="50760" bIns="50760" anchor="t">
            <a:noAutofit/>
          </a:bodyPr>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テキスト ボックス 89"/>
          <p:cNvSpPr/>
          <p:nvPr/>
        </p:nvSpPr>
        <p:spPr>
          <a:xfrm>
            <a:off x="539640" y="1332000"/>
            <a:ext cx="280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1</a:t>
            </a:r>
            <a:r>
              <a:rPr b="0" lang="ja-JP" sz="1800" spc="-1" strike="noStrike">
                <a:solidFill>
                  <a:srgbClr val="ffffff"/>
                </a:solidFill>
                <a:latin typeface="Arial"/>
              </a:rPr>
              <a:t>シーンの策定</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シーンの整理</a:t>
            </a:r>
            <a:endParaRPr b="0" lang="en-US" sz="1800" spc="-1" strike="noStrike">
              <a:solidFill>
                <a:srgbClr val="000000"/>
              </a:solidFill>
              <a:latin typeface="Arial"/>
            </a:endParaRPr>
          </a:p>
        </p:txBody>
      </p:sp>
      <p:sp>
        <p:nvSpPr>
          <p:cNvPr id="240" name="テキスト ボックス 90"/>
          <p:cNvSpPr/>
          <p:nvPr/>
        </p:nvSpPr>
        <p:spPr>
          <a:xfrm>
            <a:off x="611280" y="3357720"/>
            <a:ext cx="28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2</a:t>
            </a:r>
            <a:r>
              <a:rPr b="0" lang="ja-JP" sz="1800" spc="-1" strike="noStrike">
                <a:solidFill>
                  <a:srgbClr val="ffffff"/>
                </a:solidFill>
                <a:latin typeface="Arial"/>
              </a:rPr>
              <a:t>シーンの策定</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技術の整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テキスト ボックス 91"/>
          <p:cNvSpPr/>
          <p:nvPr/>
        </p:nvSpPr>
        <p:spPr>
          <a:xfrm>
            <a:off x="468360" y="5084640"/>
            <a:ext cx="280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3</a:t>
            </a:r>
            <a:r>
              <a:rPr b="0" lang="ja-JP" sz="1800" spc="-1" strike="noStrike">
                <a:solidFill>
                  <a:srgbClr val="ffffff"/>
                </a:solidFill>
                <a:latin typeface="Arial"/>
              </a:rPr>
              <a:t>シーンの策定</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インターフェイスの整理</a:t>
            </a:r>
            <a:endParaRPr b="0" lang="en-US" sz="1800" spc="-1" strike="noStrike">
              <a:solidFill>
                <a:srgbClr val="000000"/>
              </a:solidFill>
              <a:latin typeface="Arial"/>
            </a:endParaRPr>
          </a:p>
        </p:txBody>
      </p:sp>
      <p:pic>
        <p:nvPicPr>
          <p:cNvPr id="242" name="グループ化 30" descr=""/>
          <p:cNvPicPr/>
          <p:nvPr/>
        </p:nvPicPr>
        <p:blipFill>
          <a:blip r:embed="rId1"/>
          <a:stretch/>
        </p:blipFill>
        <p:spPr>
          <a:xfrm>
            <a:off x="3103560" y="1163520"/>
            <a:ext cx="6149880" cy="1500480"/>
          </a:xfrm>
          <a:prstGeom prst="rect">
            <a:avLst/>
          </a:prstGeom>
          <a:ln w="0">
            <a:noFill/>
          </a:ln>
        </p:spPr>
      </p:pic>
      <p:pic>
        <p:nvPicPr>
          <p:cNvPr id="243" name="グループ化 54" descr=""/>
          <p:cNvPicPr/>
          <p:nvPr/>
        </p:nvPicPr>
        <p:blipFill>
          <a:blip r:embed="rId2"/>
          <a:stretch/>
        </p:blipFill>
        <p:spPr>
          <a:xfrm>
            <a:off x="3486240" y="3029040"/>
            <a:ext cx="4925880" cy="1450800"/>
          </a:xfrm>
          <a:prstGeom prst="rect">
            <a:avLst/>
          </a:prstGeom>
          <a:ln w="0">
            <a:noFill/>
          </a:ln>
        </p:spPr>
      </p:pic>
      <p:pic>
        <p:nvPicPr>
          <p:cNvPr id="244" name="グループ化 72" descr=""/>
          <p:cNvPicPr/>
          <p:nvPr/>
        </p:nvPicPr>
        <p:blipFill>
          <a:blip r:embed="rId3"/>
          <a:stretch/>
        </p:blipFill>
        <p:spPr>
          <a:xfrm>
            <a:off x="4406760" y="5114880"/>
            <a:ext cx="2695680" cy="804960"/>
          </a:xfrm>
          <a:prstGeom prst="rect">
            <a:avLst/>
          </a:prstGeom>
          <a:ln w="0">
            <a:noFill/>
          </a:ln>
        </p:spPr>
      </p:pic>
      <p:sp>
        <p:nvSpPr>
          <p:cNvPr id="245" name="下矢印 126"/>
          <p:cNvSpPr/>
          <p:nvPr/>
        </p:nvSpPr>
        <p:spPr>
          <a:xfrm>
            <a:off x="1619280" y="2276640"/>
            <a:ext cx="576360" cy="576000"/>
          </a:xfrm>
          <a:prstGeom prst="downArrow">
            <a:avLst>
              <a:gd name="adj1" fmla="val 50000"/>
              <a:gd name="adj2" fmla="val 50000"/>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下矢印 127"/>
          <p:cNvSpPr/>
          <p:nvPr/>
        </p:nvSpPr>
        <p:spPr>
          <a:xfrm>
            <a:off x="1619280" y="4292640"/>
            <a:ext cx="576360" cy="576360"/>
          </a:xfrm>
          <a:prstGeom prst="downArrow">
            <a:avLst>
              <a:gd name="adj1" fmla="val 50000"/>
              <a:gd name="adj2" fmla="val 50000"/>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6"/>
                                        </p:tgtEl>
                                        <p:attrNameLst>
                                          <p:attrName>style.visibility</p:attrName>
                                        </p:attrNameLst>
                                      </p:cBhvr>
                                      <p:to>
                                        <p:strVal val="visible"/>
                                      </p:to>
                                    </p:set>
                                    <p:anim calcmode="lin" valueType="num">
                                      <p:cBhvr additive="base">
                                        <p:cTn id="7" dur="500" fill="hold"/>
                                        <p:tgtEl>
                                          <p:spTgt spid="216"/>
                                        </p:tgtEl>
                                        <p:attrNameLst>
                                          <p:attrName>ppt_x</p:attrName>
                                        </p:attrNameLst>
                                      </p:cBhvr>
                                      <p:tavLst>
                                        <p:tav tm="0">
                                          <p:val>
                                            <p:strVal val="0-#ppt_w/2"/>
                                          </p:val>
                                        </p:tav>
                                        <p:tav tm="100000">
                                          <p:val>
                                            <p:strVal val="#ppt_x"/>
                                          </p:val>
                                        </p:tav>
                                      </p:tavLst>
                                    </p:anim>
                                    <p:anim calcmode="lin" valueType="num">
                                      <p:cBhvr additive="base">
                                        <p:cTn id="8" dur="500" fill="hold"/>
                                        <p:tgtEl>
                                          <p:spTgt spid="216"/>
                                        </p:tgtEl>
                                        <p:attrNameLst>
                                          <p:attrName>ppt_y</p:attrName>
                                        </p:attrNameLst>
                                      </p:cBhvr>
                                      <p:tavLst>
                                        <p:tav tm="0">
                                          <p:val>
                                            <p:strVal val="#ppt_y"/>
                                          </p:val>
                                        </p:tav>
                                        <p:tav tm="100000">
                                          <p:val>
                                            <p:strVal val="#ppt_y"/>
                                          </p:val>
                                        </p:tav>
                                      </p:tavLst>
                                    </p:anim>
                                  </p:childTnLst>
                                </p:cTn>
                              </p:par>
                              <p:par>
                                <p:cTn id="9" nodeType="withEffect" fill="hold" presetClass="emph" presetID="3" presetSubtype="2">
                                  <p:stCondLst>
                                    <p:cond delay="0"/>
                                  </p:stCondLst>
                                  <p:childTnLst>
                                    <p:animClr clrSpc="rgb">
                                      <p:cBhvr>
                                        <p:cTn id="10" dur="500" fill="hold"/>
                                        <p:tgtEl>
                                          <p:spTgt spid="241"/>
                                        </p:tgtEl>
                                        <p:attrNameLst>
                                          <p:attrName>style.color</p:attrName>
                                        </p:attrNameLst>
                                      </p:cBhvr>
                                      <p:to>
                                        <a:srgbClr val="ff3300"/>
                                      </p:to>
                                    </p:animClr>
                                  </p:childTnLst>
                                </p:cTn>
                              </p:par>
                              <p:par>
                                <p:cTn id="11" nodeType="withEffect" fill="hold" presetClass="emph" presetID="4" presetSubtype="2">
                                  <p:stCondLst>
                                    <p:cond delay="0"/>
                                  </p:stCondLst>
                                  <p:childTnLst>
                                    <p:anim calcmode="lin" valueType="num" to="1.20000004768372">
                                      <p:cBhvr additive="repl">
                                        <p:cTn id="12" dur="500" fill="hold"/>
                                        <p:tgtEl>
                                          <p:spTgt spid="241"/>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AE54-EBF4-4CB3-A189-0E3EA469CA3B}"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48"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rPr>
              <a:t>今後の予定</a:t>
            </a:r>
            <a:endParaRPr b="0" lang="en-US" sz="4400" spc="-1" strike="noStrike">
              <a:solidFill>
                <a:srgbClr val="000000"/>
              </a:solidFill>
              <a:latin typeface="Arial"/>
            </a:endParaRPr>
          </a:p>
        </p:txBody>
      </p:sp>
      <p:sp>
        <p:nvSpPr>
          <p:cNvPr id="249" name="Rectangle 5"/>
          <p:cNvSpPr/>
          <p:nvPr/>
        </p:nvSpPr>
        <p:spPr>
          <a:xfrm>
            <a:off x="2268360" y="2133720"/>
            <a:ext cx="4896000" cy="647640"/>
          </a:xfrm>
          <a:prstGeom prst="rect">
            <a:avLst/>
          </a:prstGeom>
          <a:solidFill>
            <a:srgbClr val="b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第</a:t>
            </a:r>
            <a:r>
              <a:rPr b="1" lang="en-US" sz="1800" spc="-1" strike="noStrike">
                <a:solidFill>
                  <a:srgbClr val="000000"/>
                </a:solidFill>
                <a:latin typeface="Calibri"/>
              </a:rPr>
              <a:t>28</a:t>
            </a:r>
            <a:r>
              <a:rPr b="1" lang="ja-JP" sz="1800" spc="-1" strike="noStrike">
                <a:solidFill>
                  <a:srgbClr val="000000"/>
                </a:solidFill>
                <a:latin typeface="Calibri"/>
              </a:rPr>
              <a:t>回</a:t>
            </a:r>
            <a:r>
              <a:rPr b="0" lang="ja-JP" sz="1800" spc="-1" strike="noStrike">
                <a:solidFill>
                  <a:srgbClr val="000000"/>
                </a:solidFill>
                <a:latin typeface="Calibri"/>
              </a:rPr>
              <a:t>（</a:t>
            </a:r>
            <a:r>
              <a:rPr b="0" lang="en-US" sz="1800" spc="-1" strike="noStrike">
                <a:solidFill>
                  <a:srgbClr val="000000"/>
                </a:solidFill>
                <a:latin typeface="Calibri"/>
              </a:rPr>
              <a:t>9</a:t>
            </a:r>
            <a:r>
              <a:rPr b="0" lang="ja-JP" sz="1800" spc="-1" strike="noStrike">
                <a:solidFill>
                  <a:srgbClr val="000000"/>
                </a:solidFill>
                <a:latin typeface="Calibri"/>
              </a:rPr>
              <a:t>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シーン整理</a:t>
            </a:r>
            <a:endParaRPr b="0" lang="en-US" sz="1800" spc="-1" strike="noStrike">
              <a:solidFill>
                <a:srgbClr val="000000"/>
              </a:solidFill>
              <a:latin typeface="Arial"/>
            </a:endParaRPr>
          </a:p>
        </p:txBody>
      </p:sp>
      <p:sp>
        <p:nvSpPr>
          <p:cNvPr id="250" name="Rectangle 6"/>
          <p:cNvSpPr/>
          <p:nvPr/>
        </p:nvSpPr>
        <p:spPr>
          <a:xfrm>
            <a:off x="2268360" y="2925720"/>
            <a:ext cx="4896000" cy="647640"/>
          </a:xfrm>
          <a:prstGeom prst="rect">
            <a:avLst/>
          </a:prstGeom>
          <a:solidFill>
            <a:srgbClr val="b3e1e4"/>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第</a:t>
            </a:r>
            <a:r>
              <a:rPr b="1" lang="en-US" sz="1800" spc="-1" strike="noStrike">
                <a:solidFill>
                  <a:srgbClr val="000000"/>
                </a:solidFill>
                <a:latin typeface="Calibri"/>
              </a:rPr>
              <a:t>29</a:t>
            </a:r>
            <a:r>
              <a:rPr b="1" lang="ja-JP" sz="1800" spc="-1" strike="noStrike">
                <a:solidFill>
                  <a:srgbClr val="000000"/>
                </a:solidFill>
                <a:latin typeface="Calibri"/>
              </a:rPr>
              <a:t>回</a:t>
            </a:r>
            <a:r>
              <a:rPr b="0" lang="ja-JP" sz="1800" spc="-1" strike="noStrike">
                <a:solidFill>
                  <a:srgbClr val="000000"/>
                </a:solidFill>
                <a:latin typeface="Calibri"/>
              </a:rPr>
              <a:t>（</a:t>
            </a:r>
            <a:r>
              <a:rPr b="0" lang="en-US" sz="1800" spc="-1" strike="noStrike">
                <a:solidFill>
                  <a:srgbClr val="000000"/>
                </a:solidFill>
                <a:latin typeface="Calibri"/>
              </a:rPr>
              <a:t>10</a:t>
            </a:r>
            <a:r>
              <a:rPr b="0" lang="ja-JP" sz="1800" spc="-1" strike="noStrike">
                <a:solidFill>
                  <a:srgbClr val="000000"/>
                </a:solidFill>
                <a:latin typeface="Calibri"/>
              </a:rPr>
              <a:t>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技術の整理</a:t>
            </a:r>
            <a:endParaRPr b="0" lang="en-US" sz="1800" spc="-1" strike="noStrike">
              <a:solidFill>
                <a:srgbClr val="000000"/>
              </a:solidFill>
              <a:latin typeface="Arial"/>
            </a:endParaRPr>
          </a:p>
        </p:txBody>
      </p:sp>
      <p:sp>
        <p:nvSpPr>
          <p:cNvPr id="251" name="Rectangle 7"/>
          <p:cNvSpPr/>
          <p:nvPr/>
        </p:nvSpPr>
        <p:spPr>
          <a:xfrm>
            <a:off x="2268360" y="3718080"/>
            <a:ext cx="4896000" cy="64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第</a:t>
            </a:r>
            <a:r>
              <a:rPr b="1" lang="en-US" sz="1800" spc="-1" strike="noStrike">
                <a:solidFill>
                  <a:srgbClr val="000000"/>
                </a:solidFill>
                <a:latin typeface="Calibri"/>
              </a:rPr>
              <a:t>30</a:t>
            </a:r>
            <a:r>
              <a:rPr b="1" lang="ja-JP" sz="1800" spc="-1" strike="noStrike">
                <a:solidFill>
                  <a:srgbClr val="000000"/>
                </a:solidFill>
                <a:latin typeface="Calibri"/>
              </a:rPr>
              <a:t>回</a:t>
            </a:r>
            <a:r>
              <a:rPr b="0" lang="ja-JP" sz="1800" spc="-1" strike="noStrike">
                <a:solidFill>
                  <a:srgbClr val="000000"/>
                </a:solidFill>
                <a:latin typeface="Calibri"/>
              </a:rPr>
              <a:t>（</a:t>
            </a:r>
            <a:r>
              <a:rPr b="0" lang="en-US" sz="1800" spc="-1" strike="noStrike">
                <a:solidFill>
                  <a:srgbClr val="000000"/>
                </a:solidFill>
                <a:latin typeface="Calibri"/>
              </a:rPr>
              <a:t>11</a:t>
            </a:r>
            <a:r>
              <a:rPr b="0" lang="ja-JP" sz="1800" spc="-1" strike="noStrike">
                <a:solidFill>
                  <a:srgbClr val="000000"/>
                </a:solidFill>
                <a:latin typeface="Calibri"/>
              </a:rPr>
              <a:t>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インターフェイスの整理</a:t>
            </a:r>
            <a:endParaRPr b="0" lang="en-US" sz="1800" spc="-1" strike="noStrike">
              <a:solidFill>
                <a:srgbClr val="000000"/>
              </a:solidFill>
              <a:latin typeface="Arial"/>
            </a:endParaRPr>
          </a:p>
        </p:txBody>
      </p:sp>
      <p:sp>
        <p:nvSpPr>
          <p:cNvPr id="252" name="Rectangle 8"/>
          <p:cNvSpPr/>
          <p:nvPr/>
        </p:nvSpPr>
        <p:spPr>
          <a:xfrm>
            <a:off x="2268360" y="4510080"/>
            <a:ext cx="4896000" cy="647640"/>
          </a:xfrm>
          <a:prstGeom prst="rect">
            <a:avLst/>
          </a:prstGeom>
          <a:solidFill>
            <a:srgbClr val="a9e3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第</a:t>
            </a:r>
            <a:r>
              <a:rPr b="1" lang="en-US" sz="1800" spc="-1" strike="noStrike">
                <a:solidFill>
                  <a:srgbClr val="000000"/>
                </a:solidFill>
                <a:latin typeface="Calibri"/>
              </a:rPr>
              <a:t>31</a:t>
            </a:r>
            <a:r>
              <a:rPr b="1" lang="ja-JP" sz="1800" spc="-1" strike="noStrike">
                <a:solidFill>
                  <a:srgbClr val="000000"/>
                </a:solidFill>
                <a:latin typeface="Calibri"/>
              </a:rPr>
              <a:t>回</a:t>
            </a:r>
            <a:r>
              <a:rPr b="0" lang="ja-JP" sz="1800" spc="-1" strike="noStrike">
                <a:solidFill>
                  <a:srgbClr val="000000"/>
                </a:solidFill>
                <a:latin typeface="Calibri"/>
              </a:rPr>
              <a:t>（</a:t>
            </a:r>
            <a:r>
              <a:rPr b="0" lang="en-US" sz="1800" spc="-1" strike="noStrike">
                <a:solidFill>
                  <a:srgbClr val="000000"/>
                </a:solidFill>
                <a:latin typeface="Calibri"/>
              </a:rPr>
              <a:t>12</a:t>
            </a:r>
            <a:r>
              <a:rPr b="0" lang="ja-JP" sz="1800" spc="-1" strike="noStrike">
                <a:solidFill>
                  <a:srgbClr val="000000"/>
                </a:solidFill>
                <a:latin typeface="Calibri"/>
              </a:rPr>
              <a:t>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ドキュメント作成</a:t>
            </a:r>
            <a:endParaRPr b="0" lang="en-US" sz="1800" spc="-1" strike="noStrike">
              <a:solidFill>
                <a:srgbClr val="000000"/>
              </a:solidFill>
              <a:latin typeface="Arial"/>
            </a:endParaRPr>
          </a:p>
        </p:txBody>
      </p:sp>
      <p:sp>
        <p:nvSpPr>
          <p:cNvPr id="253" name="Rectangle 9"/>
          <p:cNvSpPr/>
          <p:nvPr/>
        </p:nvSpPr>
        <p:spPr>
          <a:xfrm>
            <a:off x="2268360" y="1278000"/>
            <a:ext cx="4896000" cy="647640"/>
          </a:xfrm>
          <a:prstGeom prst="rect">
            <a:avLst/>
          </a:prstGeom>
          <a:solidFill>
            <a:srgbClr val="b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第</a:t>
            </a:r>
            <a:r>
              <a:rPr b="1" lang="en-US" sz="1800" spc="-1" strike="noStrike">
                <a:solidFill>
                  <a:srgbClr val="000000"/>
                </a:solidFill>
                <a:latin typeface="Calibri"/>
              </a:rPr>
              <a:t>27</a:t>
            </a:r>
            <a:r>
              <a:rPr b="1" lang="ja-JP" sz="1800" spc="-1" strike="noStrike">
                <a:solidFill>
                  <a:srgbClr val="000000"/>
                </a:solidFill>
                <a:latin typeface="Calibri"/>
              </a:rPr>
              <a:t>回</a:t>
            </a:r>
            <a:r>
              <a:rPr b="0" lang="ja-JP" sz="1800" spc="-1" strike="noStrike">
                <a:solidFill>
                  <a:srgbClr val="000000"/>
                </a:solidFill>
                <a:latin typeface="Calibri"/>
              </a:rPr>
              <a:t>（</a:t>
            </a:r>
            <a:r>
              <a:rPr b="0" lang="en-US" sz="1800" spc="-1" strike="noStrike">
                <a:solidFill>
                  <a:srgbClr val="000000"/>
                </a:solidFill>
                <a:latin typeface="Calibri"/>
              </a:rPr>
              <a:t>7</a:t>
            </a:r>
            <a:r>
              <a:rPr b="0" lang="ja-JP" sz="1800" spc="-1" strike="noStrike">
                <a:solidFill>
                  <a:srgbClr val="000000"/>
                </a:solidFill>
                <a:latin typeface="Calibri"/>
              </a:rPr>
              <a:t>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ワーキングシート作成</a:t>
            </a:r>
            <a:endParaRPr b="0" lang="en-US" sz="1800" spc="-1" strike="noStrike">
              <a:solidFill>
                <a:srgbClr val="000000"/>
              </a:solidFill>
              <a:latin typeface="Arial"/>
            </a:endParaRPr>
          </a:p>
        </p:txBody>
      </p:sp>
      <p:sp>
        <p:nvSpPr>
          <p:cNvPr id="254" name="AutoShape 12"/>
          <p:cNvSpPr/>
          <p:nvPr/>
        </p:nvSpPr>
        <p:spPr>
          <a:xfrm>
            <a:off x="7361280" y="4078440"/>
            <a:ext cx="288720" cy="863280"/>
          </a:xfrm>
          <a:custGeom>
            <a:avLst/>
            <a:gdLst>
              <a:gd name="textAreaLeft" fmla="*/ 38520 w 288720"/>
              <a:gd name="textAreaRight" fmla="*/ 250200 w 288720"/>
              <a:gd name="textAreaTop" fmla="*/ 150840 h 863280"/>
              <a:gd name="textAreaBottom" fmla="*/ 626040 h 863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3"/>
          <p:cNvSpPr/>
          <p:nvPr/>
        </p:nvSpPr>
        <p:spPr>
          <a:xfrm>
            <a:off x="7710480" y="407664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幹事・事務局で整理</a:t>
            </a:r>
            <a:endParaRPr b="0" lang="en-US" sz="1800" spc="-1" strike="noStrike">
              <a:solidFill>
                <a:srgbClr val="000000"/>
              </a:solidFill>
              <a:latin typeface="Arial"/>
            </a:endParaRPr>
          </a:p>
        </p:txBody>
      </p:sp>
      <p:grpSp>
        <p:nvGrpSpPr>
          <p:cNvPr id="256" name="Group 5"/>
          <p:cNvGrpSpPr/>
          <p:nvPr/>
        </p:nvGrpSpPr>
        <p:grpSpPr>
          <a:xfrm>
            <a:off x="0" y="6019920"/>
            <a:ext cx="7848720" cy="857160"/>
            <a:chOff x="0" y="6019920"/>
            <a:chExt cx="7848720" cy="857160"/>
          </a:xfrm>
        </p:grpSpPr>
        <p:sp>
          <p:nvSpPr>
            <p:cNvPr id="257" name="Freeform 6"/>
            <p:cNvSpPr/>
            <p:nvPr/>
          </p:nvSpPr>
          <p:spPr>
            <a:xfrm>
              <a:off x="2362320" y="6019920"/>
              <a:ext cx="5143320" cy="851040"/>
            </a:xfrm>
            <a:custGeom>
              <a:avLst/>
              <a:gdLst>
                <a:gd name="textAreaLeft" fmla="*/ 0 w 5143320"/>
                <a:gd name="textAreaRight" fmla="*/ 5143680 w 5143320"/>
                <a:gd name="textAreaTop" fmla="*/ 0 h 851040"/>
                <a:gd name="textAreaBottom" fmla="*/ 851400 h 851040"/>
              </a:gdLst>
              <a:ahLst/>
              <a:rect l="textAreaLeft" t="textAreaTop" r="textAreaRight" b="textAreaBottom"/>
              <a:pathLst>
                <a:path w="21600" h="21600">
                  <a:moveTo>
                    <a:pt x="20880" y="18900"/>
                  </a:moveTo>
                  <a:lnTo>
                    <a:pt x="19967" y="15918"/>
                  </a:lnTo>
                  <a:lnTo>
                    <a:pt x="19407" y="15112"/>
                  </a:lnTo>
                  <a:lnTo>
                    <a:pt x="17853" y="9188"/>
                  </a:lnTo>
                  <a:lnTo>
                    <a:pt x="17020" y="2982"/>
                  </a:lnTo>
                  <a:lnTo>
                    <a:pt x="16380" y="282"/>
                  </a:lnTo>
                  <a:lnTo>
                    <a:pt x="16020" y="1894"/>
                  </a:lnTo>
                  <a:lnTo>
                    <a:pt x="15260" y="2982"/>
                  </a:lnTo>
                  <a:lnTo>
                    <a:pt x="14227" y="2982"/>
                  </a:lnTo>
                  <a:lnTo>
                    <a:pt x="13627" y="5158"/>
                  </a:lnTo>
                  <a:lnTo>
                    <a:pt x="11833" y="8946"/>
                  </a:lnTo>
                  <a:lnTo>
                    <a:pt x="10680" y="7294"/>
                  </a:lnTo>
                  <a:lnTo>
                    <a:pt x="10400" y="4070"/>
                  </a:lnTo>
                  <a:lnTo>
                    <a:pt x="10280" y="3506"/>
                  </a:lnTo>
                  <a:lnTo>
                    <a:pt x="9640" y="2418"/>
                  </a:lnTo>
                  <a:lnTo>
                    <a:pt x="9167" y="2982"/>
                  </a:lnTo>
                  <a:lnTo>
                    <a:pt x="8727" y="3506"/>
                  </a:lnTo>
                  <a:lnTo>
                    <a:pt x="8287" y="524"/>
                  </a:lnTo>
                  <a:lnTo>
                    <a:pt x="8167" y="0"/>
                  </a:lnTo>
                  <a:lnTo>
                    <a:pt x="7927" y="0"/>
                  </a:lnTo>
                  <a:lnTo>
                    <a:pt x="7373" y="1370"/>
                  </a:lnTo>
                  <a:lnTo>
                    <a:pt x="7293" y="1612"/>
                  </a:lnTo>
                  <a:lnTo>
                    <a:pt x="7133" y="2176"/>
                  </a:lnTo>
                  <a:lnTo>
                    <a:pt x="6893" y="2982"/>
                  </a:lnTo>
                  <a:lnTo>
                    <a:pt x="6693" y="2982"/>
                  </a:lnTo>
                  <a:lnTo>
                    <a:pt x="6573" y="2982"/>
                  </a:lnTo>
                  <a:lnTo>
                    <a:pt x="6373" y="3264"/>
                  </a:lnTo>
                  <a:lnTo>
                    <a:pt x="6133" y="3788"/>
                  </a:lnTo>
                  <a:lnTo>
                    <a:pt x="5893" y="4312"/>
                  </a:lnTo>
                  <a:lnTo>
                    <a:pt x="5620" y="5158"/>
                  </a:lnTo>
                  <a:lnTo>
                    <a:pt x="5420" y="5682"/>
                  </a:lnTo>
                  <a:lnTo>
                    <a:pt x="5260" y="5964"/>
                  </a:lnTo>
                  <a:lnTo>
                    <a:pt x="5220" y="6206"/>
                  </a:lnTo>
                  <a:lnTo>
                    <a:pt x="3707" y="9188"/>
                  </a:lnTo>
                  <a:lnTo>
                    <a:pt x="2627" y="11848"/>
                  </a:lnTo>
                  <a:lnTo>
                    <a:pt x="713" y="18618"/>
                  </a:lnTo>
                  <a:lnTo>
                    <a:pt x="0" y="21600"/>
                  </a:lnTo>
                  <a:lnTo>
                    <a:pt x="21600" y="21600"/>
                  </a:lnTo>
                  <a:lnTo>
                    <a:pt x="20880" y="18900"/>
                  </a:lnTo>
                  <a:close/>
                  <a:moveTo>
                    <a:pt x="20880" y="18900"/>
                  </a:moveTo>
                </a:path>
              </a:pathLst>
            </a:cu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258" name="Group 7"/>
            <p:cNvGrpSpPr/>
            <p:nvPr/>
          </p:nvGrpSpPr>
          <p:grpSpPr>
            <a:xfrm>
              <a:off x="3946680" y="6019920"/>
              <a:ext cx="3902040" cy="857160"/>
              <a:chOff x="3946680" y="6019920"/>
              <a:chExt cx="3902040" cy="857160"/>
            </a:xfrm>
          </p:grpSpPr>
          <p:sp>
            <p:nvSpPr>
              <p:cNvPr id="259" name="Freeform 8"/>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21600" h="21600">
                    <a:moveTo>
                      <a:pt x="13793" y="15116"/>
                    </a:moveTo>
                    <a:lnTo>
                      <a:pt x="10735" y="14994"/>
                    </a:lnTo>
                    <a:lnTo>
                      <a:pt x="6072" y="10091"/>
                    </a:lnTo>
                    <a:lnTo>
                      <a:pt x="2754" y="2675"/>
                    </a:lnTo>
                    <a:lnTo>
                      <a:pt x="0" y="0"/>
                    </a:lnTo>
                    <a:lnTo>
                      <a:pt x="477" y="1054"/>
                    </a:lnTo>
                    <a:lnTo>
                      <a:pt x="0" y="2634"/>
                    </a:lnTo>
                    <a:lnTo>
                      <a:pt x="651" y="4823"/>
                    </a:lnTo>
                    <a:lnTo>
                      <a:pt x="1627" y="9848"/>
                    </a:lnTo>
                    <a:lnTo>
                      <a:pt x="976" y="17102"/>
                    </a:lnTo>
                    <a:lnTo>
                      <a:pt x="4337" y="13333"/>
                    </a:lnTo>
                    <a:lnTo>
                      <a:pt x="13272" y="21600"/>
                    </a:lnTo>
                    <a:lnTo>
                      <a:pt x="21600" y="21438"/>
                    </a:lnTo>
                    <a:lnTo>
                      <a:pt x="17957" y="19168"/>
                    </a:lnTo>
                    <a:lnTo>
                      <a:pt x="13793" y="15116"/>
                    </a:lnTo>
                    <a:close/>
                    <a:moveTo>
                      <a:pt x="13793" y="15116"/>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0" name="Freeform 9"/>
              <p:cNvSpPr/>
              <p:nvPr/>
            </p:nvSpPr>
            <p:spPr>
              <a:xfrm>
                <a:off x="4249800" y="6019920"/>
                <a:ext cx="295200" cy="627120"/>
              </a:xfrm>
              <a:custGeom>
                <a:avLst/>
                <a:gdLst>
                  <a:gd name="textAreaLeft" fmla="*/ 0 w 295200"/>
                  <a:gd name="textAreaRight" fmla="*/ 295200 w 295200"/>
                  <a:gd name="textAreaTop" fmla="*/ 0 h 627120"/>
                  <a:gd name="textAreaBottom" fmla="*/ 627480 h 627120"/>
                </a:gdLst>
                <a:ahLst/>
                <a:rect l="textAreaLeft" t="textAreaTop" r="textAreaRight" b="textAreaBottom"/>
                <a:pathLst>
                  <a:path w="21600" h="21600">
                    <a:moveTo>
                      <a:pt x="4181" y="0"/>
                    </a:moveTo>
                    <a:lnTo>
                      <a:pt x="6271" y="1101"/>
                    </a:lnTo>
                    <a:lnTo>
                      <a:pt x="2787" y="1836"/>
                    </a:lnTo>
                    <a:lnTo>
                      <a:pt x="2090" y="4039"/>
                    </a:lnTo>
                    <a:lnTo>
                      <a:pt x="4877" y="6976"/>
                    </a:lnTo>
                    <a:lnTo>
                      <a:pt x="5574" y="9913"/>
                    </a:lnTo>
                    <a:lnTo>
                      <a:pt x="0" y="21600"/>
                    </a:lnTo>
                    <a:lnTo>
                      <a:pt x="6271" y="14257"/>
                    </a:lnTo>
                    <a:lnTo>
                      <a:pt x="9755" y="13217"/>
                    </a:lnTo>
                    <a:lnTo>
                      <a:pt x="14632" y="7710"/>
                    </a:lnTo>
                    <a:lnTo>
                      <a:pt x="16723" y="7343"/>
                    </a:lnTo>
                    <a:lnTo>
                      <a:pt x="16723" y="5507"/>
                    </a:lnTo>
                    <a:lnTo>
                      <a:pt x="21600" y="4039"/>
                    </a:lnTo>
                    <a:lnTo>
                      <a:pt x="18813" y="3671"/>
                    </a:lnTo>
                    <a:lnTo>
                      <a:pt x="4181" y="0"/>
                    </a:lnTo>
                    <a:close/>
                    <a:moveTo>
                      <a:pt x="4181"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1" name="Freeform 10"/>
              <p:cNvSpPr/>
              <p:nvPr/>
            </p:nvSpPr>
            <p:spPr>
              <a:xfrm>
                <a:off x="481032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21600" h="21600">
                    <a:moveTo>
                      <a:pt x="1029" y="0"/>
                    </a:moveTo>
                    <a:lnTo>
                      <a:pt x="686" y="1036"/>
                    </a:lnTo>
                    <a:lnTo>
                      <a:pt x="0" y="3188"/>
                    </a:lnTo>
                    <a:lnTo>
                      <a:pt x="3429" y="9644"/>
                    </a:lnTo>
                    <a:lnTo>
                      <a:pt x="17714" y="21600"/>
                    </a:lnTo>
                    <a:lnTo>
                      <a:pt x="16571" y="11079"/>
                    </a:lnTo>
                    <a:lnTo>
                      <a:pt x="21600" y="6058"/>
                    </a:lnTo>
                    <a:lnTo>
                      <a:pt x="14343" y="7492"/>
                    </a:lnTo>
                    <a:lnTo>
                      <a:pt x="5143" y="4304"/>
                    </a:lnTo>
                    <a:lnTo>
                      <a:pt x="1029" y="0"/>
                    </a:lnTo>
                    <a:close/>
                    <a:moveTo>
                      <a:pt x="1029"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2" name="Freeform 11"/>
              <p:cNvSpPr/>
              <p:nvPr/>
            </p:nvSpPr>
            <p:spPr>
              <a:xfrm>
                <a:off x="5759640" y="6137280"/>
                <a:ext cx="245880" cy="117720"/>
              </a:xfrm>
              <a:custGeom>
                <a:avLst/>
                <a:gdLst>
                  <a:gd name="textAreaLeft" fmla="*/ 0 w 245880"/>
                  <a:gd name="textAreaRight" fmla="*/ 246240 w 245880"/>
                  <a:gd name="textAreaTop" fmla="*/ 0 h 117720"/>
                  <a:gd name="textAreaBottom" fmla="*/ 118080 h 117720"/>
                </a:gdLst>
                <a:ahLst/>
                <a:rect l="textAreaLeft" t="textAreaTop" r="textAreaRight" b="textAreaBottom"/>
                <a:pathLst>
                  <a:path w="21600" h="21600">
                    <a:moveTo>
                      <a:pt x="15886" y="0"/>
                    </a:moveTo>
                    <a:lnTo>
                      <a:pt x="0" y="0"/>
                    </a:lnTo>
                    <a:lnTo>
                      <a:pt x="836" y="1964"/>
                    </a:lnTo>
                    <a:lnTo>
                      <a:pt x="836" y="5891"/>
                    </a:lnTo>
                    <a:lnTo>
                      <a:pt x="0" y="7855"/>
                    </a:lnTo>
                    <a:lnTo>
                      <a:pt x="10870" y="19636"/>
                    </a:lnTo>
                    <a:lnTo>
                      <a:pt x="13378" y="13745"/>
                    </a:lnTo>
                    <a:lnTo>
                      <a:pt x="21600" y="21600"/>
                    </a:lnTo>
                    <a:lnTo>
                      <a:pt x="17559" y="7855"/>
                    </a:lnTo>
                    <a:lnTo>
                      <a:pt x="20764" y="0"/>
                    </a:lnTo>
                    <a:lnTo>
                      <a:pt x="15886" y="0"/>
                    </a:lnTo>
                    <a:close/>
                    <a:moveTo>
                      <a:pt x="15886" y="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3" name="Freeform 12"/>
              <p:cNvSpPr/>
              <p:nvPr/>
            </p:nvSpPr>
            <p:spPr>
              <a:xfrm>
                <a:off x="3946680" y="6126120"/>
                <a:ext cx="66600" cy="128880"/>
              </a:xfrm>
              <a:custGeom>
                <a:avLst/>
                <a:gdLst>
                  <a:gd name="textAreaLeft" fmla="*/ 0 w 66600"/>
                  <a:gd name="textAreaRight" fmla="*/ 66960 w 66600"/>
                  <a:gd name="textAreaTop" fmla="*/ 0 h 128880"/>
                  <a:gd name="textAreaBottom" fmla="*/ 128880 h 128880"/>
                </a:gdLst>
                <a:ahLst/>
                <a:rect l="textAreaLeft" t="textAreaTop" r="textAreaRight" b="textAreaBottom"/>
                <a:pathLst>
                  <a:path w="21600" h="21600">
                    <a:moveTo>
                      <a:pt x="3086" y="10800"/>
                    </a:moveTo>
                    <a:lnTo>
                      <a:pt x="0" y="5400"/>
                    </a:lnTo>
                    <a:lnTo>
                      <a:pt x="6171" y="1800"/>
                    </a:lnTo>
                    <a:lnTo>
                      <a:pt x="0" y="1800"/>
                    </a:lnTo>
                    <a:lnTo>
                      <a:pt x="6171" y="1800"/>
                    </a:lnTo>
                    <a:lnTo>
                      <a:pt x="12343" y="1800"/>
                    </a:lnTo>
                    <a:lnTo>
                      <a:pt x="18514" y="1800"/>
                    </a:lnTo>
                    <a:lnTo>
                      <a:pt x="21600" y="0"/>
                    </a:lnTo>
                    <a:lnTo>
                      <a:pt x="15429" y="5400"/>
                    </a:lnTo>
                    <a:lnTo>
                      <a:pt x="21600" y="14400"/>
                    </a:lnTo>
                    <a:lnTo>
                      <a:pt x="6171" y="21600"/>
                    </a:lnTo>
                    <a:lnTo>
                      <a:pt x="3086" y="10800"/>
                    </a:lnTo>
                    <a:close/>
                    <a:moveTo>
                      <a:pt x="3086" y="10800"/>
                    </a:moveTo>
                  </a:path>
                </a:pathLst>
              </a:custGeom>
              <a:solidFill>
                <a:srgbClr val="46341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64" name="Freeform 13"/>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21600" h="21600">
                  <a:moveTo>
                    <a:pt x="21600" y="21600"/>
                  </a:moveTo>
                  <a:lnTo>
                    <a:pt x="21567" y="21600"/>
                  </a:lnTo>
                  <a:lnTo>
                    <a:pt x="20883" y="20862"/>
                  </a:lnTo>
                  <a:lnTo>
                    <a:pt x="13511" y="12501"/>
                  </a:lnTo>
                  <a:lnTo>
                    <a:pt x="11077" y="1476"/>
                  </a:lnTo>
                  <a:lnTo>
                    <a:pt x="10360" y="984"/>
                  </a:lnTo>
                  <a:lnTo>
                    <a:pt x="10230" y="2213"/>
                  </a:lnTo>
                  <a:lnTo>
                    <a:pt x="10099" y="2213"/>
                  </a:lnTo>
                  <a:lnTo>
                    <a:pt x="9942" y="1230"/>
                  </a:lnTo>
                  <a:lnTo>
                    <a:pt x="9257" y="4181"/>
                  </a:lnTo>
                  <a:lnTo>
                    <a:pt x="8736" y="5164"/>
                  </a:lnTo>
                  <a:lnTo>
                    <a:pt x="8480" y="5410"/>
                  </a:lnTo>
                  <a:lnTo>
                    <a:pt x="8122" y="4181"/>
                  </a:lnTo>
                  <a:lnTo>
                    <a:pt x="7372" y="5164"/>
                  </a:lnTo>
                  <a:lnTo>
                    <a:pt x="6981" y="984"/>
                  </a:lnTo>
                  <a:lnTo>
                    <a:pt x="6954" y="738"/>
                  </a:lnTo>
                  <a:lnTo>
                    <a:pt x="6856" y="492"/>
                  </a:lnTo>
                  <a:lnTo>
                    <a:pt x="6726" y="246"/>
                  </a:lnTo>
                  <a:lnTo>
                    <a:pt x="6628" y="0"/>
                  </a:lnTo>
                  <a:lnTo>
                    <a:pt x="6497" y="0"/>
                  </a:lnTo>
                  <a:lnTo>
                    <a:pt x="6334" y="0"/>
                  </a:lnTo>
                  <a:lnTo>
                    <a:pt x="6204" y="0"/>
                  </a:lnTo>
                  <a:lnTo>
                    <a:pt x="6171" y="0"/>
                  </a:lnTo>
                  <a:lnTo>
                    <a:pt x="6139" y="0"/>
                  </a:lnTo>
                  <a:lnTo>
                    <a:pt x="6106" y="246"/>
                  </a:lnTo>
                  <a:lnTo>
                    <a:pt x="6074" y="492"/>
                  </a:lnTo>
                  <a:lnTo>
                    <a:pt x="5976" y="738"/>
                  </a:lnTo>
                  <a:lnTo>
                    <a:pt x="5911" y="738"/>
                  </a:lnTo>
                  <a:lnTo>
                    <a:pt x="5813" y="984"/>
                  </a:lnTo>
                  <a:lnTo>
                    <a:pt x="5715" y="1230"/>
                  </a:lnTo>
                  <a:lnTo>
                    <a:pt x="5617" y="1476"/>
                  </a:lnTo>
                  <a:lnTo>
                    <a:pt x="5585" y="1721"/>
                  </a:lnTo>
                  <a:lnTo>
                    <a:pt x="5264" y="2459"/>
                  </a:lnTo>
                  <a:lnTo>
                    <a:pt x="5003" y="2951"/>
                  </a:lnTo>
                  <a:lnTo>
                    <a:pt x="4645" y="1967"/>
                  </a:lnTo>
                  <a:lnTo>
                    <a:pt x="4482" y="1967"/>
                  </a:lnTo>
                  <a:lnTo>
                    <a:pt x="4123" y="2951"/>
                  </a:lnTo>
                  <a:lnTo>
                    <a:pt x="3993" y="2951"/>
                  </a:lnTo>
                  <a:lnTo>
                    <a:pt x="3835" y="2459"/>
                  </a:lnTo>
                  <a:lnTo>
                    <a:pt x="3477" y="2459"/>
                  </a:lnTo>
                  <a:lnTo>
                    <a:pt x="2955" y="2951"/>
                  </a:lnTo>
                  <a:lnTo>
                    <a:pt x="2113" y="738"/>
                  </a:lnTo>
                  <a:lnTo>
                    <a:pt x="1755" y="2459"/>
                  </a:lnTo>
                  <a:lnTo>
                    <a:pt x="1722" y="2459"/>
                  </a:lnTo>
                  <a:lnTo>
                    <a:pt x="1657" y="2951"/>
                  </a:lnTo>
                  <a:lnTo>
                    <a:pt x="1559" y="3197"/>
                  </a:lnTo>
                  <a:lnTo>
                    <a:pt x="1429" y="3689"/>
                  </a:lnTo>
                  <a:lnTo>
                    <a:pt x="1103" y="4918"/>
                  </a:lnTo>
                  <a:lnTo>
                    <a:pt x="809" y="6148"/>
                  </a:lnTo>
                  <a:lnTo>
                    <a:pt x="424" y="6886"/>
                  </a:lnTo>
                  <a:lnTo>
                    <a:pt x="0" y="7378"/>
                  </a:lnTo>
                  <a:lnTo>
                    <a:pt x="0" y="21600"/>
                  </a:lnTo>
                  <a:lnTo>
                    <a:pt x="5487" y="21600"/>
                  </a:lnTo>
                  <a:lnTo>
                    <a:pt x="20236" y="21600"/>
                  </a:lnTo>
                  <a:lnTo>
                    <a:pt x="21600" y="21600"/>
                  </a:lnTo>
                  <a:close/>
                  <a:moveTo>
                    <a:pt x="21600" y="21600"/>
                  </a:moveTo>
                </a:path>
              </a:pathLst>
            </a:cu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65"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a:t>
            </a:r>
            <a:r>
              <a:rPr b="0" lang="ja-JP" sz="1200" spc="-1" strike="noStrike">
                <a:solidFill>
                  <a:srgbClr val="000000"/>
                </a:solidFill>
                <a:latin typeface="Arial"/>
              </a:rPr>
              <a:t>システム部会</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4:43Z</dcterms:created>
  <dc:creator>M.Kubota</dc:creator>
  <dc:description/>
  <dc:language>en-US</dc:language>
  <cp:lastModifiedBy>frptr6162</cp:lastModifiedBy>
  <dcterms:modified xsi:type="dcterms:W3CDTF">2010-11-09T12:47:11Z</dcterms:modified>
  <cp:revision>168</cp:revision>
  <dc:subject/>
  <dc:title>DSCシステム部会</dc:title>
</cp:coreProperties>
</file>