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0EA4-5ADE-4B8E-A890-8716F4D6C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E9B8-D72F-4A00-B11C-C3BDE3A0E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1FB5-071C-4462-A3D8-4FA1CDCBB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94F3-6AD3-4332-891E-3CD5513BE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274680"/>
            <a:ext cx="896472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78EA-8B90-449D-AF52-A24FDCCE5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D91F-8CEC-4697-9020-E2C6FB8DC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4892-B7DE-4ACA-B3B7-FD870523D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EB97-CF44-4DEB-B4ED-3FB324D48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74680"/>
            <a:ext cx="896472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E11D-158F-45E1-A734-F9AF11461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48C6-7AC1-4350-96BA-14892E979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EF37-41BB-477B-BA46-93E934CC7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607D-3BDE-4FCE-A28B-1C52DDAE8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BFB0-03EA-4C98-AA97-A16B57F94A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Line 5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スライド番号プレースホルダ 3"/>
          <p:cNvSpPr/>
          <p:nvPr/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D540-D77F-46C5-863D-DB3EE381B8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3780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1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ＭＳ Ｐゴシック"/>
              </a:rPr>
              <a:t>DSC</a:t>
            </a:r>
            <a:r>
              <a:rPr b="0" lang="ja-JP" sz="6000" spc="-1" strike="noStrike">
                <a:solidFill>
                  <a:srgbClr val="000000"/>
                </a:solidFill>
                <a:latin typeface="ＭＳ Ｐゴシック"/>
              </a:rPr>
              <a:t>部会報告</a:t>
            </a:r>
            <a:endParaRPr b="0" lang="en-US" sz="60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ＭＳ Ｐゴシック"/>
              </a:rPr>
              <a:t>2010.11.10</a:t>
            </a: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国際標準戦略部会</a:t>
            </a:r>
            <a:endParaRPr b="0" lang="en-US" sz="40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211640" y="6524640"/>
            <a:ext cx="64764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スライド番号プレースホルダ 3"/>
          <p:cNvSpPr/>
          <p:nvPr/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7E9F-5BE1-4969-8744-4CCF235AC5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3408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　国際標準戦略部会　第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回開催（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2010.10.28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803160"/>
            <a:ext cx="850716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.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回部会の検討内容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１）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標準化ケーススタディ（勉強会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①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サービス事例（三菱電機殿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⇒事例に基づいた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標準化のターゲットの意識あわせ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２）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標準化の考え方・進め方についての議論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のユーザ要件・標準システム検討の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G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設置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（下記ユーザ団体との連携をベースに検討する体制を部会　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で準備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の海外標準化事例情報収集、海外発信の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G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の立ち上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げを検討中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２．トピックス（総務省の動きなど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１）総務省主導の「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ユーザーズフォーラム」第１回会合開催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010.11.8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0:28:04Z</dcterms:created>
  <dc:creator>MRI</dc:creator>
  <dc:description/>
  <dc:language>en-US</dc:language>
  <cp:lastModifiedBy>佐々木　守彦</cp:lastModifiedBy>
  <dcterms:modified xsi:type="dcterms:W3CDTF">2010-11-10T04:17:24Z</dcterms:modified>
  <cp:revision>40</cp:revision>
  <dc:subject/>
  <dc:title>２.目的</dc:title>
</cp:coreProperties>
</file>