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F67BD77-0C18-48D8-B812-A22B32565556}" type="slidenum"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F809C3E-A521-4F08-8800-1F47E37C5A95}" type="slidenum"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513C1B4-B24C-4D7A-B0CF-B7041ECB2ADB}" type="slidenum"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igital-signage.jp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6279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80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281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282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1F36861-2B17-47A9-85F6-940E6D4A936A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309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デジタルサイネージコンソーシア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4720" y="2060640"/>
            <a:ext cx="2138040" cy="26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75"/>
          <p:cNvSpPr/>
          <p:nvPr/>
        </p:nvSpPr>
        <p:spPr>
          <a:xfrm rot="16200000">
            <a:off x="3348000" y="585720"/>
            <a:ext cx="2448000" cy="9144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8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9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1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287F6AD-B167-49FB-A8FF-5646C4563045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6" descr="logo_dsc"/>
          <p:cNvPicPr/>
          <p:nvPr/>
        </p:nvPicPr>
        <p:blipFill>
          <a:blip r:embed="rId2"/>
          <a:stretch/>
        </p:blipFill>
        <p:spPr>
          <a:xfrm>
            <a:off x="644400" y="225360"/>
            <a:ext cx="97488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8" descr="DIGITAL SIGNAGE"/>
          <p:cNvPicPr/>
          <p:nvPr/>
        </p:nvPicPr>
        <p:blipFill>
          <a:blip r:embed="rId3"/>
          <a:stretch/>
        </p:blipFill>
        <p:spPr>
          <a:xfrm>
            <a:off x="0" y="1665360"/>
            <a:ext cx="9144000" cy="2273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29"/>
          <p:cNvSpPr/>
          <p:nvPr/>
        </p:nvSpPr>
        <p:spPr>
          <a:xfrm>
            <a:off x="4932360" y="580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l Signage Consort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正方形/長方形 4"/>
          <p:cNvSpPr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4554360" y="1752480"/>
            <a:ext cx="458964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スライド番号プレースホルダ 1"/>
          <p:cNvSpPr/>
          <p:nvPr/>
        </p:nvSpPr>
        <p:spPr>
          <a:xfrm>
            <a:off x="7029360" y="6529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E641-41AC-41BB-912D-774E9378F4C9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5"/>
          <p:cNvSpPr/>
          <p:nvPr/>
        </p:nvSpPr>
        <p:spPr>
          <a:xfrm>
            <a:off x="0" y="1752480"/>
            <a:ext cx="5245200" cy="304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76320" y="2895480"/>
            <a:ext cx="4800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ロケーション部会報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457000"/>
            <a:ext cx="685008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ロケーション部会　報告</a:t>
            </a:r>
            <a:endParaRPr b="1" lang="en-US" sz="4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44280" y="468936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ISCO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hikuse Tak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スライド番号プレースホルダ 1"/>
          <p:cNvSpPr/>
          <p:nvPr/>
        </p:nvSpPr>
        <p:spPr>
          <a:xfrm>
            <a:off x="7029360" y="6529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3DA-9FC2-43EC-889B-58631478B9EE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4"/>
          <p:cNvSpPr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5"/>
          <p:cNvSpPr/>
          <p:nvPr/>
        </p:nvSpPr>
        <p:spPr>
          <a:xfrm>
            <a:off x="0" y="1752480"/>
            <a:ext cx="5245200" cy="304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152280" y="2635200"/>
            <a:ext cx="4800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パーソナルサイネージ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ワーキング・グルー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07996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第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2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回定例会を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11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月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8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日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(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月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)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に開催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55560" y="1341000"/>
            <a:ext cx="7940880" cy="46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規・従来メンバー自己紹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パーソナルサイネージ通信第１号」の発行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年度予算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トピックスについての討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oogoleTV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P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端末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Facebook vs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冷蔵庫ディスプレイ、壁掛け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マートフォンから考えるインテルの戦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遠隔医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決定事項確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1357200" cy="13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555560" cy="1167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724360" y="4292640"/>
            <a:ext cx="10702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第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3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回定例会・忘年会を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12</a:t>
            </a:r>
            <a:r>
              <a:rPr b="1" lang="ja-JP" sz="3200" spc="-1" strike="noStrike">
                <a:solidFill>
                  <a:srgbClr val="0183b7"/>
                </a:solidFill>
                <a:latin typeface="Arial"/>
                <a:ea typeface="Arial"/>
              </a:rPr>
              <a:t>月に予定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5560" y="1599840"/>
            <a:ext cx="7940880" cy="46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木村さん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Groo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オフィスで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「ソニーのインターネッ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T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を見る会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新メンバーの沖電気さんの歓迎会を兼ねた忘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299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4800" spc="-1" strike="noStrike">
                <a:solidFill>
                  <a:srgbClr val="b21a1a"/>
                </a:solidFill>
                <a:latin typeface="Arial"/>
                <a:ea typeface="Arial"/>
              </a:rPr>
              <a:t>参加メンバー募集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幹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キヤノン株式会社　総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本部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イノベーション推進センター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鳥海基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1" descr="logo_dsc"/>
          <p:cNvPicPr/>
          <p:nvPr/>
        </p:nvPicPr>
        <p:blipFill>
          <a:blip r:embed="rId1"/>
          <a:stretch/>
        </p:blipFill>
        <p:spPr>
          <a:xfrm>
            <a:off x="3500280" y="2179800"/>
            <a:ext cx="2079720" cy="254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49:57Z</dcterms:created>
  <dc:creator>Cisco Systems, Inc.</dc:creator>
  <dc:description/>
  <cp:keywords/>
  <dc:language>en-US</dc:language>
  <cp:lastModifiedBy>oricom.co.jp　yoshida</cp:lastModifiedBy>
  <cp:lastPrinted>1999-01-27T00:54:54Z</cp:lastPrinted>
  <dcterms:modified xsi:type="dcterms:W3CDTF">2010-11-10T06:49:24Z</dcterms:modified>
  <cp:revision>6</cp:revision>
  <dc:subject>Guide for Creating Powerpoint Presentations</dc:subject>
  <dc:title>DSCロケーション部会　報告</dc:title>
</cp:coreProperties>
</file>