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F351-67DE-422C-85EF-39B98F31E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5438-1387-4099-9EE7-8020885BC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D144-05BB-483F-B77E-8030ACB8C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9230-58AA-4E9D-8D9D-E38138F80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6427-5A4A-459F-BEDF-70C280399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7460-0C07-4BB2-BBD5-19145411F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4223-C1B4-424F-8D12-E46D1C2AB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BA45-7075-40CC-83CC-C6B004F4A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3ADD-9BD6-4F03-ABCC-E9F6F4478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BF20-B6C4-402D-B49A-A9CECC25B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D52A-960B-4968-A28F-DE8A1D177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D80F-86F0-461E-8FCF-849573D1A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F355-CFF3-4AA2-9B0D-D79D02398D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947B-010B-46D2-804B-5BF340642E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378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ＭＳ Ｐゴシック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2010.10.13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国際標準戦略部会</a:t>
            </a: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8501-643C-427E-B139-6F24B86FD5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国際標準戦略部会　第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回開催（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010.9.2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）、トピックス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803160"/>
            <a:ext cx="850716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第４回部会の検討内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１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ケーススタディ（勉強会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システムガイドラインと標準化（パナソニック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サービス事例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NTT-I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⇒事例に基づいた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のターゲットの意識あわせ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２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の考え方についての議論（第２回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の狙い・ターゲットの意識あわせ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２．トピックス（総務省の動きなど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１）総務省等で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ユーザーズ協議会（仮称）」の準備会の動き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同協議会は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に関する要件をまとめ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仕様検討する等の関係が想定され、今後も注視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中村　秀治</cp:lastModifiedBy>
  <dcterms:modified xsi:type="dcterms:W3CDTF">2010-10-12T07:11:33Z</dcterms:modified>
  <cp:revision>37</cp:revision>
  <dc:subject/>
  <dc:title>２.目的</dc:title>
</cp:coreProperties>
</file>