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A5458-656C-4931-B6BC-D189BDC6CB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15DEC-2F11-40AA-94DE-7B2858EC54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E0D70-2465-4DF6-BFEA-DBB45EB440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8B181-146C-45A3-9FF6-ACE2429956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EC5DA-A478-4615-AA1A-6A5CE8D316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84C76-5E7E-4169-BAB8-B3795D3736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DCA5F-9E46-47F8-A406-055F608D97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2B4C1-9804-41D7-AD78-16BBDF2EAE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13585-ED93-4CF1-A58B-9890CA9DCF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6ABC2-943E-420D-9C2F-E0D5C68535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4A9F6-D304-4649-AB1B-E76DB3D546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AEA1B-7C77-436D-A97B-7373261D99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69A86-9EA6-4D70-A2D5-EA2B38549A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2423A-435D-451F-9A38-48B711AC012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D93E0-E6AA-4AD0-A045-14B8646551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05579-9E98-4F29-9246-D6908DA6CB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D61AF-E2CC-454E-B449-41963357A7B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1777-ECAA-4369-9916-3696A6C6AF8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1E78-40CA-4D19-B0FE-57D6CC5E7EF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3D05-CAB2-40FF-8BF4-6D1CF3A1C22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18FB-DEDE-4726-BF64-294A37FE07F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D998-79E5-4833-8AEB-17E75D6C7B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6BF44-0E4D-41C2-B268-F6742223A54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48BD-1D97-4F39-80EA-89ED29C03AB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5771-B0EF-45F0-B4AA-A2A8181ED26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FA7B-BFAC-4CD0-985D-FF083D64F4C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CFA8-819E-484F-8CC8-95B2278D1B3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5B87-8EC3-4E8A-9D96-D271C3209D5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1ABD-96EB-484B-BC0A-FF15BA9975B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1E76-44B1-4FC0-AAAA-973EACC8E7E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848C4-07CC-449D-A4AC-F4833D8CE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8CA2-71CA-420C-9B20-507B8369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CFC6-5C80-4089-B12B-0500EEE4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747AE-C756-46C3-9457-039B150EDB1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D4760-E840-4FDA-8972-75D3C887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7F6F-8C3F-40BE-B9A2-3853EF45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ED389-EC24-440C-B3A8-284669A8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7313-C0FB-4303-A5BB-C1453083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610E-60CA-4FF9-9A75-AFA62576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1A05-0FA7-4A24-A033-7D26C8A6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BFF8-2BAC-458A-B466-F7B3772A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55E0C-2611-4FCE-A356-A9FEE9CC3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BC74-0782-45CE-8393-08EE9ACEC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3430B3-2485-4B6E-B645-AC077C45F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1DE88-A351-4B62-B1FC-AFAAB2B4A94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8243D3-E782-4E17-B5F2-0C3B2DF8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B1968B-0F48-465A-954F-3248E678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23E467-CEDC-4DFD-B0B1-85664065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358749-BA33-4252-ADB5-5080D941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79337B-6FF0-4221-9D5A-687BDBD1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A3F3C3-406E-4C24-B52A-E8188C2D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C0A33D-AA44-4DB1-B431-7D2E031C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A8D632-1DA3-4729-9E62-26D3ECEF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C0D329-8E57-4443-8FE4-FB3B0919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72A0CA-0B59-44FD-9C2E-A5641AF1B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1C821-390F-47B1-9727-72783C36AC3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CD734E-9318-4BD1-89FC-763044417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8BC15-B32C-4587-B096-FD799B70E2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90211-E914-4AB0-850C-4A630E365C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7672B-3AE7-424D-B61F-F9FC4F25B8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645"/>
            </a:gs>
            <a:gs pos="100000">
              <a:srgbClr val="0032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034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34286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 fontScale="84000"/>
          </a:bodyPr>
          <a:p>
            <a:pPr marL="3312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120" indent="-3312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3120" indent="-3312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3120" indent="-3312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3120" indent="-3312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3120" indent="-3312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3120" indent="-3312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76840" y="6426360"/>
            <a:ext cx="2840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5FCD-9011-4CF0-BC38-10BFF144E1EA}" type="slidenum">
              <a:rPr b="0" lang="ja-JP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2041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 fontScale="72000"/>
          </a:bodyPr>
          <a:p>
            <a:pPr marL="2844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8440" indent="-2844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8440" indent="-2844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8440" indent="-2844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8440" indent="-2844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8440" indent="-2844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8440" indent="-2844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3124080" y="6245280"/>
            <a:ext cx="290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SC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システム部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2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7B03-96C8-43A6-93A6-AEBAFC44FEF3}" type="slidenum"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gradFill rotWithShape="0">
            <a:gsLst>
              <a:gs pos="0">
                <a:srgbClr val="a6eef8"/>
              </a:gs>
              <a:gs pos="50000">
                <a:srgbClr val="ffffff"/>
              </a:gs>
              <a:gs pos="100000">
                <a:srgbClr val="a6ee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250560" y="1196640"/>
            <a:ext cx="8713800" cy="5661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3124080" y="6245280"/>
            <a:ext cx="290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SC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システム部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F6C5-5F01-4C97-8C12-78CD2665B3F7}" type="slidenum">
              <a:rPr b="0" lang="ja-JP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2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2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3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2460-B8DD-486D-8746-29C9BF392944}" type="datetime">
              <a:rPr b="0" lang="ja-JP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6/0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8BF7-34EC-409C-ADEB-FD1A72835B04}" type="slidenum">
              <a:rPr b="0" lang="ja-JP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8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8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8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B4BE-37FE-4CB0-92BB-B0FF4CF6F9B7}" type="datetime">
              <a:rPr b="0" lang="ja-JP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6/0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115F-7D32-44CA-BA3B-C55178650F9A}" type="slidenum">
              <a:rPr b="0" lang="ja-JP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スライド番号プレースホルダ 3"/>
          <p:cNvSpPr/>
          <p:nvPr/>
        </p:nvSpPr>
        <p:spPr>
          <a:xfrm>
            <a:off x="7477200" y="6426360"/>
            <a:ext cx="284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ADD7-3B3D-4021-B365-659E7B28F4BC}" type="slidenum">
              <a:rPr b="0" lang="ja-JP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4" name="Freeform 2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3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Freeform 4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5"/>
          <p:cNvGrpSpPr/>
          <p:nvPr/>
        </p:nvGrpSpPr>
        <p:grpSpPr>
          <a:xfrm>
            <a:off x="-1440" y="6033960"/>
            <a:ext cx="7844400" cy="851040"/>
            <a:chOff x="-1440" y="6033960"/>
            <a:chExt cx="7844400" cy="851040"/>
          </a:xfrm>
        </p:grpSpPr>
        <p:sp>
          <p:nvSpPr>
            <p:cNvPr id="248" name="Freeform 6"/>
            <p:cNvSpPr/>
            <p:nvPr/>
          </p:nvSpPr>
          <p:spPr>
            <a:xfrm>
              <a:off x="2360520" y="6033960"/>
              <a:ext cx="5142960" cy="85104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Group 7"/>
            <p:cNvGrpSpPr/>
            <p:nvPr/>
          </p:nvGrpSpPr>
          <p:grpSpPr>
            <a:xfrm>
              <a:off x="3944880" y="6033960"/>
              <a:ext cx="3898080" cy="851040"/>
              <a:chOff x="3944880" y="6033960"/>
              <a:chExt cx="3898080" cy="851040"/>
            </a:xfrm>
          </p:grpSpPr>
          <p:sp>
            <p:nvSpPr>
              <p:cNvPr id="250" name="Freeform 8"/>
              <p:cNvSpPr/>
              <p:nvPr/>
            </p:nvSpPr>
            <p:spPr>
              <a:xfrm>
                <a:off x="6265440" y="6045120"/>
                <a:ext cx="1577520" cy="83988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9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10"/>
              <p:cNvSpPr/>
              <p:nvPr/>
            </p:nvSpPr>
            <p:spPr>
              <a:xfrm>
                <a:off x="480816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1"/>
              <p:cNvSpPr/>
              <p:nvPr/>
            </p:nvSpPr>
            <p:spPr>
              <a:xfrm>
                <a:off x="5757480" y="6151320"/>
                <a:ext cx="245520" cy="1177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2"/>
              <p:cNvSpPr/>
              <p:nvPr/>
            </p:nvSpPr>
            <p:spPr>
              <a:xfrm>
                <a:off x="3944880" y="6140160"/>
                <a:ext cx="66240" cy="12888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Freeform 13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6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14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57" name="Freeform 15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6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7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8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9"/>
            <p:cNvSpPr/>
            <p:nvPr/>
          </p:nvSpPr>
          <p:spPr>
            <a:xfrm>
              <a:off x="1120680" y="6118200"/>
              <a:ext cx="9396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0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Rectangle 21"/>
          <p:cNvSpPr/>
          <p:nvPr/>
        </p:nvSpPr>
        <p:spPr>
          <a:xfrm>
            <a:off x="3124080" y="6426360"/>
            <a:ext cx="2908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SC</a:t>
            </a: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システム部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2"/>
          <p:cNvSpPr/>
          <p:nvPr/>
        </p:nvSpPr>
        <p:spPr>
          <a:xfrm>
            <a:off x="7477200" y="6426360"/>
            <a:ext cx="284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2C49-7DB9-475D-A8A1-D1BD850F1090}" type="slidenum">
              <a:rPr b="0" lang="ja-JP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3451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DSC</a:t>
            </a:r>
            <a:r>
              <a:rPr b="0" lang="ja-JP" sz="3600" spc="-1" strike="noStrike">
                <a:solidFill>
                  <a:srgbClr val="e3e3ff"/>
                </a:solidFill>
                <a:latin typeface="Arial"/>
              </a:rPr>
              <a:t>第</a:t>
            </a: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37</a:t>
            </a:r>
            <a:r>
              <a:rPr b="0" lang="ja-JP" sz="3600" spc="-1" strike="noStrike">
                <a:solidFill>
                  <a:srgbClr val="e3e3ff"/>
                </a:solidFill>
                <a:latin typeface="Arial"/>
              </a:rPr>
              <a:t>回勉強会</a:t>
            </a:r>
            <a:br>
              <a:rPr sz="3600"/>
            </a:br>
            <a:r>
              <a:rPr b="0" lang="ja-JP" sz="4800" spc="-1" strike="noStrike">
                <a:solidFill>
                  <a:srgbClr val="e3e3ff"/>
                </a:solidFill>
                <a:latin typeface="Arial"/>
              </a:rPr>
              <a:t>システム部会報告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03280" y="4076640"/>
            <a:ext cx="6400800" cy="27813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10/9/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システム部会 幹事・事務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e3e3ff"/>
                </a:solidFill>
                <a:latin typeface="Arial"/>
              </a:rPr>
              <a:t>今年度の活動テーマについ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8" name="スライド番号プレースホルダ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BCDA-5D93-4B53-B5DF-6ADFDEF063C2}" type="slidenum">
              <a:rPr b="0" lang="ja-JP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4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5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71" name="Freeform 6"/>
            <p:cNvSpPr/>
            <p:nvPr/>
          </p:nvSpPr>
          <p:spPr>
            <a:xfrm>
              <a:off x="2362320" y="6019920"/>
              <a:ext cx="5143320" cy="85104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Group 7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73" name="Freeform 8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9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0"/>
              <p:cNvSpPr/>
              <p:nvPr/>
            </p:nvSpPr>
            <p:spPr>
              <a:xfrm>
                <a:off x="481032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11"/>
              <p:cNvSpPr/>
              <p:nvPr/>
            </p:nvSpPr>
            <p:spPr>
              <a:xfrm>
                <a:off x="5759640" y="6137280"/>
                <a:ext cx="245880" cy="1177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2"/>
              <p:cNvSpPr/>
              <p:nvPr/>
            </p:nvSpPr>
            <p:spPr>
              <a:xfrm>
                <a:off x="3946680" y="6126120"/>
                <a:ext cx="66600" cy="12888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Freeform 13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6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14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80" name="Freeform 15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1120680" y="6118200"/>
              <a:ext cx="9396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Rectangle 21"/>
          <p:cNvSpPr/>
          <p:nvPr/>
        </p:nvSpPr>
        <p:spPr>
          <a:xfrm>
            <a:off x="3124080" y="6426360"/>
            <a:ext cx="2908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SC</a:t>
            </a: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システム部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2"/>
          <p:cNvSpPr/>
          <p:nvPr/>
        </p:nvSpPr>
        <p:spPr>
          <a:xfrm>
            <a:off x="7477200" y="5726160"/>
            <a:ext cx="2840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56E0-E4C5-4016-B14B-D901D5F25934}" type="slidenum">
              <a:rPr b="0" lang="ja-JP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コンテンツ プレースホルダ 2"/>
          <p:cNvSpPr/>
          <p:nvPr/>
        </p:nvSpPr>
        <p:spPr>
          <a:xfrm>
            <a:off x="304920" y="2058840"/>
            <a:ext cx="88390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514440" indent="-514440" algn="ctr"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「未来のデジタルサイネージ」の早期具現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コンテンツ プレースホルダ 2"/>
          <p:cNvSpPr/>
          <p:nvPr/>
        </p:nvSpPr>
        <p:spPr>
          <a:xfrm>
            <a:off x="1908000" y="1413000"/>
            <a:ext cx="4338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514440" indent="-514440" algn="ctr"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目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25"/>
          <p:cNvSpPr/>
          <p:nvPr/>
        </p:nvSpPr>
        <p:spPr>
          <a:xfrm>
            <a:off x="2700360" y="2997360"/>
            <a:ext cx="2735280" cy="122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6"/>
          <p:cNvSpPr/>
          <p:nvPr/>
        </p:nvSpPr>
        <p:spPr>
          <a:xfrm>
            <a:off x="250920" y="4437000"/>
            <a:ext cx="85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モバイル端末との連携機能に着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先進的機能実現に貢献する活動をしてゆ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27" descr=""/>
          <p:cNvPicPr/>
          <p:nvPr/>
        </p:nvPicPr>
        <p:blipFill>
          <a:blip r:embed="rId1"/>
          <a:stretch/>
        </p:blipFill>
        <p:spPr>
          <a:xfrm>
            <a:off x="6948360" y="2708280"/>
            <a:ext cx="1944720" cy="16430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28" descr=""/>
          <p:cNvPicPr/>
          <p:nvPr/>
        </p:nvPicPr>
        <p:blipFill>
          <a:blip r:embed="rId2"/>
          <a:stretch/>
        </p:blipFill>
        <p:spPr>
          <a:xfrm>
            <a:off x="250920" y="2708280"/>
            <a:ext cx="2017440" cy="17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スライド番号プレースホルダ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E821-5419-49D4-BFF4-4838F448629F}" type="slidenum">
              <a:rPr b="0" lang="ja-JP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4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5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97" name="Freeform 6"/>
            <p:cNvSpPr/>
            <p:nvPr/>
          </p:nvSpPr>
          <p:spPr>
            <a:xfrm>
              <a:off x="2362320" y="6019920"/>
              <a:ext cx="5143320" cy="85104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Group 7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99" name="Freeform 8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9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0"/>
              <p:cNvSpPr/>
              <p:nvPr/>
            </p:nvSpPr>
            <p:spPr>
              <a:xfrm>
                <a:off x="481032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1"/>
              <p:cNvSpPr/>
              <p:nvPr/>
            </p:nvSpPr>
            <p:spPr>
              <a:xfrm>
                <a:off x="5759640" y="6137280"/>
                <a:ext cx="245880" cy="1177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2"/>
              <p:cNvSpPr/>
              <p:nvPr/>
            </p:nvSpPr>
            <p:spPr>
              <a:xfrm>
                <a:off x="3946680" y="6126120"/>
                <a:ext cx="66600" cy="12888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" name="Freeform 13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6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14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06" name="Freeform 15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6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7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8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9"/>
            <p:cNvSpPr/>
            <p:nvPr/>
          </p:nvSpPr>
          <p:spPr>
            <a:xfrm>
              <a:off x="1120680" y="6118200"/>
              <a:ext cx="9396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0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Rectangle 21"/>
          <p:cNvSpPr/>
          <p:nvPr/>
        </p:nvSpPr>
        <p:spPr>
          <a:xfrm>
            <a:off x="3124080" y="6426360"/>
            <a:ext cx="2908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SC</a:t>
            </a:r>
            <a:r>
              <a:rPr b="0" lang="ja-JP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システム部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2"/>
          <p:cNvSpPr/>
          <p:nvPr/>
        </p:nvSpPr>
        <p:spPr>
          <a:xfrm>
            <a:off x="7477200" y="5726160"/>
            <a:ext cx="2840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D88C-7A1A-4D76-BE3C-EE06A7D093C0}" type="slidenum">
              <a:rPr b="0" lang="ja-JP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e3e3ff"/>
                </a:solidFill>
                <a:latin typeface="Arial"/>
              </a:rPr>
              <a:t>進行順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5" name="ホームベース 27"/>
          <p:cNvSpPr/>
          <p:nvPr/>
        </p:nvSpPr>
        <p:spPr>
          <a:xfrm>
            <a:off x="304920" y="1752480"/>
            <a:ext cx="1676160" cy="205740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ホームベース 33"/>
          <p:cNvSpPr/>
          <p:nvPr/>
        </p:nvSpPr>
        <p:spPr>
          <a:xfrm>
            <a:off x="2057400" y="1752480"/>
            <a:ext cx="1676520" cy="205740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ホームベース 34"/>
          <p:cNvSpPr/>
          <p:nvPr/>
        </p:nvSpPr>
        <p:spPr>
          <a:xfrm>
            <a:off x="3809880" y="1752480"/>
            <a:ext cx="1676520" cy="205740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ホームベース 35"/>
          <p:cNvSpPr/>
          <p:nvPr/>
        </p:nvSpPr>
        <p:spPr>
          <a:xfrm>
            <a:off x="5562720" y="1752480"/>
            <a:ext cx="1676160" cy="205740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ホームベース 36"/>
          <p:cNvSpPr/>
          <p:nvPr/>
        </p:nvSpPr>
        <p:spPr>
          <a:xfrm>
            <a:off x="7315200" y="1752480"/>
            <a:ext cx="1676520" cy="205740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正方形/長方形 37"/>
          <p:cNvSpPr/>
          <p:nvPr/>
        </p:nvSpPr>
        <p:spPr>
          <a:xfrm>
            <a:off x="152280" y="40384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コンセプト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ガイドライン策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正方形/長方形 38"/>
          <p:cNvSpPr/>
          <p:nvPr/>
        </p:nvSpPr>
        <p:spPr>
          <a:xfrm>
            <a:off x="2233800" y="403848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コンセプ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の提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正方形/長方形 39"/>
          <p:cNvSpPr/>
          <p:nvPr/>
        </p:nvSpPr>
        <p:spPr>
          <a:xfrm>
            <a:off x="3809880" y="40384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プロトタイプの実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正方形/長方形 40"/>
          <p:cNvSpPr/>
          <p:nvPr/>
        </p:nvSpPr>
        <p:spPr>
          <a:xfrm>
            <a:off x="5814360" y="4038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実証実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正方形/長方形 41"/>
          <p:cNvSpPr/>
          <p:nvPr/>
        </p:nvSpPr>
        <p:spPr>
          <a:xfrm>
            <a:off x="7386480" y="4038480"/>
            <a:ext cx="143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EE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に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公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テキスト ボックス 42"/>
          <p:cNvSpPr/>
          <p:nvPr/>
        </p:nvSpPr>
        <p:spPr>
          <a:xfrm>
            <a:off x="457200" y="236232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194d"/>
                </a:solidFill>
                <a:latin typeface="Arial"/>
                <a:ea typeface="ＭＳ Ｐゴシック"/>
              </a:rPr>
              <a:t>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テキスト ボックス 43"/>
          <p:cNvSpPr/>
          <p:nvPr/>
        </p:nvSpPr>
        <p:spPr>
          <a:xfrm>
            <a:off x="2286000" y="236232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テキスト ボックス 44"/>
          <p:cNvSpPr/>
          <p:nvPr/>
        </p:nvSpPr>
        <p:spPr>
          <a:xfrm>
            <a:off x="4038480" y="236232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194d"/>
                </a:solidFill>
                <a:latin typeface="Arial"/>
                <a:ea typeface="ＭＳ Ｐゴシック"/>
              </a:rPr>
              <a:t>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テキスト ボックス 45"/>
          <p:cNvSpPr/>
          <p:nvPr/>
        </p:nvSpPr>
        <p:spPr>
          <a:xfrm>
            <a:off x="5715000" y="236232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194d"/>
                </a:solidFill>
                <a:latin typeface="Arial"/>
                <a:ea typeface="ＭＳ Ｐゴシック"/>
              </a:rPr>
              <a:t>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テキスト ボックス 46"/>
          <p:cNvSpPr/>
          <p:nvPr/>
        </p:nvSpPr>
        <p:spPr>
          <a:xfrm>
            <a:off x="7543800" y="236232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194d"/>
                </a:solidFill>
                <a:latin typeface="Arial"/>
                <a:ea typeface="ＭＳ Ｐゴシック"/>
              </a:rPr>
              <a:t>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38"/>
          <p:cNvSpPr/>
          <p:nvPr/>
        </p:nvSpPr>
        <p:spPr>
          <a:xfrm rot="10800000">
            <a:off x="1331640" y="1125000"/>
            <a:ext cx="431640" cy="79236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9"/>
          <p:cNvSpPr/>
          <p:nvPr/>
        </p:nvSpPr>
        <p:spPr>
          <a:xfrm>
            <a:off x="1258920" y="6922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今はコ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スライド番号プレースホルダ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6811-4EA3-4D8D-B5E4-07F3F0607472}" type="slidenum">
              <a:rPr b="0" lang="ja-JP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4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5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335" name="Freeform 6"/>
            <p:cNvSpPr/>
            <p:nvPr/>
          </p:nvSpPr>
          <p:spPr>
            <a:xfrm>
              <a:off x="2362320" y="6019920"/>
              <a:ext cx="5143320" cy="85104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" name="Group 7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337" name="Freeform 8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9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0"/>
              <p:cNvSpPr/>
              <p:nvPr/>
            </p:nvSpPr>
            <p:spPr>
              <a:xfrm>
                <a:off x="481032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11"/>
              <p:cNvSpPr/>
              <p:nvPr/>
            </p:nvSpPr>
            <p:spPr>
              <a:xfrm>
                <a:off x="5759640" y="6137280"/>
                <a:ext cx="245880" cy="1177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2"/>
              <p:cNvSpPr/>
              <p:nvPr/>
            </p:nvSpPr>
            <p:spPr>
              <a:xfrm>
                <a:off x="3946680" y="6126120"/>
                <a:ext cx="66600" cy="12888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Freeform 13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6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14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44" name="Freeform 15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6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7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8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9"/>
            <p:cNvSpPr/>
            <p:nvPr/>
          </p:nvSpPr>
          <p:spPr>
            <a:xfrm>
              <a:off x="1120680" y="6118200"/>
              <a:ext cx="9396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0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Rectangle 21"/>
          <p:cNvSpPr/>
          <p:nvPr/>
        </p:nvSpPr>
        <p:spPr>
          <a:xfrm>
            <a:off x="3124080" y="6426360"/>
            <a:ext cx="2908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SC</a:t>
            </a: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システム部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22"/>
          <p:cNvSpPr/>
          <p:nvPr/>
        </p:nvSpPr>
        <p:spPr>
          <a:xfrm>
            <a:off x="7477200" y="5726160"/>
            <a:ext cx="2840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0911-1CB3-4492-BD2E-A6B2946A9F42}" type="slidenum">
              <a:rPr b="0" lang="ja-JP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コンテンツ プレースホルダ 2"/>
          <p:cNvSpPr/>
          <p:nvPr/>
        </p:nvSpPr>
        <p:spPr>
          <a:xfrm>
            <a:off x="304920" y="2286000"/>
            <a:ext cx="88390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514440" indent="-514440"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ep1. 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利用シーンの整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ep2. 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技術の整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ep3. 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インターフェイスの整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コンテンツ プレースホルダ 2"/>
          <p:cNvSpPr/>
          <p:nvPr/>
        </p:nvSpPr>
        <p:spPr>
          <a:xfrm>
            <a:off x="304920" y="228600"/>
            <a:ext cx="88390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514440" indent="-514440"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そのためには・・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TO DO </a:t>
            </a:r>
            <a:r>
              <a:rPr b="1" lang="ja-JP" sz="4400" spc="-1" strike="noStrike" u="sng">
                <a:solidFill>
                  <a:srgbClr val="ffffff"/>
                </a:solidFill>
                <a:uFillTx/>
                <a:latin typeface="Arial"/>
              </a:rPr>
              <a:t>整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e3e3ff"/>
                </a:solidFill>
                <a:latin typeface="Arial"/>
              </a:rPr>
              <a:t>進行予定案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5" name="スライド番号プレースホルダ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956F-4F91-4A6C-AF57-6DB5A2809F4A}" type="slidenum">
              <a:rPr b="0" lang="ja-JP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4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5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358" name="Freeform 6"/>
            <p:cNvSpPr/>
            <p:nvPr/>
          </p:nvSpPr>
          <p:spPr>
            <a:xfrm>
              <a:off x="2362320" y="6019920"/>
              <a:ext cx="5143320" cy="85104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" name="Group 7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360" name="Freeform 8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9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0"/>
              <p:cNvSpPr/>
              <p:nvPr/>
            </p:nvSpPr>
            <p:spPr>
              <a:xfrm>
                <a:off x="481032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1"/>
              <p:cNvSpPr/>
              <p:nvPr/>
            </p:nvSpPr>
            <p:spPr>
              <a:xfrm>
                <a:off x="5759640" y="6137280"/>
                <a:ext cx="245880" cy="1177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2"/>
              <p:cNvSpPr/>
              <p:nvPr/>
            </p:nvSpPr>
            <p:spPr>
              <a:xfrm>
                <a:off x="3946680" y="6126120"/>
                <a:ext cx="66600" cy="12888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5" name="Freeform 13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6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14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67" name="Freeform 15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6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7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8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9"/>
            <p:cNvSpPr/>
            <p:nvPr/>
          </p:nvSpPr>
          <p:spPr>
            <a:xfrm>
              <a:off x="1120680" y="6118200"/>
              <a:ext cx="9396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0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Rectangle 21"/>
          <p:cNvSpPr/>
          <p:nvPr/>
        </p:nvSpPr>
        <p:spPr>
          <a:xfrm>
            <a:off x="3124080" y="6426360"/>
            <a:ext cx="2908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SC</a:t>
            </a: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システム部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2"/>
          <p:cNvSpPr/>
          <p:nvPr/>
        </p:nvSpPr>
        <p:spPr>
          <a:xfrm>
            <a:off x="7477200" y="5726160"/>
            <a:ext cx="2840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8AFD-3199-413A-87AA-C2F67375630B}" type="slidenum">
              <a:rPr b="0" lang="ja-JP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図表 26" descr=""/>
          <p:cNvPicPr/>
          <p:nvPr/>
        </p:nvPicPr>
        <p:blipFill>
          <a:blip r:embed="rId1"/>
          <a:stretch/>
        </p:blipFill>
        <p:spPr>
          <a:xfrm>
            <a:off x="695160" y="1109520"/>
            <a:ext cx="7820280" cy="4480200"/>
          </a:xfrm>
          <a:prstGeom prst="rect">
            <a:avLst/>
          </a:prstGeom>
          <a:ln w="0">
            <a:noFill/>
          </a:ln>
        </p:spPr>
      </p:pic>
      <p:sp>
        <p:nvSpPr>
          <p:cNvPr id="376" name="コンテンツ プレースホルダ 2"/>
          <p:cNvSpPr/>
          <p:nvPr/>
        </p:nvSpPr>
        <p:spPr>
          <a:xfrm>
            <a:off x="179280" y="1773360"/>
            <a:ext cx="883944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514440" indent="-514440"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スライド番号プレースホルダ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9780-C589-43D3-83DB-4162FF54CFF1}" type="slidenum">
              <a:rPr b="0" lang="ja-JP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2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今後の予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5"/>
          <p:cNvSpPr/>
          <p:nvPr/>
        </p:nvSpPr>
        <p:spPr>
          <a:xfrm>
            <a:off x="2268360" y="2133720"/>
            <a:ext cx="489600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第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8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回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（１０日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シーン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2268360" y="2925720"/>
            <a:ext cx="4896000" cy="647640"/>
          </a:xfrm>
          <a:prstGeom prst="rect">
            <a:avLst/>
          </a:prstGeom>
          <a:solidFill>
            <a:srgbClr val="a9e3e5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第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9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回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月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技術の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2268360" y="3718080"/>
            <a:ext cx="4896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第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0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回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1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月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インターフェイスの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2268360" y="4510080"/>
            <a:ext cx="4896000" cy="647640"/>
          </a:xfrm>
          <a:prstGeom prst="rect">
            <a:avLst/>
          </a:prstGeom>
          <a:solidFill>
            <a:srgbClr val="a9e3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第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1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回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2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月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ドキュメント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9"/>
          <p:cNvSpPr/>
          <p:nvPr/>
        </p:nvSpPr>
        <p:spPr>
          <a:xfrm>
            <a:off x="2268360" y="1278000"/>
            <a:ext cx="4896000" cy="647640"/>
          </a:xfrm>
          <a:prstGeom prst="rect">
            <a:avLst/>
          </a:prstGeom>
          <a:solidFill>
            <a:srgbClr val="b3e1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第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7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回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月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ワーキングシート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12"/>
          <p:cNvSpPr/>
          <p:nvPr/>
        </p:nvSpPr>
        <p:spPr>
          <a:xfrm>
            <a:off x="7361280" y="2494080"/>
            <a:ext cx="288720" cy="863640"/>
          </a:xfrm>
          <a:custGeom>
            <a:avLst/>
            <a:gdLst>
              <a:gd name="textAreaLeft" fmla="*/ 38520 w 288720"/>
              <a:gd name="textAreaRight" fmla="*/ 250200 w 288720"/>
              <a:gd name="textAreaTop" fmla="*/ 151200 h 863640"/>
              <a:gd name="textAreaBottom" fmla="*/ 6264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3"/>
          <p:cNvSpPr/>
          <p:nvPr/>
        </p:nvSpPr>
        <p:spPr>
          <a:xfrm>
            <a:off x="7710480" y="257184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幹事・事務局で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Group 5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387" name="Freeform 6"/>
            <p:cNvSpPr/>
            <p:nvPr/>
          </p:nvSpPr>
          <p:spPr>
            <a:xfrm>
              <a:off x="2362320" y="6019920"/>
              <a:ext cx="5143320" cy="85104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Group 7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389" name="Freeform 8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9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10"/>
              <p:cNvSpPr/>
              <p:nvPr/>
            </p:nvSpPr>
            <p:spPr>
              <a:xfrm>
                <a:off x="481032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1"/>
              <p:cNvSpPr/>
              <p:nvPr/>
            </p:nvSpPr>
            <p:spPr>
              <a:xfrm>
                <a:off x="5759640" y="6137280"/>
                <a:ext cx="245880" cy="1177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2"/>
              <p:cNvSpPr/>
              <p:nvPr/>
            </p:nvSpPr>
            <p:spPr>
              <a:xfrm>
                <a:off x="3946680" y="6126120"/>
                <a:ext cx="66600" cy="12888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" name="Freeform 13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6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Rectangle 21"/>
          <p:cNvSpPr/>
          <p:nvPr/>
        </p:nvSpPr>
        <p:spPr>
          <a:xfrm>
            <a:off x="3124080" y="6426360"/>
            <a:ext cx="2908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C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システム部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角丸四角形吹き出し 22"/>
          <p:cNvSpPr/>
          <p:nvPr/>
        </p:nvSpPr>
        <p:spPr>
          <a:xfrm>
            <a:off x="6072120" y="1500120"/>
            <a:ext cx="2857680" cy="1000080"/>
          </a:xfrm>
          <a:prstGeom prst="wedgeRoundRectCallout">
            <a:avLst>
              <a:gd name="adj1" fmla="val -67861"/>
              <a:gd name="adj2" fmla="val 53879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明日です！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6T03:07:43Z</dcterms:created>
  <dc:creator>M.Kubota</dc:creator>
  <dc:description/>
  <cp:keywords/>
  <dc:language>en-US</dc:language>
  <cp:lastModifiedBy>DSC</cp:lastModifiedBy>
  <dcterms:modified xsi:type="dcterms:W3CDTF">2010-09-08T07:24:45Z</dcterms:modified>
  <cp:revision>76</cp:revision>
  <dc:subject/>
  <dc:title>DSCシステム部会</dc:title>
</cp:coreProperties>
</file>