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499D-7C87-4BBC-ADC6-2B1A8AA8B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FD72-B6E4-4364-B5F9-7404B7A18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DA46-4E26-48CB-A292-3CD4DC777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A1DE-75A9-4C9B-8AE7-D746F257E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EA54-3127-42A9-93ED-1841416C7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599280"/>
            <a:ext cx="264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032B-58FC-4183-85FF-C87F8AC22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D68-8E86-4E3C-89A0-E9B6C9397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BACD-3429-4424-A847-89E7C53FC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274680"/>
            <a:ext cx="896472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21F5-8E33-46F8-A070-0EB65D90F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9F63-48B9-41A5-B946-7CC150B7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9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2917-37E0-4905-9CA4-75B299369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9280"/>
            <a:ext cx="8229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93FB-BD22-4F09-92C5-07265E873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505320" y="6502320"/>
            <a:ext cx="2133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0881-110E-4FC2-93F9-2F72B849E5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23200"/>
            <a:ext cx="896472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378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1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zh-CN" sz="6000" spc="-1" strike="noStrike">
                <a:solidFill>
                  <a:srgbClr val="000000"/>
                </a:solidFill>
                <a:latin typeface="ＭＳ Ｐゴシック"/>
              </a:rPr>
              <a:t>部会報告</a:t>
            </a:r>
            <a:endParaRPr b="0" lang="en-US" sz="6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ＭＳ Ｐゴシック"/>
              </a:rPr>
              <a:t>2010.9.8</a:t>
            </a: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ＭＳ Ｐゴシック"/>
              </a:rPr>
              <a:t>国際標準戦略部会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  <a:p>
            <a:pPr marL="4716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6524640"/>
            <a:ext cx="647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8292-ABB2-4D1C-8FB5-9BB92B38E5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3408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　国際標準戦略部会　第３回　開催　（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010.8.25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803160"/>
            <a:ext cx="850716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第３回の検討内容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（１）部会年間計画（案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　　３ステップに分け、標準化・国際化を具体化する方針を設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（２）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標準化の考え方について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標準化のメリット・考え方の第１回すり合せを実施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（３）トピックスについての話題提供・議論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　　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DSC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部会予算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　　②総務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タスクフォース　　　　　　　　等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２．第４回部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　　 ９月中に実施予定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466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A870-EDD0-45DA-9AC0-61E84EAF6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28:04Z</dcterms:created>
  <dc:creator>MRI</dc:creator>
  <dc:description/>
  <dc:language>en-US</dc:language>
  <cp:lastModifiedBy>佐々木　守彦</cp:lastModifiedBy>
  <dcterms:modified xsi:type="dcterms:W3CDTF">2010-09-08T04:53:12Z</dcterms:modified>
  <cp:revision>34</cp:revision>
  <dc:subject/>
  <dc:title>２.目的</dc:title>
</cp:coreProperties>
</file>